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1.jpeg" ContentType="image/jpeg"/>
  <Override PartName="/ppt/media/image3.wmf" ContentType="image/x-wmf"/>
  <Override PartName="/ppt/media/image1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3FE8-056A-4412-BA9A-C3BA7DA7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F4E9-E6AB-4B98-B523-0B81788A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89BA-41E2-4AA2-A730-537BDD1F4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DF2E-F9E3-4588-BEAB-0AD2FFD91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1AED9-EC5E-4104-84D3-C124A6A4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3AFA6-984E-43CC-8D17-5DD4AD46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548A7-8BB4-4B21-85A3-38C0A43B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9D714-9773-4557-AFE4-3525017A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6F530-481D-4061-8708-A50AD99E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46E8B-F762-4930-A6AE-E91857B4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925A2-BDBC-465F-B0C4-981730A9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5EF6-9AE6-4733-A067-37FEC775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2AEDB-C319-48AF-BF66-5EA9B854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1091D-FC90-4962-9251-84473D5A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65C1B-6A7D-47DD-8E93-42754A45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01175-1987-4562-BE95-34368AB91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2723E-AA2C-40A3-868F-4C1EBBFF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E7F6-2E2B-4FCE-BBF9-99508292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1452-0017-460B-BCED-F104CB37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57BC-EE0D-4023-AC02-3C96B668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09C7-D932-4209-A54C-04D77778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4E8D-FC07-47F6-9296-93A2FD03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11AB-BE6A-4EF0-A941-FC69C465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2DB9-944E-41AB-98BD-F3F9EE51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5265-80BF-4082-BAFE-18C5D65026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008F-B632-4CCC-B5B1-954435E9702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75280" y="188640"/>
            <a:ext cx="49687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ecrets of Lond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038560" y="4851360"/>
            <a:ext cx="4105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втор: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Худи Илн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ученица 9 б класс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Ямальская школа-интерна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учный руководитель: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вдеева Е. В.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учитель иностранного язык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5" descr="n4f0b328d635asha0"/>
          <p:cNvPicPr/>
          <p:nvPr/>
        </p:nvPicPr>
        <p:blipFill>
          <a:blip r:embed="rId1"/>
          <a:stretch/>
        </p:blipFill>
        <p:spPr>
          <a:xfrm>
            <a:off x="179280" y="1413000"/>
            <a:ext cx="52578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3780000" y="-108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ondon eye (English London Ey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5"/>
          <p:cNvSpPr/>
          <p:nvPr/>
        </p:nvSpPr>
        <p:spPr>
          <a:xfrm>
            <a:off x="5867280" y="-108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t. Paul's Cathedral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6516720" y="-1080"/>
            <a:ext cx="26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British museum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"/>
          <p:cNvSpPr/>
          <p:nvPr/>
        </p:nvSpPr>
        <p:spPr>
          <a:xfrm>
            <a:off x="5867280" y="-1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Buckingham Palace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4716360" y="-1080"/>
            <a:ext cx="44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Elizabeth's tower (Big B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468360" y="260280"/>
            <a:ext cx="8351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Цель 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ормирование устойчивого интереса к стране изучаемого языка, к исторической и культурной уникальности Лондо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обиться поставленной цели можно путем решения конкретных задач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йти и изучить информацию по теме «Достопримечательности Лондон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учить историю возникновения Лондо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вести опрос и анкетирование среди одноклассник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формулировать свои выводы на основе результатов исследова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готовить презентаци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формить букле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68360" y="3716280"/>
            <a:ext cx="835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актическая значимость проекта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сширить и углубить свои знания о Лондоне,  поделиться и ознакомить с ними своих одноклассник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бъект исследования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стопримечательности Лондо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едмет исследования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интересовать других в познании тайн и секретов Лондо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4"/>
          <p:cNvGraphicFramePr/>
          <p:nvPr/>
        </p:nvGraphicFramePr>
        <p:xfrm>
          <a:off x="0" y="189000"/>
          <a:ext cx="9134640" cy="66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000"/>
                    <a:ext cx="9134640" cy="66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155736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12000" spc="-1" strike="noStrike">
                <a:solidFill>
                  <a:srgbClr val="ffcc00"/>
                </a:solidFill>
                <a:latin typeface="Book Antiqua"/>
              </a:rPr>
              <a:t>LONDON</a:t>
            </a:r>
            <a:endParaRPr b="0" lang="en-US" sz="1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0"/>
          <p:cNvSpPr/>
          <p:nvPr/>
        </p:nvSpPr>
        <p:spPr>
          <a:xfrm>
            <a:off x="5966280" y="-1080"/>
            <a:ext cx="31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estminster abbe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6012000" y="-10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Parliament ho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6300720" y="-1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rafalgar Square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804000" y="-108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ower Bridge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6300720" y="-1080"/>
            <a:ext cx="27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Tower of London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2-05-11T15:16:26Z</dcterms:modified>
  <cp:revision>8</cp:revision>
  <dc:subject/>
  <dc:title>PowerPoint Presentation</dc:title>
</cp:coreProperties>
</file>