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54E-F693-49B5-9C00-EB083376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6CA-5B00-4884-AC1B-5EB937EC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307-A47C-4E3D-ADEF-648DB9B9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2CE-939E-4FEC-A8BB-7763681C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989B-5A81-4B33-964C-286D3B93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2857-2036-4DD1-B364-282CA5E2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5039-AD81-4D3F-9273-5584A8D5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325B-8694-4BBC-A0BD-D34BD974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B386-0FBE-40F7-A872-4928AE3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4C6-3652-4F73-B801-9FDBD55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892-19DE-4E8E-940E-2AE957B8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66B-72E1-4517-A83B-DA31936E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BD15-C4C7-4EC8-94F1-86DB9383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FD5A-2F24-4035-B311-DD7C6416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2044-1D64-440C-B38C-4544AB6E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18E-03E7-4BF2-B08D-60EF5DBA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F77-2428-49E3-8ED0-F88924D3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4207-0601-49F2-8F2D-F55F5190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F6175-81DF-4285-9E0F-451BECAC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E245-9D6B-4E32-B5F4-2894FD3C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66E0-368D-465A-93D6-79E0F262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9464-210B-4EB6-8D83-4B440E1D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755-6753-47F2-B512-087B6974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046A-51C3-4B89-959F-EBC6F2D5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D849-2A59-4758-9E28-C7D4F9B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0DA7-CB1E-4B38-9586-35354DDC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0301-D18F-4FBD-BAD0-8B919B1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5AA3-6E5D-4355-B8F5-9ED5148F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E6D5E-4C14-4A39-B220-4BC17411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CB76-DAC0-4698-8EA1-1416BF48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3EF51-4585-4808-908B-D5117793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6AA7-58A3-471D-8009-C7A68572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ACFF-E583-4979-934E-F85869FC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2A3-A971-4FD1-A1F9-6F19FC49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52C8-5DA9-4CD7-8834-C3877D3C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9048E-335A-4A23-B16E-83A8228E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6E176-CDF4-42AD-913C-7BA94D83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A06EB-06D7-41F1-8427-A1B5494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CCA59-6142-497E-91B7-13B9417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5EBE-FDC6-4A7E-911A-19747BE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3EA4-D6D5-449F-B226-AFC0AD3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7F7C6-20AF-497A-B2F0-ABADF0F9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A00F4-38BA-4B96-BA14-DAEB1E0D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205E-886E-4AA5-A4F8-53ACD2D8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A55-9261-431E-BF7F-90535AE3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9FC00-FED5-49EC-BE9A-A31BE99E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3B348-C57C-4084-852E-C642A116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0A0C-CB93-4CF7-97C7-CBD5F340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BBB05-77FE-4081-94BD-0B2B88F7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B20AB-3291-4AB9-B67A-F9C23599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24035-2D0D-45BC-AB13-452EA8C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E4A7B-2BBA-44DB-BF36-6800D2B9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26ED1-69D0-4451-80F9-9F81DC7F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D2E4-39FD-468D-BB90-0B1DEDE7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FFD32-5BA5-4838-B070-5C9DD9A0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51A-6DC4-4758-915A-6C794182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3417E-D4D1-403B-8398-56C90D2B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EF289-1D42-464E-A37F-21BCB92B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EA2BC-3F20-471B-A1E1-EB02CD6C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83C8-8D7C-48C6-A1CE-FF4253C8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62B7-1D60-4B4D-8946-F8E9E979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AAD9-E589-4AAE-8545-AB85CF75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F4886-87BF-40AD-A138-2734507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C5DA6-B92E-4D2C-8DAD-42963F9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3039A-51E2-4310-A36C-E537171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4912-30E7-4159-9B76-66CE6257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933-23CD-4DDD-8994-D0B5D5A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A36F7-0DF1-4299-B58B-1CDA3091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330F-3ACB-4317-98FA-4CE6A147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17CCB-10C1-46C4-8044-3150CF5C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62A5A-B683-43C1-94E8-42D2A809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14BB-A174-4724-8ED7-8AC4B945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75B08-4A6A-457D-A3E1-24C498CC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D7D20-6802-4CDB-86BD-E76880BC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5FBAD-AD92-4982-9F87-87213A56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0F881-2D9B-46ED-B1F0-20F5B9A0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05DD3-AC6E-4478-9F35-170F4588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5A3-6C57-4855-B7A3-C411658C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793D4-99B8-444A-A025-505A922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F2EDD-31D6-4C77-ADFE-B0CA44B5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2F46B-6981-4CCA-9086-A7A3C7E9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BEDA1-4893-4D15-9778-90EF7C4B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146B-2457-4E32-9C24-424662B7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9237F-B776-4B33-BC73-4816B66C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A83B08-83F0-4081-9D08-CC0CAA88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1E5B6-E0D3-443B-8CE8-CABEDACE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943C7C-9E3B-49DC-B096-3DB60226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16600F-D8E5-47F5-9DCB-53586FA1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162-0C19-4C9A-9D2D-E70CA70F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CB994-FE85-41FC-8747-216F1724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A83E1-EBB8-462B-84C2-40702EF8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D5820A-9C82-4757-9C47-789B6F41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9FDF0-8D44-4E61-AF35-4270F42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FEDECF-79F3-43A9-ABBB-1E6D8F7D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B37F72-CD06-48FF-B668-1860D6C8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01329E-5773-4591-8F0A-D5F0E70D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2202-C74E-4EF2-9490-DEDF6543AB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0D8F-BFEE-4D67-BDEB-BB8A4535F3C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D64-5AC1-4556-94E9-75E477FDB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545D-98E5-4EA4-A6CB-516989EEF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B3AF-1B18-47D7-8724-F1DB9567C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1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8F1-F7D6-46F3-9016-01C6A989A50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684-C7B3-4E1F-A0D8-32281DF7F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52EB-FB50-412E-9119-FCD126237A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5"/>
          <p:cNvSpPr txBox="1"/>
          <p:nvPr/>
        </p:nvSpPr>
        <p:spPr>
          <a:xfrm>
            <a:off x="1071720" y="428760"/>
            <a:ext cx="67690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работы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а может быть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9112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Положитель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&gt; 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755640" y="3573360"/>
            <a:ext cx="39574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Отрица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&lt; 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; А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F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684360" y="5084640"/>
            <a:ext cx="39574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  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5508720" y="227664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7"/>
          <p:cNvSpPr/>
          <p:nvPr/>
        </p:nvSpPr>
        <p:spPr>
          <a:xfrm>
            <a:off x="5508720" y="278136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WordArt 8"/>
          <p:cNvSpPr txBox="1"/>
          <p:nvPr/>
        </p:nvSpPr>
        <p:spPr>
          <a:xfrm>
            <a:off x="5796000" y="1773360"/>
            <a:ext cx="272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50" name="WordArt 9"/>
          <p:cNvSpPr txBox="1"/>
          <p:nvPr/>
        </p:nvSpPr>
        <p:spPr>
          <a:xfrm>
            <a:off x="5940360" y="2492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v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51" name="Line 10"/>
          <p:cNvSpPr/>
          <p:nvPr/>
        </p:nvSpPr>
        <p:spPr>
          <a:xfrm flipH="1">
            <a:off x="5508720" y="4149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WordArt 11"/>
          <p:cNvSpPr txBox="1"/>
          <p:nvPr/>
        </p:nvSpPr>
        <p:spPr>
          <a:xfrm>
            <a:off x="6012000" y="3645000"/>
            <a:ext cx="272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53" name="Line 12"/>
          <p:cNvSpPr/>
          <p:nvPr/>
        </p:nvSpPr>
        <p:spPr>
          <a:xfrm>
            <a:off x="5651640" y="458136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WordArt 13"/>
          <p:cNvSpPr txBox="1"/>
          <p:nvPr/>
        </p:nvSpPr>
        <p:spPr>
          <a:xfrm>
            <a:off x="6084720" y="4292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v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55" name="Line 14"/>
          <p:cNvSpPr/>
          <p:nvPr/>
        </p:nvSpPr>
        <p:spPr>
          <a:xfrm flipV="1">
            <a:off x="5796000" y="494136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WordArt 15"/>
          <p:cNvSpPr txBox="1"/>
          <p:nvPr/>
        </p:nvSpPr>
        <p:spPr>
          <a:xfrm>
            <a:off x="5364000" y="5229360"/>
            <a:ext cx="273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57" name="Line 16"/>
          <p:cNvSpPr/>
          <p:nvPr/>
        </p:nvSpPr>
        <p:spPr>
          <a:xfrm>
            <a:off x="5867280" y="595008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WordArt 17"/>
          <p:cNvSpPr txBox="1"/>
          <p:nvPr/>
        </p:nvSpPr>
        <p:spPr>
          <a:xfrm>
            <a:off x="6227640" y="566100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v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ransition>
    <p:dissolv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кашик № 667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олу стоит ящик массой 20 кг. Какую работу надо произвести, чтобы поднять ящик на высоту кузова автомашины, равную 1,5 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20 к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1,5 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-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98560" y="1916280"/>
            <a:ext cx="554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=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mgh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2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9,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,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30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А=300 Дж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Line 7"/>
          <p:cNvSpPr/>
          <p:nvPr/>
        </p:nvSpPr>
        <p:spPr>
          <a:xfrm>
            <a:off x="250920" y="30686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>
            <a:off x="3203640" y="20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Домашнее     </a:t>
            </a:r>
            <a:br>
              <a:rPr sz="6000"/>
            </a:b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 задание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213920" y="2997360"/>
            <a:ext cx="674244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§ 53; упр. 28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Задание 17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5"/>
          <p:cNvSpPr/>
          <p:nvPr/>
        </p:nvSpPr>
        <p:spPr>
          <a:xfrm>
            <a:off x="395280" y="76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обыденной жизни под словом «работа» мы называем различные действия человека или устройства. Например, мы говори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WordArt 6"/>
          <p:cNvSpPr txBox="1"/>
          <p:nvPr/>
        </p:nvSpPr>
        <p:spPr>
          <a:xfrm>
            <a:off x="1330200" y="241200"/>
            <a:ext cx="605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еханическая работа</a:t>
            </a:r>
            <a:endParaRPr b="1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1790640" cy="3809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"/>
          <p:cNvPicPr/>
          <p:nvPr/>
        </p:nvPicPr>
        <p:blipFill>
          <a:blip r:embed="rId2"/>
          <a:srcRect l="8013" t="0" r="6544" b="0"/>
          <a:stretch/>
        </p:blipFill>
        <p:spPr>
          <a:xfrm>
            <a:off x="6227640" y="1916280"/>
            <a:ext cx="230364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2"/>
          <p:cNvSpPr/>
          <p:nvPr/>
        </p:nvSpPr>
        <p:spPr>
          <a:xfrm>
            <a:off x="392400" y="15289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работает вра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2700360" y="1484280"/>
            <a:ext cx="3168720" cy="259704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3"/>
          <p:cNvSpPr/>
          <p:nvPr/>
        </p:nvSpPr>
        <p:spPr>
          <a:xfrm>
            <a:off x="2989080" y="4005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работает продаве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6156360" y="1557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работает пылес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4"/>
          <a:stretch/>
        </p:blipFill>
        <p:spPr>
          <a:xfrm>
            <a:off x="2951280" y="4437000"/>
            <a:ext cx="2844720" cy="21337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5"/>
          <p:cNvSpPr/>
          <p:nvPr/>
        </p:nvSpPr>
        <p:spPr>
          <a:xfrm>
            <a:off x="2941560" y="64882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работает компью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18">
            <a:hlinkClick r:id="" action="ppaction://hlinkshowjump?jump=previousslide"/>
          </p:cNvPr>
          <p:cNvSpPr/>
          <p:nvPr/>
        </p:nvSpPr>
        <p:spPr>
          <a:xfrm>
            <a:off x="802800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19">
            <a:hlinkClick r:id="" action="ppaction://hlinkshowjump?jump=nextslide"/>
          </p:cNvPr>
          <p:cNvSpPr/>
          <p:nvPr/>
        </p:nvSpPr>
        <p:spPr>
          <a:xfrm>
            <a:off x="874872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20"/>
          <p:cNvSpPr/>
          <p:nvPr/>
        </p:nvSpPr>
        <p:spPr>
          <a:xfrm>
            <a:off x="838836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WordArt 4"/>
          <p:cNvSpPr txBox="1"/>
          <p:nvPr/>
        </p:nvSpPr>
        <p:spPr>
          <a:xfrm>
            <a:off x="1330200" y="241200"/>
            <a:ext cx="605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еханическая работа</a:t>
            </a:r>
            <a:endParaRPr b="1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250920" y="836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изике также существует понятие «работа», но его смысл несколько отличается от привычного. Физика прежде всего, изучает физическую величину, которая называется «механической работо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2" descr="i0945rp"/>
          <p:cNvPicPr/>
          <p:nvPr/>
        </p:nvPicPr>
        <p:blipFill>
          <a:blip r:embed="rId1"/>
          <a:stretch/>
        </p:blipFill>
        <p:spPr>
          <a:xfrm>
            <a:off x="755640" y="4869000"/>
            <a:ext cx="1254240" cy="1728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i0577rp"/>
          <p:cNvPicPr/>
          <p:nvPr/>
        </p:nvPicPr>
        <p:blipFill>
          <a:blip r:embed="rId2"/>
          <a:stretch/>
        </p:blipFill>
        <p:spPr>
          <a:xfrm>
            <a:off x="7308720" y="1628640"/>
            <a:ext cx="1311480" cy="2160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5" descr="i0678rp"/>
          <p:cNvPicPr/>
          <p:nvPr/>
        </p:nvPicPr>
        <p:blipFill>
          <a:blip r:embed="rId3"/>
          <a:stretch/>
        </p:blipFill>
        <p:spPr>
          <a:xfrm>
            <a:off x="395280" y="2924280"/>
            <a:ext cx="2305080" cy="18255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6"/>
          <p:cNvSpPr/>
          <p:nvPr/>
        </p:nvSpPr>
        <p:spPr>
          <a:xfrm>
            <a:off x="2771640" y="3573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втомобиль движется по автомагистрали благодаря работающему двигател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682560" y="19908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рузчики поднимают багаж на определённую высоту, используя силу своих муску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2411280" y="508464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яч под действием силы тяжести падает на поверхность Зем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189000" y="6237360"/>
            <a:ext cx="809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о всех этих примерах совершается механическая раб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20">
            <a:hlinkClick r:id="" action="ppaction://hlinkshowjump?jump=previousslide"/>
          </p:cNvPr>
          <p:cNvSpPr/>
          <p:nvPr/>
        </p:nvSpPr>
        <p:spPr>
          <a:xfrm>
            <a:off x="802800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1">
            <a:hlinkClick r:id="" action="ppaction://hlinkshowjump?jump=nextslide"/>
          </p:cNvPr>
          <p:cNvSpPr/>
          <p:nvPr/>
        </p:nvSpPr>
        <p:spPr>
          <a:xfrm>
            <a:off x="874872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22"/>
          <p:cNvSpPr/>
          <p:nvPr/>
        </p:nvSpPr>
        <p:spPr>
          <a:xfrm>
            <a:off x="838836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6"/>
          <p:cNvSpPr/>
          <p:nvPr/>
        </p:nvSpPr>
        <p:spPr>
          <a:xfrm>
            <a:off x="250920" y="8222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ко можно представить себе случай, когда тело движется и без участия сил. Например, после выключения двигателя ракета, летящая в открытом космосе, продолжает движение по инерции. Молекула газа по инерции движется от одного столкновения до друг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WordArt 27"/>
          <p:cNvSpPr txBox="1"/>
          <p:nvPr/>
        </p:nvSpPr>
        <p:spPr>
          <a:xfrm>
            <a:off x="1330200" y="241200"/>
            <a:ext cx="605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еханическая работа</a:t>
            </a:r>
            <a:endParaRPr b="1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79" name="Picture 32" descr="459f7f7da632"/>
          <p:cNvPicPr/>
          <p:nvPr/>
        </p:nvPicPr>
        <p:blipFill>
          <a:blip r:embed="rId1"/>
          <a:stretch/>
        </p:blipFill>
        <p:spPr>
          <a:xfrm rot="4230000">
            <a:off x="3198600" y="1633680"/>
            <a:ext cx="2251080" cy="35370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63"/>
          <p:cNvGrpSpPr/>
          <p:nvPr/>
        </p:nvGrpSpPr>
        <p:grpSpPr>
          <a:xfrm>
            <a:off x="1979640" y="1989000"/>
            <a:ext cx="4753080" cy="2808360"/>
            <a:chOff x="1979640" y="1989000"/>
            <a:chExt cx="4753080" cy="2808360"/>
          </a:xfrm>
        </p:grpSpPr>
        <p:sp>
          <p:nvSpPr>
            <p:cNvPr id="381" name="AutoShape 33"/>
            <p:cNvSpPr/>
            <p:nvPr/>
          </p:nvSpPr>
          <p:spPr>
            <a:xfrm>
              <a:off x="5148360" y="1989000"/>
              <a:ext cx="720720" cy="57636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AutoShape 39"/>
            <p:cNvSpPr/>
            <p:nvPr/>
          </p:nvSpPr>
          <p:spPr>
            <a:xfrm>
              <a:off x="4211640" y="3933720"/>
              <a:ext cx="720720" cy="57636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utoShape 40"/>
            <p:cNvSpPr/>
            <p:nvPr/>
          </p:nvSpPr>
          <p:spPr>
            <a:xfrm>
              <a:off x="2482920" y="4221000"/>
              <a:ext cx="720720" cy="57636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utoShape 41"/>
            <p:cNvSpPr/>
            <p:nvPr/>
          </p:nvSpPr>
          <p:spPr>
            <a:xfrm>
              <a:off x="2627280" y="2133720"/>
              <a:ext cx="720720" cy="57600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237240 h 576000"/>
                <a:gd name="textAreaBottom" fmla="*/ 3387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AutoShape 42"/>
            <p:cNvSpPr/>
            <p:nvPr/>
          </p:nvSpPr>
          <p:spPr>
            <a:xfrm>
              <a:off x="5364360" y="3933720"/>
              <a:ext cx="720720" cy="57636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utoShape 44"/>
            <p:cNvSpPr/>
            <p:nvPr/>
          </p:nvSpPr>
          <p:spPr>
            <a:xfrm>
              <a:off x="3635640" y="2276640"/>
              <a:ext cx="720720" cy="57600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237240 h 576000"/>
                <a:gd name="textAreaBottom" fmla="*/ 3387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AutoShape 45"/>
            <p:cNvSpPr/>
            <p:nvPr/>
          </p:nvSpPr>
          <p:spPr>
            <a:xfrm>
              <a:off x="5867640" y="3284640"/>
              <a:ext cx="720720" cy="57600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237240 h 576000"/>
                <a:gd name="textAreaBottom" fmla="*/ 3387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49"/>
            <p:cNvSpPr/>
            <p:nvPr/>
          </p:nvSpPr>
          <p:spPr>
            <a:xfrm>
              <a:off x="1979640" y="3500280"/>
              <a:ext cx="720720" cy="57636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50"/>
            <p:cNvSpPr/>
            <p:nvPr/>
          </p:nvSpPr>
          <p:spPr>
            <a:xfrm>
              <a:off x="6012000" y="2492280"/>
              <a:ext cx="720720" cy="57636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Text Box 61"/>
          <p:cNvSpPr/>
          <p:nvPr/>
        </p:nvSpPr>
        <p:spPr>
          <a:xfrm>
            <a:off x="179280" y="5734080"/>
            <a:ext cx="882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анном случае нет действующей на тело силы, и механическая работа не совершае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64">
            <a:hlinkClick r:id="" action="ppaction://hlinkshowjump?jump=previousslide"/>
          </p:cNvPr>
          <p:cNvSpPr/>
          <p:nvPr/>
        </p:nvSpPr>
        <p:spPr>
          <a:xfrm>
            <a:off x="802800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65">
            <a:hlinkClick r:id="" action="ppaction://hlinkshowjump?jump=nextslide"/>
          </p:cNvPr>
          <p:cNvSpPr/>
          <p:nvPr/>
        </p:nvSpPr>
        <p:spPr>
          <a:xfrm>
            <a:off x="874872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66"/>
          <p:cNvSpPr/>
          <p:nvPr/>
        </p:nvSpPr>
        <p:spPr>
          <a:xfrm>
            <a:off x="838836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70"/>
          <p:cNvGrpSpPr/>
          <p:nvPr/>
        </p:nvGrpSpPr>
        <p:grpSpPr>
          <a:xfrm>
            <a:off x="1619280" y="4940280"/>
            <a:ext cx="5761080" cy="1141920"/>
            <a:chOff x="1619280" y="4940280"/>
            <a:chExt cx="5761080" cy="1141920"/>
          </a:xfrm>
        </p:grpSpPr>
        <p:grpSp>
          <p:nvGrpSpPr>
            <p:cNvPr id="395" name="Group 60"/>
            <p:cNvGrpSpPr/>
            <p:nvPr/>
          </p:nvGrpSpPr>
          <p:grpSpPr>
            <a:xfrm>
              <a:off x="1619280" y="4940280"/>
              <a:ext cx="5616720" cy="1141920"/>
              <a:chOff x="1619280" y="4940280"/>
              <a:chExt cx="5616720" cy="1141920"/>
            </a:xfrm>
          </p:grpSpPr>
          <p:sp>
            <p:nvSpPr>
              <p:cNvPr id="396" name="Text Box 30"/>
              <p:cNvSpPr/>
              <p:nvPr/>
            </p:nvSpPr>
            <p:spPr>
              <a:xfrm>
                <a:off x="3614760" y="5011920"/>
                <a:ext cx="1173240" cy="58140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ff"/>
                    </a:solidFill>
                    <a:latin typeface="Comic Sans MS"/>
                  </a:rPr>
                  <a:t>путь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Text Box 51"/>
              <p:cNvSpPr/>
              <p:nvPr/>
            </p:nvSpPr>
            <p:spPr>
              <a:xfrm>
                <a:off x="5580360" y="5011920"/>
                <a:ext cx="1655640" cy="106884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ff"/>
                    </a:solidFill>
                    <a:latin typeface="Comic Sans MS"/>
                  </a:rPr>
                  <a:t>работ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Text Box 55"/>
              <p:cNvSpPr/>
              <p:nvPr/>
            </p:nvSpPr>
            <p:spPr>
              <a:xfrm>
                <a:off x="4861080" y="500868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&gt;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Text Box 56"/>
              <p:cNvSpPr/>
              <p:nvPr/>
            </p:nvSpPr>
            <p:spPr>
              <a:xfrm>
                <a:off x="3059280" y="5008680"/>
                <a:ext cx="45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ff"/>
                    </a:solidFill>
                    <a:latin typeface="Comic Sans MS"/>
                  </a:rPr>
                  <a:t>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Group 59"/>
              <p:cNvGrpSpPr/>
              <p:nvPr/>
            </p:nvGrpSpPr>
            <p:grpSpPr>
              <a:xfrm>
                <a:off x="1619280" y="4940280"/>
                <a:ext cx="1440000" cy="1141920"/>
                <a:chOff x="1619280" y="4940280"/>
                <a:chExt cx="1440000" cy="1141920"/>
              </a:xfrm>
            </p:grpSpPr>
            <p:sp>
              <p:nvSpPr>
                <p:cNvPr id="401" name="Text Box 29"/>
                <p:cNvSpPr/>
                <p:nvPr/>
              </p:nvSpPr>
              <p:spPr>
                <a:xfrm>
                  <a:off x="1764000" y="5013360"/>
                  <a:ext cx="1173240" cy="1068840"/>
                </a:xfrm>
                <a:prstGeom prst="rect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ff"/>
                      </a:solidFill>
                      <a:latin typeface="Comic Sans MS"/>
                    </a:rPr>
                    <a:t>сила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1619280" y="4940280"/>
                  <a:ext cx="1440000" cy="720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 flipV="1">
                  <a:off x="1619280" y="4940280"/>
                  <a:ext cx="1440000" cy="720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" name="Group 69"/>
            <p:cNvGrpSpPr/>
            <p:nvPr/>
          </p:nvGrpSpPr>
          <p:grpSpPr>
            <a:xfrm>
              <a:off x="5435640" y="4941720"/>
              <a:ext cx="1944720" cy="719280"/>
              <a:chOff x="5435640" y="4941720"/>
              <a:chExt cx="1944720" cy="719280"/>
            </a:xfrm>
          </p:grpSpPr>
          <p:sp>
            <p:nvSpPr>
              <p:cNvPr id="405" name="Line 67"/>
              <p:cNvSpPr/>
              <p:nvPr/>
            </p:nvSpPr>
            <p:spPr>
              <a:xfrm>
                <a:off x="5435640" y="4941720"/>
                <a:ext cx="1944720" cy="71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68"/>
              <p:cNvSpPr/>
              <p:nvPr/>
            </p:nvSpPr>
            <p:spPr>
              <a:xfrm flipV="1">
                <a:off x="5435640" y="4941720"/>
                <a:ext cx="1944720" cy="71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5"/>
          <p:cNvSpPr txBox="1"/>
          <p:nvPr/>
        </p:nvSpPr>
        <p:spPr>
          <a:xfrm>
            <a:off x="1330200" y="241200"/>
            <a:ext cx="605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еханическая работа</a:t>
            </a:r>
            <a:endParaRPr b="1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а тело действует сила, но оно при этом не движется, то механическая работа также не совершает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20" descr=""/>
          <p:cNvPicPr/>
          <p:nvPr/>
        </p:nvPicPr>
        <p:blipFill>
          <a:blip r:embed="rId1"/>
          <a:stretch/>
        </p:blipFill>
        <p:spPr>
          <a:xfrm>
            <a:off x="127080" y="1413000"/>
            <a:ext cx="2413080" cy="280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1"/>
          <p:cNvSpPr/>
          <p:nvPr/>
        </p:nvSpPr>
        <p:spPr>
          <a:xfrm>
            <a:off x="250920" y="416448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тлан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рис Валледжо, 1988 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22" descr=""/>
          <p:cNvPicPr/>
          <p:nvPr/>
        </p:nvPicPr>
        <p:blipFill>
          <a:blip r:embed="rId2"/>
          <a:stretch/>
        </p:blipFill>
        <p:spPr>
          <a:xfrm>
            <a:off x="3708360" y="2265480"/>
            <a:ext cx="3527640" cy="1955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3"/>
          <p:cNvSpPr/>
          <p:nvPr/>
        </p:nvSpPr>
        <p:spPr>
          <a:xfrm>
            <a:off x="2700360" y="3943440"/>
            <a:ext cx="644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 басне  И.А.Крылова «Лебедь, Щука и Рак» работа также не совершается, так как при присутствии сил: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i="1" lang="ru-RU" sz="1600" spc="-1" strike="noStrike">
                <a:solidFill>
                  <a:srgbClr val="ff0000"/>
                </a:solidFill>
                <a:latin typeface="Comic Sans MS"/>
              </a:rPr>
              <a:t>Из кожи лезут вон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, отсутствует перемещение: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i="1" lang="ru-RU" sz="1600" spc="-1" strike="noStrike">
                <a:solidFill>
                  <a:srgbClr val="ff0000"/>
                </a:solidFill>
                <a:latin typeface="Comic Sans MS"/>
              </a:rPr>
              <a:t>а возу все нет ходу!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2556000" y="1413000"/>
            <a:ext cx="611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ак бы ни было тяжело мифологическому герою Атланту, держащему на своих плечах небесный свод, механической работы он при этом не совершал, так как небесный свод при этом не двигал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5"/>
          <p:cNvSpPr/>
          <p:nvPr/>
        </p:nvSpPr>
        <p:spPr>
          <a:xfrm>
            <a:off x="179280" y="580536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анном случае нет перемещения, и механическая работа не соверш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26">
            <a:hlinkClick r:id="" action="ppaction://hlinkshowjump?jump=previousslide"/>
          </p:cNvPr>
          <p:cNvSpPr/>
          <p:nvPr/>
        </p:nvSpPr>
        <p:spPr>
          <a:xfrm>
            <a:off x="802800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7">
            <a:hlinkClick r:id="" action="ppaction://hlinkshowjump?jump=nextslide"/>
          </p:cNvPr>
          <p:cNvSpPr/>
          <p:nvPr/>
        </p:nvSpPr>
        <p:spPr>
          <a:xfrm>
            <a:off x="874872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28"/>
          <p:cNvSpPr/>
          <p:nvPr/>
        </p:nvSpPr>
        <p:spPr>
          <a:xfrm>
            <a:off x="8388360" y="645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32"/>
          <p:cNvGrpSpPr/>
          <p:nvPr/>
        </p:nvGrpSpPr>
        <p:grpSpPr>
          <a:xfrm>
            <a:off x="1620720" y="5084640"/>
            <a:ext cx="5615280" cy="1141920"/>
            <a:chOff x="1620720" y="5084640"/>
            <a:chExt cx="5615280" cy="1141920"/>
          </a:xfrm>
        </p:grpSpPr>
        <p:grpSp>
          <p:nvGrpSpPr>
            <p:cNvPr id="419" name="Group 17"/>
            <p:cNvGrpSpPr/>
            <p:nvPr/>
          </p:nvGrpSpPr>
          <p:grpSpPr>
            <a:xfrm>
              <a:off x="1620720" y="5084640"/>
              <a:ext cx="5472360" cy="1141920"/>
              <a:chOff x="1620720" y="5084640"/>
              <a:chExt cx="5472360" cy="1141920"/>
            </a:xfrm>
          </p:grpSpPr>
          <p:sp>
            <p:nvSpPr>
              <p:cNvPr id="420" name="Text Box 9"/>
              <p:cNvSpPr/>
              <p:nvPr/>
            </p:nvSpPr>
            <p:spPr>
              <a:xfrm>
                <a:off x="5437080" y="5155920"/>
                <a:ext cx="1656000" cy="106884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ff"/>
                    </a:solidFill>
                    <a:latin typeface="Comic Sans MS"/>
                  </a:rPr>
                  <a:t>работ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Text Box 10"/>
              <p:cNvSpPr/>
              <p:nvPr/>
            </p:nvSpPr>
            <p:spPr>
              <a:xfrm>
                <a:off x="4718160" y="5153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&gt;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Text Box 11"/>
              <p:cNvSpPr/>
              <p:nvPr/>
            </p:nvSpPr>
            <p:spPr>
              <a:xfrm>
                <a:off x="2916360" y="51530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ff"/>
                    </a:solidFill>
                    <a:latin typeface="Comic Sans MS"/>
                  </a:rPr>
                  <a:t>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13"/>
              <p:cNvSpPr/>
              <p:nvPr/>
            </p:nvSpPr>
            <p:spPr>
              <a:xfrm>
                <a:off x="1620720" y="5157720"/>
                <a:ext cx="1173240" cy="106884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ff"/>
                    </a:solidFill>
                    <a:latin typeface="Comic Sans MS"/>
                  </a:rPr>
                  <a:t>сил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Group 16"/>
              <p:cNvGrpSpPr/>
              <p:nvPr/>
            </p:nvGrpSpPr>
            <p:grpSpPr>
              <a:xfrm>
                <a:off x="3349440" y="5084640"/>
                <a:ext cx="1440000" cy="720720"/>
                <a:chOff x="3349440" y="5084640"/>
                <a:chExt cx="1440000" cy="720720"/>
              </a:xfrm>
            </p:grpSpPr>
            <p:sp>
              <p:nvSpPr>
                <p:cNvPr id="425" name="Text Box 8"/>
                <p:cNvSpPr/>
                <p:nvPr/>
              </p:nvSpPr>
              <p:spPr>
                <a:xfrm>
                  <a:off x="3471840" y="5155920"/>
                  <a:ext cx="1173240" cy="581400"/>
                </a:xfrm>
                <a:prstGeom prst="rect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ff"/>
                      </a:solidFill>
                      <a:latin typeface="Comic Sans MS"/>
                    </a:rPr>
                    <a:t>путь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4"/>
                <p:cNvSpPr/>
                <p:nvPr/>
              </p:nvSpPr>
              <p:spPr>
                <a:xfrm>
                  <a:off x="3349440" y="5084640"/>
                  <a:ext cx="1440000" cy="720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5"/>
                <p:cNvSpPr/>
                <p:nvPr/>
              </p:nvSpPr>
              <p:spPr>
                <a:xfrm flipV="1">
                  <a:off x="3349440" y="5084640"/>
                  <a:ext cx="1440000" cy="720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8" name="Group 29"/>
            <p:cNvGrpSpPr/>
            <p:nvPr/>
          </p:nvGrpSpPr>
          <p:grpSpPr>
            <a:xfrm>
              <a:off x="5291280" y="5086080"/>
              <a:ext cx="1944720" cy="719280"/>
              <a:chOff x="5291280" y="5086080"/>
              <a:chExt cx="1944720" cy="719280"/>
            </a:xfrm>
          </p:grpSpPr>
          <p:sp>
            <p:nvSpPr>
              <p:cNvPr id="429" name="Line 30"/>
              <p:cNvSpPr/>
              <p:nvPr/>
            </p:nvSpPr>
            <p:spPr>
              <a:xfrm>
                <a:off x="5291280" y="5086440"/>
                <a:ext cx="1944720" cy="71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31"/>
              <p:cNvSpPr/>
              <p:nvPr/>
            </p:nvSpPr>
            <p:spPr>
              <a:xfrm flipV="1">
                <a:off x="5291280" y="5086080"/>
                <a:ext cx="1944720" cy="71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4"/>
          <p:cNvSpPr txBox="1"/>
          <p:nvPr/>
        </p:nvSpPr>
        <p:spPr>
          <a:xfrm>
            <a:off x="684360" y="333360"/>
            <a:ext cx="754992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 совершается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1071720" y="1857240"/>
            <a:ext cx="705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гда на тело действует сил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900000" y="3213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гда тело движетс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1705"/>
                </a:solidFill>
                <a:latin typeface="Arial Black"/>
              </a:rPr>
              <a:t>Механическая работа </a:t>
            </a:r>
            <a:br>
              <a:rPr sz="3600"/>
            </a:br>
            <a:r>
              <a:rPr b="1" lang="ru-RU" sz="3600" spc="-1" strike="noStrike">
                <a:solidFill>
                  <a:srgbClr val="fd1705"/>
                </a:solidFill>
                <a:latin typeface="Arial Black"/>
              </a:rPr>
              <a:t>прямо пропорциональна приложенной силе и </a:t>
            </a:r>
            <a:br>
              <a:rPr sz="3600"/>
            </a:br>
            <a:r>
              <a:rPr b="1" lang="ru-RU" sz="3600" spc="-1" strike="noStrike">
                <a:solidFill>
                  <a:srgbClr val="fd1705"/>
                </a:solidFill>
                <a:latin typeface="Arial Black"/>
              </a:rPr>
              <a:t>прямо пропорциональна пройденному пути.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476360" y="3429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Работа = сила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Times New Roman"/>
              </a:rPr>
              <a:t>×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  <a:ea typeface="Times New Roman"/>
              </a:rPr>
              <a:t>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WordArt 10"/>
          <p:cNvSpPr txBox="1"/>
          <p:nvPr/>
        </p:nvSpPr>
        <p:spPr>
          <a:xfrm>
            <a:off x="2268360" y="450864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= F 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684360" y="594900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– работа, F – сила, s – пройденный пу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930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da02"/>
                </a:solidFill>
                <a:latin typeface="Tahoma"/>
              </a:rPr>
              <a:t>Единица работы–</a:t>
            </a:r>
            <a:r>
              <a:rPr b="0" lang="ru-RU" sz="4800" spc="-1" strike="noStrike">
                <a:solidFill>
                  <a:srgbClr val="fd1705"/>
                </a:solidFill>
                <a:latin typeface="Tahoma"/>
              </a:rPr>
              <a:t>Дж (джоуль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28760" y="1341000"/>
            <a:ext cx="8416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9900"/>
                </a:solidFill>
                <a:latin typeface="Tahoma"/>
              </a:rPr>
              <a:t>1Дж = 1 Н </a:t>
            </a:r>
            <a:r>
              <a:rPr b="0" lang="en-US" sz="6000" spc="-1" strike="noStrike">
                <a:solidFill>
                  <a:srgbClr val="ff9900"/>
                </a:solidFill>
                <a:latin typeface="Tahoma"/>
                <a:ea typeface="Arial"/>
              </a:rPr>
              <a:t>·</a:t>
            </a:r>
            <a:r>
              <a:rPr b="0" lang="ru-RU" sz="6000" spc="-1" strike="noStrike">
                <a:solidFill>
                  <a:srgbClr val="ff9900"/>
                </a:solidFill>
                <a:latin typeface="Tahoma"/>
                <a:ea typeface="Arial"/>
              </a:rPr>
              <a:t> м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За единицу работы принимают работу, совершаемую силой 1 Н, на пути равном 1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  <a:ea typeface="Arial"/>
              </a:rPr>
              <a:t>1 кДж = 1000 Дж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1da02"/>
                </a:solidFill>
                <a:latin typeface="Tahoma"/>
                <a:ea typeface="Arial"/>
              </a:rPr>
              <a:t>1 Дж = 0,001 кДж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cc"/>
                </a:solidFill>
                <a:latin typeface="Tahoma"/>
                <a:ea typeface="Arial"/>
              </a:rPr>
              <a:t>1 МДж = 1000000 Дж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Tahoma"/>
                <a:ea typeface="Arial"/>
              </a:rPr>
              <a:t>1 Дж = 0,000001 МДж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Выразите в джоулях работу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0,25 кДж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,2 кДж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0,15 МДж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,2 МДж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21164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50 Д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200 Д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50000 Д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200000 Д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31T07:32:26Z</dcterms:modified>
  <cp:revision>64</cp:revision>
  <dc:subject/>
  <dc:title>PowerPoint Presentation</dc:title>
</cp:coreProperties>
</file>