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71D-3315-4A6A-A47B-238E39BC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1640" y="37450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B8C-0FC2-4D3F-A60B-07F51D39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40" y="3745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16840" y="3745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314-1A3C-4BA3-8040-182A8B4E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1640" y="3745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1440" y="3745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1240" y="3745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0FE-103D-4E8D-8C88-28F0F027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526-B646-4183-BA95-B5A1D05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A51-98B7-4944-A74E-2FA29A6E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81A-FB0A-4560-9CC3-C2984624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2D2-4FDD-42CA-8887-1D1BA2EB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CE2-7240-4AD2-82B2-9DBB07DA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1640" y="3745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ED2-371F-4FEB-9AA3-BE6A227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16840" y="3745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F0B-0B40-45F9-BDAD-E8DCBBD7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1640" y="37450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93F-2C21-4593-894C-A077084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DA186EC-C694-49CE-99FF-6594DC642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258920"/>
            <a:ext cx="7345440" cy="1388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ПРЕЗЕНТАЦИЯ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к уроку математики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во 2 классе</a:t>
            </a:r>
            <a:br>
              <a:rPr sz="3600"/>
            </a:b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УМК «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Школа России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68360" y="2641680"/>
            <a:ext cx="194328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392720" y="1511280"/>
          <a:ext cx="3816360" cy="206712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103500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см = 1 д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м = ?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392720" y="3720960"/>
          <a:ext cx="3816360" cy="206712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1033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1276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5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м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метр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Таблица мер длин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31640" y="1511280"/>
          <a:ext cx="7777440" cy="427680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92360"/>
              </a:tblGrid>
              <a:tr h="213984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с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д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9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3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с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3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д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3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77080" y="1584360"/>
            <a:ext cx="1942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84360" y="1049400"/>
            <a:ext cx="5400720" cy="504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31640" y="475128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66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ЗАДАНИЕ  стр. 13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64000" y="1152360"/>
            <a:ext cx="33969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864072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63640" y="720720"/>
            <a:ext cx="6769080" cy="482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Одеяльце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Одеяло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Выполни задание 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своей группы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1640" y="1728720"/>
            <a:ext cx="27687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31640" y="1511280"/>
          <a:ext cx="7777440" cy="427680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92360"/>
              </a:tblGrid>
              <a:tr h="213984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 5 д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96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 10 с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м 2 д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425600" y="2554200"/>
            <a:ext cx="719280" cy="360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7920" y="2554200"/>
            <a:ext cx="1079280" cy="360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49880" y="2554200"/>
            <a:ext cx="1440000" cy="36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7640" y="4133880"/>
            <a:ext cx="2259000" cy="1598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48360" y="374328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168720" y="403236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640" y="258840"/>
            <a:ext cx="7777440" cy="820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57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0720" y="1439640"/>
            <a:ext cx="5975280" cy="4392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640" y="1114560"/>
            <a:ext cx="619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4520" y="26784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Список использованных источ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4520" y="1859040"/>
            <a:ext cx="777708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Моро М.И., Бантова М.А., Бельтюкова Г.В. и др. Математика: Учебник: 2 класс: В2ч. – М.: Просвещение, 20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 Моро М.И., Волкова С.И. Математика. Рабочая тетрадь: 2 класс. Пособие для учащихся общеобразовательных учреждений. В 2 ч. – М.: Просвещение,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Автор иллюстративного материала – Горшкова М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520" y="63468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1640" y="18590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3000"/>
          </a:bodyPr>
          <a:p>
            <a:pPr marL="301320" indent="0" algn="ctr">
              <a:spcBef>
                <a:spcPts val="15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"/>
              </a:rPr>
              <a:t>«Метр. Соотношение между единицами длины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3640" y="3960360"/>
            <a:ext cx="7345440" cy="1389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Урок математик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9800" y="496800"/>
            <a:ext cx="770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2360" y="71280"/>
            <a:ext cx="633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6360" y="149400"/>
            <a:ext cx="7488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15000" y="1800360"/>
            <a:ext cx="2025720" cy="2025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ля не выше Саши и Иры.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ра не самая высока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0720" y="1403280"/>
            <a:ext cx="59040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2189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Саша – самая высокая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Ира – ниже всех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ля - средня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71640" y="2808360"/>
            <a:ext cx="45370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Сантиметр и Децимет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3200" y="1944720"/>
            <a:ext cx="326556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392720" y="1511280"/>
          <a:ext cx="3816360" cy="3816360"/>
        </p:xfrm>
        <a:graphic>
          <a:graphicData uri="http://schemas.openxmlformats.org/drawingml/2006/table">
            <a:tbl>
              <a:tblPr/>
              <a:tblGrid>
                <a:gridCol w="1908000"/>
                <a:gridCol w="1908360"/>
              </a:tblGrid>
              <a:tr h="1909800">
                <a:tc>
                  <a:txBody>
                    <a:bodyPr lIns="84960" rIns="84960" tIns="44280" bIns="44280" anchor="ctr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д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4280" bIns="44280" anchor="ctr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с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84960" rIns="84960" tIns="44280" bIns="44280" anchor="ctr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4280" bIns="44280" anchor="ctr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с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258840"/>
            <a:ext cx="7777440" cy="1612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Задание от Мишутки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48000" y="2082960"/>
            <a:ext cx="4176720" cy="34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19:48:25Z</dcterms:created>
  <dc:creator>№1</dc:creator>
  <dc:description/>
  <dc:language>en-US</dc:language>
  <cp:lastModifiedBy>1686791</cp:lastModifiedBy>
  <dcterms:modified xsi:type="dcterms:W3CDTF">2022-11-20T15:48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