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jpeg" ContentType="image/jpeg"/>
  <Override PartName="/ppt/media/image11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3.gif" ContentType="image/gif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151-B3DC-4BCB-8E8E-D4220FE0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79E-D1CE-47CD-BC09-64712259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13C-B9AF-4AFF-AB0E-E7294FF1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AAC-976A-49E2-8114-E2464D6C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9DD-9474-4E3D-B4CA-9D6472B2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242-FA7F-4BA0-A49A-24B06173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175-83E1-4FCB-91D2-16B67542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BB9-42BE-4A44-8ADB-96694158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6BB-9F88-480B-96EE-C36F1685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39E-209D-42E1-9C87-9F7E42A6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AA2-B32B-410C-98DC-22E00F25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FDD-88D1-41C6-A1DF-0F170B9F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2820-6DD0-4A5F-A658-6D53F2D5D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сканирование0209"/>
          <p:cNvPicPr/>
          <p:nvPr/>
        </p:nvPicPr>
        <p:blipFill>
          <a:blip r:embed="rId1">
            <a:lum bright="24000"/>
          </a:blip>
          <a:srcRect l="0" t="0" r="33" b="15"/>
          <a:stretch/>
        </p:blipFill>
        <p:spPr>
          <a:xfrm>
            <a:off x="-36360" y="4428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Freeform 5"/>
          <p:cNvSpPr/>
          <p:nvPr/>
        </p:nvSpPr>
        <p:spPr>
          <a:xfrm>
            <a:off x="3132000" y="-100080"/>
            <a:ext cx="6264360" cy="5545080"/>
          </a:xfrm>
          <a:custGeom>
            <a:avLst/>
            <a:gdLst/>
            <a:ahLst/>
            <a:rect l="l" t="t" r="r" b="b"/>
            <a:pathLst>
              <a:path w="3441" h="3472">
                <a:moveTo>
                  <a:pt x="0" y="72"/>
                </a:moveTo>
                <a:cubicBezTo>
                  <a:pt x="34" y="106"/>
                  <a:pt x="80" y="117"/>
                  <a:pt x="120" y="144"/>
                </a:cubicBezTo>
                <a:cubicBezTo>
                  <a:pt x="185" y="241"/>
                  <a:pt x="204" y="337"/>
                  <a:pt x="328" y="368"/>
                </a:cubicBezTo>
                <a:cubicBezTo>
                  <a:pt x="354" y="385"/>
                  <a:pt x="379" y="390"/>
                  <a:pt x="408" y="400"/>
                </a:cubicBezTo>
                <a:cubicBezTo>
                  <a:pt x="428" y="430"/>
                  <a:pt x="450" y="452"/>
                  <a:pt x="480" y="472"/>
                </a:cubicBezTo>
                <a:cubicBezTo>
                  <a:pt x="499" y="529"/>
                  <a:pt x="525" y="582"/>
                  <a:pt x="544" y="640"/>
                </a:cubicBezTo>
                <a:cubicBezTo>
                  <a:pt x="556" y="676"/>
                  <a:pt x="588" y="707"/>
                  <a:pt x="600" y="744"/>
                </a:cubicBezTo>
                <a:cubicBezTo>
                  <a:pt x="606" y="942"/>
                  <a:pt x="561" y="1037"/>
                  <a:pt x="728" y="1120"/>
                </a:cubicBezTo>
                <a:cubicBezTo>
                  <a:pt x="765" y="1176"/>
                  <a:pt x="744" y="1157"/>
                  <a:pt x="784" y="1184"/>
                </a:cubicBezTo>
                <a:cubicBezTo>
                  <a:pt x="796" y="1202"/>
                  <a:pt x="806" y="1220"/>
                  <a:pt x="824" y="1232"/>
                </a:cubicBezTo>
                <a:cubicBezTo>
                  <a:pt x="831" y="1237"/>
                  <a:pt x="841" y="1236"/>
                  <a:pt x="848" y="1240"/>
                </a:cubicBezTo>
                <a:cubicBezTo>
                  <a:pt x="872" y="1253"/>
                  <a:pt x="902" y="1273"/>
                  <a:pt x="920" y="1296"/>
                </a:cubicBezTo>
                <a:cubicBezTo>
                  <a:pt x="932" y="1311"/>
                  <a:pt x="941" y="1328"/>
                  <a:pt x="952" y="1344"/>
                </a:cubicBezTo>
                <a:cubicBezTo>
                  <a:pt x="961" y="1358"/>
                  <a:pt x="968" y="1392"/>
                  <a:pt x="968" y="1392"/>
                </a:cubicBezTo>
                <a:cubicBezTo>
                  <a:pt x="965" y="1461"/>
                  <a:pt x="965" y="1531"/>
                  <a:pt x="960" y="1600"/>
                </a:cubicBezTo>
                <a:cubicBezTo>
                  <a:pt x="958" y="1628"/>
                  <a:pt x="945" y="1628"/>
                  <a:pt x="928" y="1648"/>
                </a:cubicBezTo>
                <a:cubicBezTo>
                  <a:pt x="897" y="1685"/>
                  <a:pt x="863" y="1728"/>
                  <a:pt x="816" y="1744"/>
                </a:cubicBezTo>
                <a:cubicBezTo>
                  <a:pt x="733" y="1827"/>
                  <a:pt x="524" y="1798"/>
                  <a:pt x="448" y="1800"/>
                </a:cubicBezTo>
                <a:cubicBezTo>
                  <a:pt x="432" y="1803"/>
                  <a:pt x="413" y="1798"/>
                  <a:pt x="400" y="1808"/>
                </a:cubicBezTo>
                <a:cubicBezTo>
                  <a:pt x="393" y="1813"/>
                  <a:pt x="403" y="1825"/>
                  <a:pt x="408" y="1832"/>
                </a:cubicBezTo>
                <a:cubicBezTo>
                  <a:pt x="426" y="1859"/>
                  <a:pt x="476" y="1890"/>
                  <a:pt x="504" y="1912"/>
                </a:cubicBezTo>
                <a:cubicBezTo>
                  <a:pt x="551" y="1948"/>
                  <a:pt x="600" y="1960"/>
                  <a:pt x="656" y="1976"/>
                </a:cubicBezTo>
                <a:cubicBezTo>
                  <a:pt x="676" y="1982"/>
                  <a:pt x="722" y="1990"/>
                  <a:pt x="736" y="2000"/>
                </a:cubicBezTo>
                <a:cubicBezTo>
                  <a:pt x="778" y="2028"/>
                  <a:pt x="815" y="2060"/>
                  <a:pt x="856" y="2088"/>
                </a:cubicBezTo>
                <a:cubicBezTo>
                  <a:pt x="872" y="2185"/>
                  <a:pt x="939" y="2256"/>
                  <a:pt x="992" y="2336"/>
                </a:cubicBezTo>
                <a:cubicBezTo>
                  <a:pt x="989" y="2381"/>
                  <a:pt x="991" y="2427"/>
                  <a:pt x="984" y="2472"/>
                </a:cubicBezTo>
                <a:cubicBezTo>
                  <a:pt x="978" y="2509"/>
                  <a:pt x="927" y="2551"/>
                  <a:pt x="888" y="2552"/>
                </a:cubicBezTo>
                <a:cubicBezTo>
                  <a:pt x="752" y="2557"/>
                  <a:pt x="616" y="2557"/>
                  <a:pt x="480" y="2560"/>
                </a:cubicBezTo>
                <a:cubicBezTo>
                  <a:pt x="467" y="2563"/>
                  <a:pt x="450" y="2558"/>
                  <a:pt x="440" y="2568"/>
                </a:cubicBezTo>
                <a:cubicBezTo>
                  <a:pt x="428" y="2580"/>
                  <a:pt x="429" y="2600"/>
                  <a:pt x="424" y="2616"/>
                </a:cubicBezTo>
                <a:cubicBezTo>
                  <a:pt x="421" y="2624"/>
                  <a:pt x="416" y="2640"/>
                  <a:pt x="416" y="2640"/>
                </a:cubicBezTo>
                <a:cubicBezTo>
                  <a:pt x="422" y="2696"/>
                  <a:pt x="412" y="2723"/>
                  <a:pt x="456" y="2752"/>
                </a:cubicBezTo>
                <a:cubicBezTo>
                  <a:pt x="459" y="2760"/>
                  <a:pt x="458" y="2770"/>
                  <a:pt x="464" y="2776"/>
                </a:cubicBezTo>
                <a:cubicBezTo>
                  <a:pt x="470" y="2782"/>
                  <a:pt x="485" y="2776"/>
                  <a:pt x="488" y="2784"/>
                </a:cubicBezTo>
                <a:cubicBezTo>
                  <a:pt x="496" y="2803"/>
                  <a:pt x="462" y="2846"/>
                  <a:pt x="456" y="2864"/>
                </a:cubicBezTo>
                <a:cubicBezTo>
                  <a:pt x="476" y="2945"/>
                  <a:pt x="566" y="2978"/>
                  <a:pt x="632" y="3016"/>
                </a:cubicBezTo>
                <a:cubicBezTo>
                  <a:pt x="642" y="3022"/>
                  <a:pt x="654" y="3025"/>
                  <a:pt x="664" y="3032"/>
                </a:cubicBezTo>
                <a:cubicBezTo>
                  <a:pt x="673" y="3039"/>
                  <a:pt x="677" y="3054"/>
                  <a:pt x="688" y="3056"/>
                </a:cubicBezTo>
                <a:cubicBezTo>
                  <a:pt x="741" y="3065"/>
                  <a:pt x="795" y="3061"/>
                  <a:pt x="848" y="3064"/>
                </a:cubicBezTo>
                <a:cubicBezTo>
                  <a:pt x="883" y="3088"/>
                  <a:pt x="908" y="3145"/>
                  <a:pt x="928" y="3184"/>
                </a:cubicBezTo>
                <a:cubicBezTo>
                  <a:pt x="932" y="3192"/>
                  <a:pt x="930" y="3202"/>
                  <a:pt x="936" y="3208"/>
                </a:cubicBezTo>
                <a:cubicBezTo>
                  <a:pt x="944" y="3216"/>
                  <a:pt x="957" y="3219"/>
                  <a:pt x="968" y="3224"/>
                </a:cubicBezTo>
                <a:cubicBezTo>
                  <a:pt x="1022" y="3197"/>
                  <a:pt x="1085" y="3218"/>
                  <a:pt x="1144" y="3224"/>
                </a:cubicBezTo>
                <a:cubicBezTo>
                  <a:pt x="1154" y="3275"/>
                  <a:pt x="1163" y="3306"/>
                  <a:pt x="1208" y="3336"/>
                </a:cubicBezTo>
                <a:cubicBezTo>
                  <a:pt x="1261" y="3333"/>
                  <a:pt x="1315" y="3335"/>
                  <a:pt x="1368" y="3328"/>
                </a:cubicBezTo>
                <a:cubicBezTo>
                  <a:pt x="1394" y="3325"/>
                  <a:pt x="1429" y="3296"/>
                  <a:pt x="1456" y="3288"/>
                </a:cubicBezTo>
                <a:cubicBezTo>
                  <a:pt x="1472" y="3283"/>
                  <a:pt x="1488" y="3277"/>
                  <a:pt x="1504" y="3272"/>
                </a:cubicBezTo>
                <a:cubicBezTo>
                  <a:pt x="1527" y="3264"/>
                  <a:pt x="1568" y="3240"/>
                  <a:pt x="1568" y="3240"/>
                </a:cubicBezTo>
                <a:cubicBezTo>
                  <a:pt x="1594" y="3201"/>
                  <a:pt x="1597" y="3216"/>
                  <a:pt x="1632" y="3240"/>
                </a:cubicBezTo>
                <a:cubicBezTo>
                  <a:pt x="1756" y="3233"/>
                  <a:pt x="1851" y="3262"/>
                  <a:pt x="1944" y="3200"/>
                </a:cubicBezTo>
                <a:cubicBezTo>
                  <a:pt x="1966" y="3135"/>
                  <a:pt x="1972" y="3048"/>
                  <a:pt x="2032" y="3008"/>
                </a:cubicBezTo>
                <a:cubicBezTo>
                  <a:pt x="2062" y="3011"/>
                  <a:pt x="2131" y="3009"/>
                  <a:pt x="2136" y="3032"/>
                </a:cubicBezTo>
                <a:cubicBezTo>
                  <a:pt x="2145" y="3072"/>
                  <a:pt x="2128" y="3183"/>
                  <a:pt x="2168" y="3208"/>
                </a:cubicBezTo>
                <a:cubicBezTo>
                  <a:pt x="2218" y="3239"/>
                  <a:pt x="2369" y="3231"/>
                  <a:pt x="2384" y="3232"/>
                </a:cubicBezTo>
                <a:cubicBezTo>
                  <a:pt x="2431" y="3263"/>
                  <a:pt x="2407" y="3311"/>
                  <a:pt x="2448" y="3344"/>
                </a:cubicBezTo>
                <a:cubicBezTo>
                  <a:pt x="2471" y="3363"/>
                  <a:pt x="2506" y="3356"/>
                  <a:pt x="2536" y="3360"/>
                </a:cubicBezTo>
                <a:cubicBezTo>
                  <a:pt x="2642" y="3354"/>
                  <a:pt x="2751" y="3335"/>
                  <a:pt x="2848" y="3384"/>
                </a:cubicBezTo>
                <a:cubicBezTo>
                  <a:pt x="2879" y="3425"/>
                  <a:pt x="2919" y="3456"/>
                  <a:pt x="2968" y="3472"/>
                </a:cubicBezTo>
                <a:cubicBezTo>
                  <a:pt x="3285" y="3448"/>
                  <a:pt x="3091" y="3467"/>
                  <a:pt x="3232" y="3432"/>
                </a:cubicBezTo>
                <a:cubicBezTo>
                  <a:pt x="3287" y="3395"/>
                  <a:pt x="3262" y="3406"/>
                  <a:pt x="3304" y="3392"/>
                </a:cubicBezTo>
                <a:cubicBezTo>
                  <a:pt x="3309" y="3384"/>
                  <a:pt x="3320" y="3378"/>
                  <a:pt x="3320" y="3368"/>
                </a:cubicBezTo>
                <a:cubicBezTo>
                  <a:pt x="3320" y="3326"/>
                  <a:pt x="3297" y="3267"/>
                  <a:pt x="3288" y="3224"/>
                </a:cubicBezTo>
                <a:cubicBezTo>
                  <a:pt x="3297" y="3159"/>
                  <a:pt x="3300" y="3151"/>
                  <a:pt x="3336" y="3096"/>
                </a:cubicBezTo>
                <a:cubicBezTo>
                  <a:pt x="3352" y="3072"/>
                  <a:pt x="3361" y="3022"/>
                  <a:pt x="3368" y="2992"/>
                </a:cubicBezTo>
                <a:cubicBezTo>
                  <a:pt x="3373" y="2944"/>
                  <a:pt x="3377" y="2908"/>
                  <a:pt x="3392" y="2864"/>
                </a:cubicBezTo>
                <a:cubicBezTo>
                  <a:pt x="3408" y="2661"/>
                  <a:pt x="3441" y="2452"/>
                  <a:pt x="3376" y="2256"/>
                </a:cubicBezTo>
                <a:cubicBezTo>
                  <a:pt x="3418" y="1963"/>
                  <a:pt x="3385" y="1664"/>
                  <a:pt x="3400" y="1368"/>
                </a:cubicBezTo>
                <a:cubicBezTo>
                  <a:pt x="3397" y="1069"/>
                  <a:pt x="3397" y="771"/>
                  <a:pt x="3392" y="472"/>
                </a:cubicBezTo>
                <a:cubicBezTo>
                  <a:pt x="3391" y="414"/>
                  <a:pt x="3350" y="362"/>
                  <a:pt x="3328" y="312"/>
                </a:cubicBezTo>
                <a:cubicBezTo>
                  <a:pt x="3318" y="289"/>
                  <a:pt x="3304" y="240"/>
                  <a:pt x="3304" y="240"/>
                </a:cubicBezTo>
                <a:cubicBezTo>
                  <a:pt x="3296" y="113"/>
                  <a:pt x="3311" y="122"/>
                  <a:pt x="3224" y="64"/>
                </a:cubicBezTo>
                <a:cubicBezTo>
                  <a:pt x="2907" y="143"/>
                  <a:pt x="2581" y="83"/>
                  <a:pt x="2264" y="48"/>
                </a:cubicBezTo>
                <a:cubicBezTo>
                  <a:pt x="2202" y="27"/>
                  <a:pt x="2136" y="21"/>
                  <a:pt x="2072" y="8"/>
                </a:cubicBezTo>
                <a:cubicBezTo>
                  <a:pt x="1971" y="11"/>
                  <a:pt x="1869" y="10"/>
                  <a:pt x="1768" y="16"/>
                </a:cubicBezTo>
                <a:cubicBezTo>
                  <a:pt x="1702" y="20"/>
                  <a:pt x="1655" y="47"/>
                  <a:pt x="1592" y="56"/>
                </a:cubicBezTo>
                <a:cubicBezTo>
                  <a:pt x="1555" y="51"/>
                  <a:pt x="1517" y="49"/>
                  <a:pt x="1480" y="40"/>
                </a:cubicBezTo>
                <a:cubicBezTo>
                  <a:pt x="1459" y="35"/>
                  <a:pt x="1438" y="28"/>
                  <a:pt x="1416" y="24"/>
                </a:cubicBezTo>
                <a:cubicBezTo>
                  <a:pt x="1370" y="15"/>
                  <a:pt x="1325" y="15"/>
                  <a:pt x="1280" y="0"/>
                </a:cubicBezTo>
                <a:cubicBezTo>
                  <a:pt x="1021" y="9"/>
                  <a:pt x="763" y="21"/>
                  <a:pt x="504" y="32"/>
                </a:cubicBezTo>
                <a:cubicBezTo>
                  <a:pt x="480" y="35"/>
                  <a:pt x="456" y="39"/>
                  <a:pt x="432" y="40"/>
                </a:cubicBezTo>
                <a:cubicBezTo>
                  <a:pt x="328" y="44"/>
                  <a:pt x="224" y="41"/>
                  <a:pt x="120" y="48"/>
                </a:cubicBezTo>
                <a:cubicBezTo>
                  <a:pt x="102" y="49"/>
                  <a:pt x="90" y="71"/>
                  <a:pt x="72" y="72"/>
                </a:cubicBezTo>
                <a:cubicBezTo>
                  <a:pt x="48" y="74"/>
                  <a:pt x="24" y="72"/>
                  <a:pt x="0" y="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6"/>
          <p:cNvSpPr/>
          <p:nvPr/>
        </p:nvSpPr>
        <p:spPr>
          <a:xfrm>
            <a:off x="8318520" y="5243400"/>
            <a:ext cx="803160" cy="954360"/>
          </a:xfrm>
          <a:custGeom>
            <a:avLst/>
            <a:gdLst/>
            <a:ahLst/>
            <a:rect l="l" t="t" r="r" b="b"/>
            <a:pathLst>
              <a:path w="506" h="601">
                <a:moveTo>
                  <a:pt x="0" y="25"/>
                </a:moveTo>
                <a:cubicBezTo>
                  <a:pt x="32" y="36"/>
                  <a:pt x="38" y="50"/>
                  <a:pt x="48" y="81"/>
                </a:cubicBezTo>
                <a:cubicBezTo>
                  <a:pt x="51" y="124"/>
                  <a:pt x="43" y="168"/>
                  <a:pt x="56" y="209"/>
                </a:cubicBezTo>
                <a:cubicBezTo>
                  <a:pt x="76" y="272"/>
                  <a:pt x="175" y="283"/>
                  <a:pt x="224" y="289"/>
                </a:cubicBezTo>
                <a:cubicBezTo>
                  <a:pt x="246" y="304"/>
                  <a:pt x="253" y="304"/>
                  <a:pt x="264" y="329"/>
                </a:cubicBezTo>
                <a:cubicBezTo>
                  <a:pt x="271" y="344"/>
                  <a:pt x="280" y="377"/>
                  <a:pt x="280" y="377"/>
                </a:cubicBezTo>
                <a:cubicBezTo>
                  <a:pt x="274" y="449"/>
                  <a:pt x="269" y="482"/>
                  <a:pt x="256" y="545"/>
                </a:cubicBezTo>
                <a:cubicBezTo>
                  <a:pt x="275" y="601"/>
                  <a:pt x="256" y="598"/>
                  <a:pt x="296" y="585"/>
                </a:cubicBezTo>
                <a:cubicBezTo>
                  <a:pt x="305" y="549"/>
                  <a:pt x="307" y="525"/>
                  <a:pt x="344" y="513"/>
                </a:cubicBezTo>
                <a:cubicBezTo>
                  <a:pt x="363" y="516"/>
                  <a:pt x="382" y="514"/>
                  <a:pt x="400" y="521"/>
                </a:cubicBezTo>
                <a:cubicBezTo>
                  <a:pt x="418" y="528"/>
                  <a:pt x="430" y="547"/>
                  <a:pt x="448" y="553"/>
                </a:cubicBezTo>
                <a:cubicBezTo>
                  <a:pt x="456" y="556"/>
                  <a:pt x="464" y="558"/>
                  <a:pt x="472" y="561"/>
                </a:cubicBezTo>
                <a:cubicBezTo>
                  <a:pt x="493" y="554"/>
                  <a:pt x="504" y="557"/>
                  <a:pt x="504" y="529"/>
                </a:cubicBezTo>
                <a:cubicBezTo>
                  <a:pt x="504" y="377"/>
                  <a:pt x="506" y="225"/>
                  <a:pt x="496" y="73"/>
                </a:cubicBezTo>
                <a:cubicBezTo>
                  <a:pt x="495" y="64"/>
                  <a:pt x="454" y="50"/>
                  <a:pt x="448" y="49"/>
                </a:cubicBezTo>
                <a:cubicBezTo>
                  <a:pt x="413" y="45"/>
                  <a:pt x="379" y="42"/>
                  <a:pt x="344" y="41"/>
                </a:cubicBezTo>
                <a:cubicBezTo>
                  <a:pt x="237" y="37"/>
                  <a:pt x="131" y="36"/>
                  <a:pt x="24" y="33"/>
                </a:cubicBezTo>
                <a:cubicBezTo>
                  <a:pt x="5" y="4"/>
                  <a:pt x="12" y="0"/>
                  <a:pt x="0" y="2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492000" y="2060280"/>
            <a:ext cx="576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Опасности</a:t>
            </a:r>
            <a:br>
              <a:rPr sz="4400"/>
            </a:b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 в лесу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довитое раст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Ландыш майск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сканирование0205"/>
          <p:cNvPicPr/>
          <p:nvPr/>
        </p:nvPicPr>
        <p:blipFill>
          <a:blip r:embed="rId1"/>
          <a:srcRect l="64464" t="0" r="-31" b="-23"/>
          <a:stretch/>
        </p:blipFill>
        <p:spPr>
          <a:xfrm>
            <a:off x="4859280" y="1557360"/>
            <a:ext cx="3214800" cy="417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сканирование0204"/>
          <p:cNvPicPr/>
          <p:nvPr/>
        </p:nvPicPr>
        <p:blipFill>
          <a:blip r:embed="rId2"/>
          <a:srcRect l="0" t="0" r="-21" b="16"/>
          <a:stretch/>
        </p:blipFill>
        <p:spPr>
          <a:xfrm>
            <a:off x="1258920" y="1844640"/>
            <a:ext cx="3213000" cy="432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a311"/>
          <p:cNvPicPr/>
          <p:nvPr/>
        </p:nvPicPr>
        <p:blipFill>
          <a:blip r:embed="rId3"/>
          <a:stretch/>
        </p:blipFill>
        <p:spPr>
          <a:xfrm>
            <a:off x="7785000" y="0"/>
            <a:ext cx="1359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довитое раст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Бел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сканирование0205"/>
          <p:cNvPicPr/>
          <p:nvPr/>
        </p:nvPicPr>
        <p:blipFill>
          <a:blip r:embed="rId1"/>
          <a:srcRect l="0" t="6284" r="70965" b="-23"/>
          <a:stretch/>
        </p:blipFill>
        <p:spPr>
          <a:xfrm>
            <a:off x="2195640" y="1341360"/>
            <a:ext cx="4671720" cy="5372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a311"/>
          <p:cNvPicPr/>
          <p:nvPr/>
        </p:nvPicPr>
        <p:blipFill>
          <a:blip r:embed="rId2"/>
          <a:stretch/>
        </p:blipFill>
        <p:spPr>
          <a:xfrm>
            <a:off x="7785000" y="0"/>
            <a:ext cx="1359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довит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3860280"/>
            <a:ext cx="856944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шина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зина красн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чье лык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Паслён чё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сканирование0202"/>
          <p:cNvPicPr/>
          <p:nvPr/>
        </p:nvPicPr>
        <p:blipFill>
          <a:blip r:embed="rId1"/>
          <a:srcRect l="0" t="57401" r="-55" b="0"/>
          <a:stretch/>
        </p:blipFill>
        <p:spPr>
          <a:xfrm>
            <a:off x="0" y="1268280"/>
            <a:ext cx="4284720" cy="259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сканирование0202"/>
          <p:cNvPicPr/>
          <p:nvPr/>
        </p:nvPicPr>
        <p:blipFill>
          <a:blip r:embed="rId2"/>
          <a:srcRect l="0" t="0" r="1782" b="51218"/>
          <a:stretch/>
        </p:blipFill>
        <p:spPr>
          <a:xfrm>
            <a:off x="4643280" y="1254240"/>
            <a:ext cx="3961080" cy="2606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сканирование0205"/>
          <p:cNvPicPr/>
          <p:nvPr/>
        </p:nvPicPr>
        <p:blipFill>
          <a:blip r:embed="rId3">
            <a:lum bright="6000"/>
          </a:blip>
          <a:srcRect l="0" t="0" r="-31" b="-23"/>
          <a:stretch/>
        </p:blipFill>
        <p:spPr>
          <a:xfrm>
            <a:off x="971640" y="4267080"/>
            <a:ext cx="6730920" cy="2114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1258920" y="6308640"/>
            <a:ext cx="76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е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Вороний гл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Ланды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24000" y="4221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алящие насеком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сканирование0206"/>
          <p:cNvPicPr/>
          <p:nvPr/>
        </p:nvPicPr>
        <p:blipFill>
          <a:blip r:embed="rId1"/>
          <a:srcRect l="0" t="0" r="-16" b="99"/>
          <a:stretch/>
        </p:blipFill>
        <p:spPr>
          <a:xfrm>
            <a:off x="971640" y="1052640"/>
            <a:ext cx="7164360" cy="5194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863640" y="6237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че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. Шм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4. Шерш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843280" y="5661000"/>
            <a:ext cx="433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7740720" y="3429000"/>
            <a:ext cx="433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2484360" y="494172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7956720" y="3357720"/>
            <a:ext cx="4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a311"/>
          <p:cNvPicPr/>
          <p:nvPr/>
        </p:nvPicPr>
        <p:blipFill>
          <a:blip r:embed="rId2"/>
          <a:stretch/>
        </p:blipFill>
        <p:spPr>
          <a:xfrm>
            <a:off x="8059680" y="0"/>
            <a:ext cx="1084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сканирование0208"/>
          <p:cNvPicPr/>
          <p:nvPr/>
        </p:nvPicPr>
        <p:blipFill>
          <a:blip r:embed="rId1"/>
          <a:srcRect l="0" t="0" r="-82" b="0"/>
          <a:stretch/>
        </p:blipFill>
        <p:spPr>
          <a:xfrm>
            <a:off x="1763640" y="981000"/>
            <a:ext cx="4969080" cy="5094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a311"/>
          <p:cNvPicPr/>
          <p:nvPr/>
        </p:nvPicPr>
        <p:blipFill>
          <a:blip r:embed="rId2"/>
          <a:stretch/>
        </p:blipFill>
        <p:spPr>
          <a:xfrm>
            <a:off x="7785000" y="0"/>
            <a:ext cx="1359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а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сканирование0207"/>
          <p:cNvPicPr/>
          <p:nvPr/>
        </p:nvPicPr>
        <p:blipFill>
          <a:blip r:embed="rId1"/>
          <a:srcRect l="0" t="0" r="0" b="22"/>
          <a:stretch/>
        </p:blipFill>
        <p:spPr>
          <a:xfrm>
            <a:off x="755640" y="1268280"/>
            <a:ext cx="77454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a311"/>
          <p:cNvPicPr/>
          <p:nvPr/>
        </p:nvPicPr>
        <p:blipFill>
          <a:blip r:embed="rId2"/>
          <a:stretch/>
        </p:blipFill>
        <p:spPr>
          <a:xfrm>
            <a:off x="7785000" y="0"/>
            <a:ext cx="1359000" cy="28526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"/>
          <p:cNvSpPr/>
          <p:nvPr/>
        </p:nvSpPr>
        <p:spPr>
          <a:xfrm>
            <a:off x="792000" y="573264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из этих существ являются переносчиками таких болезней как малярия, денге, жёлтая лихорадка, энцефалит, лихорадка Зика и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ук-каракур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Объект 3" descr=""/>
          <p:cNvPicPr/>
          <p:nvPr/>
        </p:nvPicPr>
        <p:blipFill>
          <a:blip r:embed="rId1"/>
          <a:stretch/>
        </p:blipFill>
        <p:spPr>
          <a:xfrm rot="16414800">
            <a:off x="3334320" y="1216080"/>
            <a:ext cx="3292200" cy="39322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755640" y="5661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ус самки куракурта (черной вдовы) для человека смерте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жьи кор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237960" y="5732640"/>
            <a:ext cx="865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гут быть ядовиты тем что в их крови, находятся ядовитые вещества. Если оно попадает в кровь или на слизистую, всё может плохо кончиться, в том числе и смертельным исх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Объект 6" descr=""/>
          <p:cNvPicPr/>
          <p:nvPr/>
        </p:nvPicPr>
        <p:blipFill>
          <a:blip r:embed="rId1"/>
          <a:stretch/>
        </p:blipFill>
        <p:spPr>
          <a:xfrm>
            <a:off x="2627280" y="1452600"/>
            <a:ext cx="51134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рав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Объект 3" descr=""/>
          <p:cNvPicPr/>
          <p:nvPr/>
        </p:nvPicPr>
        <p:blipFill>
          <a:blip r:embed="rId1"/>
          <a:stretch/>
        </p:blipFill>
        <p:spPr>
          <a:xfrm>
            <a:off x="1093680" y="1197000"/>
            <a:ext cx="6054840" cy="3817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a311"/>
          <p:cNvPicPr/>
          <p:nvPr/>
        </p:nvPicPr>
        <p:blipFill>
          <a:blip r:embed="rId2"/>
          <a:stretch/>
        </p:blipFill>
        <p:spPr>
          <a:xfrm>
            <a:off x="7785000" y="0"/>
            <a:ext cx="1359000" cy="28526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1332000" y="5084640"/>
            <a:ext cx="64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усы муравья могут вызывать аллергическую реакцию и анаболический ш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защитить себя от укуса насеком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ближаться, особенно в жаркие дни, к пчелиным ульям. Вблизи них 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зорять осиные гнёз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жалящее насекомое залетело в комнату, не гоняйся за ним, а открой по шире окно и подожди, пока оно вылет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ьте осторожна, когда едите или пьете, чтобы оса не ужалила вас  в язык или гу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BD21313_"/>
          <p:cNvPicPr/>
          <p:nvPr/>
        </p:nvPicPr>
        <p:blipFill>
          <a:blip r:embed="rId1"/>
          <a:stretch/>
        </p:blipFill>
        <p:spPr>
          <a:xfrm>
            <a:off x="179280" y="6237360"/>
            <a:ext cx="8713800" cy="417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a395"/>
          <p:cNvPicPr/>
          <p:nvPr/>
        </p:nvPicPr>
        <p:blipFill>
          <a:blip r:embed="rId2"/>
          <a:stretch/>
        </p:blipFill>
        <p:spPr>
          <a:xfrm>
            <a:off x="0" y="0"/>
            <a:ext cx="1203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728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,какие опасности могут подстерегать нас в л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ся правилам поведения при таких опасност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BD21313_"/>
          <p:cNvPicPr/>
          <p:nvPr/>
        </p:nvPicPr>
        <p:blipFill>
          <a:blip r:embed="rId1"/>
          <a:stretch/>
        </p:blipFill>
        <p:spPr>
          <a:xfrm>
            <a:off x="179280" y="6237360"/>
            <a:ext cx="87138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вы заблудились в лес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оддаваться па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лушаться к звукам и идти на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ти по течению реки или руч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бросать товарищей, держаться ря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BD21313_"/>
          <p:cNvPicPr/>
          <p:nvPr/>
        </p:nvPicPr>
        <p:blipFill>
          <a:blip r:embed="rId1"/>
          <a:stretch/>
        </p:blipFill>
        <p:spPr>
          <a:xfrm>
            <a:off x="179280" y="6237360"/>
            <a:ext cx="8713800" cy="417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a395"/>
          <p:cNvPicPr/>
          <p:nvPr/>
        </p:nvPicPr>
        <p:blipFill>
          <a:blip r:embed="rId2"/>
          <a:stretch/>
        </p:blipFill>
        <p:spPr>
          <a:xfrm>
            <a:off x="0" y="0"/>
            <a:ext cx="1203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7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 «Вставь слово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ям не игруш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ставляйте без присмотра включенны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играйте с …, … и другими жидкостями, которые могут вспых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о не пытайтесь растаплива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ожаре звони по телефон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уши горящий телевизор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D21313_"/>
          <p:cNvPicPr/>
          <p:nvPr/>
        </p:nvPicPr>
        <p:blipFill>
          <a:blip r:embed="rId1"/>
          <a:stretch/>
        </p:blipFill>
        <p:spPr>
          <a:xfrm>
            <a:off x="179280" y="6237360"/>
            <a:ext cx="87138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0360" y="1844280"/>
            <a:ext cx="446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   г    о    л   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916360" y="2060640"/>
          <a:ext cx="4038480" cy="82080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258920" y="2924280"/>
          <a:ext cx="6553080" cy="820800"/>
        </p:xfrm>
        <a:graphic>
          <a:graphicData uri="http://schemas.openxmlformats.org/drawingml/2006/table">
            <a:tbl>
              <a:tblPr/>
              <a:tblGrid>
                <a:gridCol w="819000"/>
                <a:gridCol w="819360"/>
                <a:gridCol w="826920"/>
                <a:gridCol w="811440"/>
                <a:gridCol w="819000"/>
                <a:gridCol w="819000"/>
                <a:gridCol w="819360"/>
                <a:gridCol w="8190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572000" y="3789360"/>
          <a:ext cx="4032360" cy="858960"/>
        </p:xfrm>
        <a:graphic>
          <a:graphicData uri="http://schemas.openxmlformats.org/drawingml/2006/table">
            <a:tbl>
              <a:tblPr/>
              <a:tblGrid>
                <a:gridCol w="806400"/>
                <a:gridCol w="806400"/>
                <a:gridCol w="806400"/>
                <a:gridCol w="806760"/>
                <a:gridCol w="806400"/>
              </a:tblGrid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81"/>
          <p:cNvSpPr/>
          <p:nvPr/>
        </p:nvSpPr>
        <p:spPr>
          <a:xfrm>
            <a:off x="5364000" y="2060640"/>
            <a:ext cx="792360" cy="259236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5"/>
          <p:cNvSpPr/>
          <p:nvPr/>
        </p:nvSpPr>
        <p:spPr>
          <a:xfrm>
            <a:off x="4284720" y="3573360"/>
            <a:ext cx="446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   с    к    р  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6"/>
          <p:cNvSpPr/>
          <p:nvPr/>
        </p:nvSpPr>
        <p:spPr>
          <a:xfrm>
            <a:off x="900000" y="2708280"/>
            <a:ext cx="727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   и    г    а   р   е   т  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7"/>
          <p:cNvSpPr/>
          <p:nvPr/>
        </p:nvSpPr>
        <p:spPr>
          <a:xfrm>
            <a:off x="2411280" y="260280"/>
            <a:ext cx="44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ссво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8" descr="BD21313_"/>
          <p:cNvPicPr/>
          <p:nvPr/>
        </p:nvPicPr>
        <p:blipFill>
          <a:blip r:embed="rId1"/>
          <a:stretch/>
        </p:blipFill>
        <p:spPr>
          <a:xfrm>
            <a:off x="179280" y="6237360"/>
            <a:ext cx="8713800" cy="417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9"/>
          <p:cNvSpPr/>
          <p:nvPr/>
        </p:nvSpPr>
        <p:spPr>
          <a:xfrm>
            <a:off x="2484360" y="220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0"/>
          <p:cNvSpPr/>
          <p:nvPr/>
        </p:nvSpPr>
        <p:spPr>
          <a:xfrm>
            <a:off x="4140360" y="40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1"/>
          <p:cNvSpPr/>
          <p:nvPr/>
        </p:nvSpPr>
        <p:spPr>
          <a:xfrm>
            <a:off x="826920" y="3141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2" descr="a311"/>
          <p:cNvPicPr/>
          <p:nvPr/>
        </p:nvPicPr>
        <p:blipFill>
          <a:blip r:embed="rId2"/>
          <a:stretch/>
        </p:blipFill>
        <p:spPr>
          <a:xfrm>
            <a:off x="7602480" y="189000"/>
            <a:ext cx="123516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4" descr="a395"/>
          <p:cNvPicPr/>
          <p:nvPr/>
        </p:nvPicPr>
        <p:blipFill>
          <a:blip r:embed="rId3"/>
          <a:stretch/>
        </p:blipFill>
        <p:spPr>
          <a:xfrm>
            <a:off x="0" y="0"/>
            <a:ext cx="1809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ъедобные гриб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3357360"/>
            <a:ext cx="84963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я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Опя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Сырое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сканирование0200"/>
          <p:cNvPicPr/>
          <p:nvPr/>
        </p:nvPicPr>
        <p:blipFill>
          <a:blip r:embed="rId1">
            <a:lum bright="12000"/>
          </a:blip>
          <a:srcRect l="22714" t="6027" r="7620" b="71136"/>
          <a:stretch/>
        </p:blipFill>
        <p:spPr>
          <a:xfrm>
            <a:off x="324000" y="1125360"/>
            <a:ext cx="5003640" cy="223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сканирование0200"/>
          <p:cNvPicPr/>
          <p:nvPr/>
        </p:nvPicPr>
        <p:blipFill>
          <a:blip r:embed="rId2">
            <a:lum bright="12000"/>
          </a:blip>
          <a:srcRect l="16161" t="61107" r="7620" b="13042"/>
          <a:stretch/>
        </p:blipFill>
        <p:spPr>
          <a:xfrm>
            <a:off x="468360" y="3860640"/>
            <a:ext cx="5148360" cy="237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сканирование0200"/>
          <p:cNvPicPr/>
          <p:nvPr/>
        </p:nvPicPr>
        <p:blipFill>
          <a:blip r:embed="rId3">
            <a:lum bright="12000"/>
          </a:blip>
          <a:srcRect l="19964" t="34041" r="43828" b="42075"/>
          <a:stretch/>
        </p:blipFill>
        <p:spPr>
          <a:xfrm>
            <a:off x="5991120" y="1197000"/>
            <a:ext cx="2325960" cy="208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сканирование0200"/>
          <p:cNvPicPr/>
          <p:nvPr/>
        </p:nvPicPr>
        <p:blipFill>
          <a:blip r:embed="rId4">
            <a:lum bright="12000"/>
          </a:blip>
          <a:srcRect l="57372" t="34041" r="6420" b="42239"/>
          <a:stretch/>
        </p:blipFill>
        <p:spPr>
          <a:xfrm>
            <a:off x="6100920" y="3860640"/>
            <a:ext cx="2503440" cy="2232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468360" y="616572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й гри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ров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ичк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довит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сканирование0201"/>
          <p:cNvPicPr/>
          <p:nvPr/>
        </p:nvPicPr>
        <p:blipFill>
          <a:blip r:embed="rId1"/>
          <a:srcRect l="0" t="68795" r="38" b="1246"/>
          <a:stretch/>
        </p:blipFill>
        <p:spPr>
          <a:xfrm>
            <a:off x="3419640" y="4021200"/>
            <a:ext cx="4857480" cy="21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сканирование0201"/>
          <p:cNvPicPr/>
          <p:nvPr/>
        </p:nvPicPr>
        <p:blipFill>
          <a:blip r:embed="rId2"/>
          <a:srcRect l="59122" t="33960" r="245" b="37518"/>
          <a:stretch/>
        </p:blipFill>
        <p:spPr>
          <a:xfrm>
            <a:off x="611280" y="3933720"/>
            <a:ext cx="2089080" cy="215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сканирование0201"/>
          <p:cNvPicPr/>
          <p:nvPr/>
        </p:nvPicPr>
        <p:blipFill>
          <a:blip r:embed="rId3"/>
          <a:srcRect l="3685" t="32693" r="51179" b="35641"/>
          <a:stretch/>
        </p:blipFill>
        <p:spPr>
          <a:xfrm>
            <a:off x="6372360" y="1341360"/>
            <a:ext cx="216036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сканирование0201"/>
          <p:cNvPicPr/>
          <p:nvPr/>
        </p:nvPicPr>
        <p:blipFill>
          <a:blip r:embed="rId4"/>
          <a:srcRect l="3685" t="0" r="2553" b="71803"/>
          <a:stretch/>
        </p:blipFill>
        <p:spPr>
          <a:xfrm>
            <a:off x="395280" y="1268280"/>
            <a:ext cx="5040360" cy="2232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250920" y="3573360"/>
            <a:ext cx="851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дная поганка      Сатанинский гриб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ухом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95280" y="609300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ный белый        Ложные лисички          Ложные опя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a311"/>
          <p:cNvPicPr/>
          <p:nvPr/>
        </p:nvPicPr>
        <p:blipFill>
          <a:blip r:embed="rId5"/>
          <a:stretch/>
        </p:blipFill>
        <p:spPr>
          <a:xfrm>
            <a:off x="7785000" y="0"/>
            <a:ext cx="1359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ери лукош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сканирование0201"/>
          <p:cNvPicPr/>
          <p:nvPr/>
        </p:nvPicPr>
        <p:blipFill>
          <a:blip r:embed="rId1"/>
          <a:srcRect l="3685" t="32693" r="51179" b="36341"/>
          <a:stretch/>
        </p:blipFill>
        <p:spPr>
          <a:xfrm>
            <a:off x="826920" y="1197000"/>
            <a:ext cx="1889280" cy="2374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сканирование0201"/>
          <p:cNvPicPr/>
          <p:nvPr/>
        </p:nvPicPr>
        <p:blipFill>
          <a:blip r:embed="rId2"/>
          <a:srcRect l="3685" t="0" r="50745" b="71803"/>
          <a:stretch/>
        </p:blipFill>
        <p:spPr>
          <a:xfrm>
            <a:off x="324000" y="4005360"/>
            <a:ext cx="2449440" cy="223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сканирование0200"/>
          <p:cNvPicPr/>
          <p:nvPr/>
        </p:nvPicPr>
        <p:blipFill>
          <a:blip r:embed="rId3">
            <a:lum bright="12000"/>
          </a:blip>
          <a:srcRect l="22714" t="6027" r="45218" b="71136"/>
          <a:stretch/>
        </p:blipFill>
        <p:spPr>
          <a:xfrm>
            <a:off x="6227640" y="3933720"/>
            <a:ext cx="2303640" cy="22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сканирование0200"/>
          <p:cNvPicPr/>
          <p:nvPr/>
        </p:nvPicPr>
        <p:blipFill>
          <a:blip r:embed="rId4">
            <a:lum bright="12000"/>
          </a:blip>
          <a:srcRect l="60820" t="6306" r="7620" b="70126"/>
          <a:stretch/>
        </p:blipFill>
        <p:spPr>
          <a:xfrm>
            <a:off x="3276720" y="1341360"/>
            <a:ext cx="2266920" cy="230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сканирование0200"/>
          <p:cNvPicPr/>
          <p:nvPr/>
        </p:nvPicPr>
        <p:blipFill>
          <a:blip r:embed="rId5">
            <a:lum bright="12000"/>
          </a:blip>
          <a:srcRect l="19964" t="34041" r="43828" b="42075"/>
          <a:stretch/>
        </p:blipFill>
        <p:spPr>
          <a:xfrm>
            <a:off x="3348000" y="4005360"/>
            <a:ext cx="2325600" cy="208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сканирование0201"/>
          <p:cNvPicPr/>
          <p:nvPr/>
        </p:nvPicPr>
        <p:blipFill>
          <a:blip r:embed="rId6"/>
          <a:srcRect l="54852" t="68795" r="38" b="21"/>
          <a:stretch/>
        </p:blipFill>
        <p:spPr>
          <a:xfrm>
            <a:off x="6443640" y="1268280"/>
            <a:ext cx="2192400" cy="223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198144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95852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5294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00580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212616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795852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7" descr="a395"/>
          <p:cNvPicPr/>
          <p:nvPr/>
        </p:nvPicPr>
        <p:blipFill>
          <a:blip r:embed="rId7"/>
          <a:stretch/>
        </p:blipFill>
        <p:spPr>
          <a:xfrm>
            <a:off x="0" y="0"/>
            <a:ext cx="1203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довитое раст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олчье лы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сканирование0202"/>
          <p:cNvPicPr/>
          <p:nvPr/>
        </p:nvPicPr>
        <p:blipFill>
          <a:blip r:embed="rId1"/>
          <a:srcRect l="0" t="0" r="54962" b="51218"/>
          <a:stretch/>
        </p:blipFill>
        <p:spPr>
          <a:xfrm>
            <a:off x="2627280" y="1484280"/>
            <a:ext cx="4194360" cy="5145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106835400" y="105732360"/>
            <a:ext cx="6228000" cy="8891640"/>
          </a:xfrm>
          <a:prstGeom prst="rect">
            <a:avLst/>
          </a:prstGeom>
          <a:noFill/>
          <a:ln w="272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07051400" y="105948000"/>
            <a:ext cx="6228000" cy="8891640"/>
          </a:xfrm>
          <a:prstGeom prst="rect">
            <a:avLst/>
          </a:prstGeom>
          <a:noFill/>
          <a:ln w="272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07267400" y="106164000"/>
            <a:ext cx="6227640" cy="8891640"/>
          </a:xfrm>
          <a:prstGeom prst="rect">
            <a:avLst/>
          </a:prstGeom>
          <a:noFill/>
          <a:ln w="272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a311"/>
          <p:cNvPicPr/>
          <p:nvPr/>
        </p:nvPicPr>
        <p:blipFill>
          <a:blip r:embed="rId2"/>
          <a:stretch/>
        </p:blipFill>
        <p:spPr>
          <a:xfrm>
            <a:off x="7785000" y="0"/>
            <a:ext cx="1359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довитое раст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ороний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сканирование0205"/>
          <p:cNvPicPr/>
          <p:nvPr/>
        </p:nvPicPr>
        <p:blipFill>
          <a:blip r:embed="rId1"/>
          <a:srcRect l="25104" t="1692" r="35536" b="-23"/>
          <a:stretch/>
        </p:blipFill>
        <p:spPr>
          <a:xfrm>
            <a:off x="2268360" y="1413000"/>
            <a:ext cx="4429440" cy="511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a311"/>
          <p:cNvPicPr/>
          <p:nvPr/>
        </p:nvPicPr>
        <p:blipFill>
          <a:blip r:embed="rId2"/>
          <a:stretch/>
        </p:blipFill>
        <p:spPr>
          <a:xfrm>
            <a:off x="7785000" y="0"/>
            <a:ext cx="1359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21:03:29Z</dcterms:created>
  <dc:creator>XTreme</dc:creator>
  <dc:description/>
  <dc:language>en-US</dc:language>
  <cp:lastModifiedBy>Наташа</cp:lastModifiedBy>
  <dcterms:modified xsi:type="dcterms:W3CDTF">2017-10-15T10:43:10Z</dcterms:modified>
  <cp:revision>18</cp:revision>
  <dc:subject/>
  <dc:title>Опасности в лесу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140000000000010292010207f7000400038000</vt:lpwstr>
  </property>
</Properties>
</file>