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680-969F-4B21-B822-5977F9C3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200-F469-4A6E-9C98-D0F039F8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234-CA7E-4592-8765-CA1BF603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FC2-01D3-48D4-B2EA-604B1D1C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D5CA-0C6F-45A8-8E3B-805036A4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919D-F144-48CC-A6D9-D1D60046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0133-1EEA-4FBF-A061-D237B38F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E419-E2C3-4473-B893-CF14E00E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FFCE-F8D9-4BBA-BAF6-EB6742AC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A1C4-DE51-4253-9AA6-D907B7D3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C212-AD5E-4A92-B2D1-64A417CC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8CE-50E4-49B6-B94C-5BB3C88C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BA35-766C-4978-9EE5-7D59EB09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30DE-6C3F-4BCD-B95E-6CDDE445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B9EE-86FC-4323-8105-99458A36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9149-9B03-4DC6-A298-25392B41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E842-E26A-470C-9A83-8907B60B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B86-7A1D-4E69-9757-CBF457EB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A37-B073-4997-9841-923FBEF8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79B-93D1-4B28-9B9E-7EC09B44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E70-5686-4E4D-AC1A-32E5CA65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0C8-8692-4018-B153-C413BB4A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9F1-BC50-4D70-9088-70FA476F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3AF-44BD-446A-A072-B15FEB61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BC23-FA2D-4296-B75C-6864B5838188}" type="slidenum">
              <a:rPr b="0" lang="ru-RU" sz="1200" spc="-1" strike="noStrike">
                <a:solidFill>
                  <a:srgbClr val="e3e1d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54BE-E4B1-4D1A-9CD0-6EDEB271E995}" type="slidenum">
              <a:rPr b="0" lang="ru-RU" sz="1200" spc="-1" strike="noStrike">
                <a:solidFill>
                  <a:srgbClr val="e3e1d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55640" y="2060640"/>
            <a:ext cx="79344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мэ: "Мохошогүй зүрхэтэй </a:t>
            </a:r>
            <a:endParaRPr b="1" lang="en-US" sz="4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орин эрдэни"</a:t>
            </a:r>
            <a:endParaRPr b="1" lang="en-US" sz="4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364500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(А. Лыгденовэй “Морин хуур” гэһэн рассказай жэшээ дээрэ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3521160" cy="511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3835440" cy="5113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95640" y="5661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Чингис хаанай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м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409080" cy="4381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8000" y="1890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>
                <a:solidFill>
                  <a:srgbClr val="ff6600"/>
                </a:solidFill>
                <a:latin typeface="Arial"/>
              </a:rPr>
              <a:t>Морин хуу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721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685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kk-KZ" sz="2000" spc="-1" strike="noStrike">
                <a:solidFill>
                  <a:srgbClr val="ffffff"/>
                </a:solidFill>
                <a:latin typeface="Constantia"/>
              </a:rPr>
              <a:t>Зэрлиг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h</a:t>
            </a:r>
            <a:r>
              <a:rPr b="0" lang="kk-KZ" sz="2000" spc="-1" strike="noStrike">
                <a:solidFill>
                  <a:srgbClr val="ffffff"/>
                </a:solidFill>
                <a:latin typeface="Constantia"/>
              </a:rPr>
              <a:t>арлаг- дикий як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kk-KZ" sz="2000" spc="-1" strike="noStrike">
                <a:solidFill>
                  <a:srgbClr val="ffffff"/>
                </a:solidFill>
                <a:latin typeface="Constantia"/>
              </a:rPr>
              <a:t>Номо годли- лук и стрел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kk-KZ" sz="2000" spc="-1" strike="noStrike">
                <a:solidFill>
                  <a:srgbClr val="ffffff"/>
                </a:solidFill>
                <a:latin typeface="Constantia"/>
              </a:rPr>
              <a:t>Дэл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h</a:t>
            </a:r>
            <a:r>
              <a:rPr b="0" lang="kk-KZ" sz="2000" spc="-1" strike="noStrike">
                <a:solidFill>
                  <a:srgbClr val="ffffff"/>
                </a:solidFill>
                <a:latin typeface="Constantia"/>
              </a:rPr>
              <a:t>эн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грив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зарга морин- жеребец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mn-Cyrl-MN" sz="2000" spc="-1" strike="noStrike">
                <a:solidFill>
                  <a:srgbClr val="ffffff"/>
                </a:solidFill>
                <a:latin typeface="Constantia"/>
              </a:rPr>
              <a:t>М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хошогуй  - непритупляемый</a:t>
            </a:r>
            <a:r>
              <a:rPr b="0" lang="mn-Cyrl-MN" sz="2000" spc="-1" strike="noStrike">
                <a:solidFill>
                  <a:srgbClr val="ffffff"/>
                </a:solidFill>
                <a:latin typeface="Constantia"/>
              </a:rPr>
              <a:t>, несгибаемый, неунываю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щ</a:t>
            </a:r>
            <a:r>
              <a:rPr b="0" lang="mn-Cyrl-MN" sz="2000" spc="-1" strike="noStrike">
                <a:solidFill>
                  <a:srgbClr val="ffffff"/>
                </a:solidFill>
                <a:latin typeface="Constantia"/>
              </a:rPr>
              <a:t>и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Заголовок 1"/>
          <p:cNvSpPr/>
          <p:nvPr/>
        </p:nvSpPr>
        <p:spPr>
          <a:xfrm>
            <a:off x="1042920" y="76500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Шэнэ </a:t>
            </a:r>
            <a:r>
              <a:rPr b="1" lang="kk-KZ" sz="2800" spc="-1" strike="noStrike">
                <a:solidFill>
                  <a:srgbClr val="ff6600"/>
                </a:solidFill>
                <a:latin typeface="Times New Roman"/>
              </a:rPr>
              <a:t>ү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гэн</a:t>
            </a:r>
            <a:r>
              <a:rPr b="1" lang="mn-Cyrl-MN" sz="2800" spc="-1" strike="noStrike">
                <a:solidFill>
                  <a:srgbClr val="ff6600"/>
                </a:solidFill>
                <a:latin typeface="Times New Roman"/>
              </a:rPr>
              <a:t>үү</a:t>
            </a:r>
            <a:r>
              <a:rPr b="1" lang="kk-KZ" sz="2800" spc="-1" strike="noStrike">
                <a:solidFill>
                  <a:srgbClr val="ff6600"/>
                </a:solidFill>
                <a:latin typeface="Times New Roman"/>
              </a:rPr>
              <a:t>дэй то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52"/>
          <p:cNvPicPr/>
          <p:nvPr/>
        </p:nvPicPr>
        <p:blipFill>
          <a:blip r:embed="rId2"/>
          <a:stretch/>
        </p:blipFill>
        <p:spPr>
          <a:xfrm>
            <a:off x="4643280" y="907920"/>
            <a:ext cx="4067280" cy="3052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6"/>
          <p:cNvPicPr/>
          <p:nvPr/>
        </p:nvPicPr>
        <p:blipFill>
          <a:blip r:embed="rId3"/>
          <a:stretch/>
        </p:blipFill>
        <p:spPr>
          <a:xfrm>
            <a:off x="611280" y="765000"/>
            <a:ext cx="36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24"/>
          <p:cNvPicPr/>
          <p:nvPr/>
        </p:nvPicPr>
        <p:blipFill>
          <a:blip r:embed="rId4"/>
          <a:stretch/>
        </p:blipFill>
        <p:spPr>
          <a:xfrm>
            <a:off x="468360" y="3860640"/>
            <a:ext cx="4406760" cy="2316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5292720" y="4869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Ц. Сампиловай зураг</a:t>
            </a:r>
            <a:r>
              <a:rPr b="1" i="1" lang="mn-Cyrl-MN" sz="2400" spc="-1" strike="noStrike">
                <a:solidFill>
                  <a:srgbClr val="ffffff"/>
                </a:solidFill>
                <a:latin typeface="Times New Roman"/>
              </a:rPr>
              <a:t>у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3013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50920" y="1557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гта хурдантай айлай аба гэгдэжэ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яга сай халуунтай айлай эжы гэгдэжэ ябагты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эргэ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kk-KZ" sz="2600" spc="-1" strike="noStrike">
                <a:solidFill>
                  <a:srgbClr val="ffffff"/>
                </a:solidFill>
                <a:latin typeface="Times New Roman"/>
              </a:rPr>
              <a:t>ээтнай морин бү та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kk-KZ" sz="2600" spc="-1" strike="noStrike">
                <a:solidFill>
                  <a:srgbClr val="ffffff"/>
                </a:solidFill>
                <a:latin typeface="Times New Roman"/>
              </a:rPr>
              <a:t>араг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уламта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kk-KZ" sz="2600" spc="-1" strike="noStrike">
                <a:solidFill>
                  <a:srgbClr val="ffffff"/>
                </a:solidFill>
                <a:latin typeface="Times New Roman"/>
              </a:rPr>
              <a:t>аатнай айлшад бү та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kk-KZ" sz="2600" spc="-1" strike="noStrike">
                <a:solidFill>
                  <a:srgbClr val="ffffff"/>
                </a:solidFill>
                <a:latin typeface="Times New Roman"/>
              </a:rPr>
              <a:t>араг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нашаг</a:t>
            </a:r>
            <a:r>
              <a:rPr b="0" lang="kk-KZ" sz="2600" spc="-1" strike="noStrike">
                <a:solidFill>
                  <a:srgbClr val="ffffff"/>
                </a:solidFill>
                <a:latin typeface="Times New Roman"/>
              </a:rPr>
              <a:t>үй сэргэтэй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2600" spc="-1" strike="noStrike">
                <a:solidFill>
                  <a:srgbClr val="ffffff"/>
                </a:solidFill>
                <a:latin typeface="Times New Roman"/>
              </a:rPr>
              <a:t>Унтаршагүй галтай ажа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kk-KZ" sz="2600" spc="-1" strike="noStrike">
                <a:solidFill>
                  <a:srgbClr val="ffffff"/>
                </a:solidFill>
                <a:latin typeface="Times New Roman"/>
              </a:rPr>
              <a:t>уугты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1476360" y="189000"/>
            <a:ext cx="62755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mn-Cyrl-MN" sz="3200" spc="-1" strike="noStrike">
                <a:solidFill>
                  <a:srgbClr val="ff6600"/>
                </a:solidFill>
                <a:latin typeface="Times New Roman"/>
              </a:rPr>
              <a:t>Ү</a:t>
            </a:r>
            <a:r>
              <a:rPr b="0" lang="kk-KZ" sz="3200" spc="-1" strike="noStrike">
                <a:solidFill>
                  <a:srgbClr val="ff6600"/>
                </a:solidFill>
                <a:latin typeface="Times New Roman"/>
              </a:rPr>
              <a:t>реэлнүү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6008760" cy="52578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710480" cy="51814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71640" y="333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ff6600"/>
                </a:solidFill>
                <a:latin typeface="Arial"/>
              </a:rPr>
              <a:t>Багшын тобшол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557360"/>
            <a:ext cx="8424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дэ мүнөөдэр, үхибүүд, морин эрдэниин үүргэ тухай хэлсэбэбди. Буряадуудай ажабайдалда морин эрдэни ямар аша т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айень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ыгденовэй рассказ соо морин тухай домог хаа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а эхиеэ абажа бии бол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ыень, ямар хадань морин эрдэни гэжэ арадтамнай дэлгэрэнхэйень, мун тиихэдэ ямаршье аман зохеол соо морин тухай хэлсэдэг, бэшэдэг дээрэнь тогтообд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эшээлэймнай эпиграф: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ориной нэрэ дурдаагуй дуун манай арадта байдаггүй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гээшэ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э уламжалан, бидэ баян аман зохеолойнгоо үльгэр, домог, он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хошоо үгэнүүд, дуунууд, үреэлнүүд соо морин эрдэниин хүн зондо сэгнэшэгуй үүргэ дүүргэдэг ба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ыень тобшолбоб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92360" y="7650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ff6600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эрэй даабари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98900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ряадай Росси гурэнтэй хамтархадань, хилэ таталгын уедэ 5 хушуун малаймнай дээжэ болохо морид ямар үүргэ дүүргэдэг байгааб гэжэ сахим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ха бэшэг соогоо олоод ерэхэ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Слайд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7"/>
          <p:cNvSpPr txBox="1"/>
          <p:nvPr/>
        </p:nvSpPr>
        <p:spPr>
          <a:xfrm>
            <a:off x="250920" y="0"/>
            <a:ext cx="35607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рин эрдэни 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6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79640" y="62064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260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3200" spc="-1" strike="noStrike">
                <a:solidFill>
                  <a:srgbClr val="ff6600"/>
                </a:solidFill>
                <a:latin typeface="Arial"/>
              </a:rPr>
              <a:t>Зорилгонуу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981000"/>
            <a:ext cx="74170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1. А. Лыгденовэй “Морин хуур” гэһэн рассказай удха һурагшадай хэр зэргэ ойлгоһыень шалгах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2. Һургашадай аман ба бэшэмэл хэлэлгэ хүгжөөхэ, ухаан бодолыень хурсадхах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3. Һурагшадта “морин – хүнэй хани нүхэр”, “мохошогүй зүрхэтэй морин эрдэни” гэжэ ойлгосонуудтай танилсуулха, морин эрдэнидэ хабаатай арадай аман зохёолтой танилсуулха, һурагшадай эдэ үгэнүүдые хэлэлгэдэ үргэнөөр хэрэглэжэ шадаха аргыень бэхижүүлх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40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ff6600"/>
                </a:solidFill>
                <a:latin typeface="Arial"/>
              </a:rPr>
              <a:t>Хэрэгсэлнүү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4797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Буряад сахим һураха бэшэг, проектнэ самбар, морин хуур, слайднуу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77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45" name="Picture 3" descr="Слайд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77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47" name="Picture 3" descr="Слайд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77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49" name="Picture 3" descr="Слайд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77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51" name="Picture 3" descr="Слайд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77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53" name="Picture 3" descr="Слайд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77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55" name="Picture 3" descr="Слайд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77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57" name="Picture 3" descr="Слайд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77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59" name="Picture 3" descr="Слайд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"/>
          <p:cNvSpPr/>
          <p:nvPr/>
        </p:nvSpPr>
        <p:spPr>
          <a:xfrm>
            <a:off x="3564000" y="2133720"/>
            <a:ext cx="1728720" cy="3682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аг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3564000" y="2924280"/>
            <a:ext cx="1728720" cy="3682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аг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2124000" y="3716280"/>
            <a:ext cx="1728720" cy="3682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5148360" y="3716280"/>
            <a:ext cx="1728720" cy="3682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элэ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5148360" y="4653000"/>
            <a:ext cx="1728720" cy="3682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изаал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5219640" y="5589720"/>
            <a:ext cx="1728720" cy="3682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ү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1116000" y="5661000"/>
            <a:ext cx="1728720" cy="3682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а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2124000" y="4581360"/>
            <a:ext cx="1728720" cy="3682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ёол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3059280" y="5661000"/>
            <a:ext cx="1728720" cy="3682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9"/>
          <p:cNvSpPr/>
          <p:nvPr/>
        </p:nvSpPr>
        <p:spPr>
          <a:xfrm>
            <a:off x="4427640" y="2565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0"/>
          <p:cNvSpPr/>
          <p:nvPr/>
        </p:nvSpPr>
        <p:spPr>
          <a:xfrm>
            <a:off x="2987640" y="350028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41"/>
          <p:cNvSpPr/>
          <p:nvPr/>
        </p:nvSpPr>
        <p:spPr>
          <a:xfrm>
            <a:off x="6156360" y="350028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42"/>
          <p:cNvSpPr/>
          <p:nvPr/>
        </p:nvSpPr>
        <p:spPr>
          <a:xfrm>
            <a:off x="2987640" y="350028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3"/>
          <p:cNvSpPr/>
          <p:nvPr/>
        </p:nvSpPr>
        <p:spPr>
          <a:xfrm>
            <a:off x="442764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3564000" y="2924280"/>
            <a:ext cx="1728720" cy="3682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аг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45"/>
          <p:cNvSpPr/>
          <p:nvPr/>
        </p:nvSpPr>
        <p:spPr>
          <a:xfrm>
            <a:off x="4427640" y="2565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46"/>
          <p:cNvSpPr/>
          <p:nvPr/>
        </p:nvSpPr>
        <p:spPr>
          <a:xfrm>
            <a:off x="2987640" y="4149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7"/>
          <p:cNvSpPr/>
          <p:nvPr/>
        </p:nvSpPr>
        <p:spPr>
          <a:xfrm>
            <a:off x="6156360" y="422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48"/>
          <p:cNvSpPr/>
          <p:nvPr/>
        </p:nvSpPr>
        <p:spPr>
          <a:xfrm>
            <a:off x="6156360" y="508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9"/>
          <p:cNvSpPr/>
          <p:nvPr/>
        </p:nvSpPr>
        <p:spPr>
          <a:xfrm>
            <a:off x="2987640" y="501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50"/>
          <p:cNvSpPr/>
          <p:nvPr/>
        </p:nvSpPr>
        <p:spPr>
          <a:xfrm>
            <a:off x="190800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51"/>
          <p:cNvSpPr/>
          <p:nvPr/>
        </p:nvSpPr>
        <p:spPr>
          <a:xfrm>
            <a:off x="392436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52"/>
          <p:cNvSpPr/>
          <p:nvPr/>
        </p:nvSpPr>
        <p:spPr>
          <a:xfrm>
            <a:off x="1908000" y="544500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44360" y="1844640"/>
            <a:ext cx="9288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Arial"/>
              </a:rPr>
              <a:t>«Мориной нэрэ дурдаа</a:t>
            </a:r>
            <a:r>
              <a:rPr b="1" i="1" lang="mn-Cyrl-MN" sz="4400" spc="-1" strike="noStrike">
                <a:solidFill>
                  <a:srgbClr val="ff6600"/>
                </a:solidFill>
                <a:latin typeface="Arial"/>
              </a:rPr>
              <a:t>гуй дуун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n-Cyrl-MN" sz="4400" spc="-1" strike="noStrike">
                <a:solidFill>
                  <a:srgbClr val="ff6600"/>
                </a:solidFill>
                <a:latin typeface="Arial"/>
              </a:rPr>
              <a:t>Манай арадта байдаггүйл</a:t>
            </a:r>
            <a:r>
              <a:rPr b="1" i="1" lang="ru-RU" sz="4400" spc="-1" strike="noStrike">
                <a:solidFill>
                  <a:srgbClr val="ff6600"/>
                </a:solidFill>
                <a:latin typeface="Arial"/>
              </a:rPr>
              <a:t>»</a:t>
            </a:r>
            <a:r>
              <a:rPr b="1" i="1" lang="mn-Cyrl-MN" sz="4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n-Cyrl-MN" sz="4400" spc="-1" strike="noStrike">
                <a:solidFill>
                  <a:srgbClr val="ff6600"/>
                </a:solidFill>
                <a:latin typeface="Arial"/>
              </a:rPr>
              <a:t>Д.Жалсарае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08000" y="476280"/>
            <a:ext cx="489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орин тухай үг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орин, морин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орин гэ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эн нэрэш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Ямар хонгео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айхан бэ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Ябадалайшни хүгжэм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Түгдэрсэ шулуу дайра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Түмэр тахын ханхинаа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Эрын хүл тогтоо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Эмээлэй дүрөөгэй шэнхинээ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Холохонуур сууряата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Хонхын хүхюун жэнгирээн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Шэхэнэй шэмэг абяануу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Шэнгээ байнал нэрэдэшн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оригүй нютаг гэжэ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Буряад орондо байдаггүй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ориной нэрэ дурдаагүй дуу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анай арадта байдаггүй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000" spc="-1" strike="noStrike">
                <a:solidFill>
                  <a:srgbClr val="ff6600"/>
                </a:solidFill>
                <a:latin typeface="Arial"/>
              </a:rPr>
              <a:t>Д.Жалсара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107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24000" y="1267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аатарай т</a:t>
            </a: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рэхэдэ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хүлэг түрэдэг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ин тухай хэлсэбэл, зү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өөнь эхилдэг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н тухай хэлсэбэл, нэрэ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ээнь эхилдэг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н болохо баг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а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Хүлэг  болохо унага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000" spc="-1" strike="noStrike">
                <a:solidFill>
                  <a:srgbClr val="ffffff"/>
                </a:solidFill>
                <a:latin typeface="Times New Roman"/>
              </a:rPr>
              <a:t>Һайн морин һалхиншуу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000" spc="-1" strike="noStrike">
                <a:solidFill>
                  <a:srgbClr val="ffffff"/>
                </a:solidFill>
                <a:latin typeface="Times New Roman"/>
              </a:rPr>
              <a:t>Һайн хүн нараншу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000" spc="-1" strike="noStrike">
                <a:solidFill>
                  <a:srgbClr val="ffffff"/>
                </a:solidFill>
                <a:latin typeface="Times New Roman"/>
              </a:rPr>
              <a:t>Һайн хүн нэгэ үгэтэ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000" spc="-1" strike="noStrike">
                <a:solidFill>
                  <a:srgbClr val="ffffff"/>
                </a:solidFill>
                <a:latin typeface="Times New Roman"/>
              </a:rPr>
              <a:t>Һайн морин нэгэ ябадалтай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900000" y="260280"/>
            <a:ext cx="77979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6600"/>
                </a:solidFill>
                <a:latin typeface="Calibri"/>
              </a:rPr>
              <a:t>Онь</a:t>
            </a:r>
            <a:r>
              <a:rPr b="0" lang="en-US" sz="5000" spc="-1" strike="noStrike">
                <a:solidFill>
                  <a:srgbClr val="ff6600"/>
                </a:solidFill>
                <a:latin typeface="Calibri"/>
              </a:rPr>
              <a:t>h</a:t>
            </a:r>
            <a:r>
              <a:rPr b="0" lang="ru-RU" sz="5000" spc="-1" strike="noStrike">
                <a:solidFill>
                  <a:srgbClr val="ff6600"/>
                </a:solidFill>
                <a:latin typeface="Calibri"/>
              </a:rPr>
              <a:t>он  </a:t>
            </a:r>
            <a:r>
              <a:rPr b="0" lang="kk-KZ" sz="4400" spc="-1" strike="noStrike">
                <a:solidFill>
                  <a:srgbClr val="ff6600"/>
                </a:solidFill>
                <a:latin typeface="Calibri"/>
              </a:rPr>
              <a:t>ү</a:t>
            </a:r>
            <a:r>
              <a:rPr b="0" lang="ru-RU" sz="5000" spc="-1" strike="noStrike">
                <a:solidFill>
                  <a:srgbClr val="ff6600"/>
                </a:solidFill>
                <a:latin typeface="Calibri"/>
              </a:rPr>
              <a:t>гэн</a:t>
            </a:r>
            <a:r>
              <a:rPr b="0" lang="kk-KZ" sz="4400" spc="-1" strike="noStrike">
                <a:solidFill>
                  <a:srgbClr val="ff6600"/>
                </a:solidFill>
                <a:latin typeface="Calibri"/>
              </a:rPr>
              <a:t>үү</a:t>
            </a:r>
            <a:r>
              <a:rPr b="0" lang="kk-KZ" sz="5000" spc="-1" strike="noStrike">
                <a:solidFill>
                  <a:srgbClr val="ff6600"/>
                </a:solidFill>
                <a:latin typeface="Calibri"/>
              </a:rPr>
              <a:t>д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62064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яад зомнай 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 на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йнгаа унаган н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эр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орин эрдэни гэжэ нэрлэдэг. Манай 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ьгэр домогой, баатар мэргэш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эй х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эг моридынь хурдан т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гэн, ухаатай сэсэн, х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дэл адляар 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элдэг хадаа «турья, турья, турьянза, турьян хэлэхым дуулалза» гэжэ т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ээдэг ха юм. Арад зомнай аялга дуундаа а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 т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 агта моридоо магтадаг заншалтай, ушар иимэ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э «Эрбэд соохор», «Нарихан шарга», «Х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н хээр» гэхэ мэтын дуунуудай сууряан та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дагг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й. Нютаг нуга б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эндэ найр нааданда т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 г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йг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эн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, жороо жорхой морид, ба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хатаршашье морид суурхада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189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ff6600"/>
                </a:solidFill>
                <a:latin typeface="Arial"/>
              </a:rPr>
              <a:t>Морин эрдэ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2924280"/>
            <a:ext cx="799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гамаг 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йхан адуун 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эгые буряад арад зон анхан хуушан саг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а нааша х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дэлжэ 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даг бай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 юм. Тиимэ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э мохошог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й з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хэтэй морин эрдэни гэжэ хамагай хайрата нэрэ 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тэ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 бай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йн морин 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 газарта х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гэхэ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йн н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эр хэ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 ажалда ту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х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эг морин х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эй н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эр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эр номон зоригой н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э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эдэг ушар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а, буряад зон мохошог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й зоригтой морин эрдэниин х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э шадал хэрэглэжэ, ажал х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элмэриеэ хэдэг, аян замда ябадаг, аба хайдаг эрхилдэг, аюулта дайсанай добтолон ороо хада, т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эн мориной т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эр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гаргажа, булад 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мын ханхинаа зэдэл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жэ, ами бэеэ, гэр б</a:t>
            </a:r>
            <a:r>
              <a:rPr b="0" lang="mn-Cyrl-MN" sz="1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эеэ, ажал байдалаа хамгаалдаг байга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3343320" cy="4876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900000" y="333360"/>
            <a:ext cx="3357720" cy="489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32000" y="55897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55166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Гэсэрэй морин – Бэльгэн хээ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211640" y="692280"/>
            <a:ext cx="4757760" cy="439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24000" y="692280"/>
            <a:ext cx="3803400" cy="4390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19280" y="5373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Джангар Баатарай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анзал З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ээ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д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3941640" cy="504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3922560" cy="496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32000" y="57340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580536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Манас Баатарай -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-Кула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3:52:24Z</dcterms:created>
  <dc:creator>Пользователь</dc:creator>
  <dc:description/>
  <dc:language>en-US</dc:language>
  <cp:lastModifiedBy>OEM</cp:lastModifiedBy>
  <dcterms:modified xsi:type="dcterms:W3CDTF">2013-03-27T02:05:19Z</dcterms:modified>
  <cp:revision>26</cp:revision>
  <dc:subject/>
  <dc:title>Слайд 1</dc:title>
</cp:coreProperties>
</file>