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E1A-D1DB-4558-91BD-1DE061E8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C2C-AEEB-48C8-97D3-8DA34F1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C06-129B-4318-A0B8-9CAD0080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635-10E1-414B-82A7-80C2CC3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771E-B58D-49FE-8BB5-FA393649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20DC-9443-46C3-BFBD-5092949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14E-1C82-4703-9FC9-2C0848A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37AF-E328-476F-8449-ABF7B5A0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4525-A955-45BE-950D-9B1794E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4154-23AF-490A-9BD8-A9D9878E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3CE-128E-4465-AAB2-C5F87DE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919-648A-48B5-A86B-7019C63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0A1D-3708-45A8-9F10-E48CB53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4E53-215E-4DF1-A1D5-3412110E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550-546A-49CA-99FB-C93546FA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2196-CB8C-4B9D-873E-7AE871B4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A9F-91FD-448B-858F-4CECDDAC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8A1-7112-4F8D-9209-3924C93F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2BB-705A-48EA-9A54-943DF0B5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690-C559-4EED-A1CE-8BE26201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43F-D493-4CC5-893E-CB10A62F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EA2-40F9-4492-8C66-6BD0871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B88-DDAF-42D1-AA81-C068CEE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3C2-8444-4934-A398-4A75FD6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636-C0C2-473B-B6F3-43769B470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C301-F330-417F-9974-E8122F9AB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pic01"/>
          <p:cNvPicPr/>
          <p:nvPr/>
        </p:nvPicPr>
        <p:blipFill>
          <a:blip r:embed="rId1"/>
          <a:stretch/>
        </p:blipFill>
        <p:spPr>
          <a:xfrm>
            <a:off x="611280" y="765000"/>
            <a:ext cx="3405240" cy="453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79600" y="1700280"/>
            <a:ext cx="496404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a29e"/>
                </a:solidFill>
                <a:latin typeface="Arial"/>
              </a:rPr>
              <a:t>Права ребенка</a:t>
            </a:r>
            <a:endParaRPr b="0" lang="en-US" sz="7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140000" y="4723920"/>
            <a:ext cx="5003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a29e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ава ребенк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а ребенка — свод прав детей, зафиксированных в международных документах по правам ребёнка. Согласно Конвенции о правах ребенка, ребенок - это лицо, не достигшее 18 лет. Государство взяло на себя обязательство защищать детей, поэтому они имеют такие же права, как и взрослы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4" descr="index_07"/>
          <p:cNvPicPr/>
          <p:nvPr/>
        </p:nvPicPr>
        <p:blipFill>
          <a:blip r:embed="rId1"/>
          <a:stretch/>
        </p:blipFill>
        <p:spPr>
          <a:xfrm>
            <a:off x="1042920" y="3068640"/>
            <a:ext cx="518472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Декларация прав ребенк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959 году Организация Объединенных наций (ООН) принимает Декларацию прав ребенка, в которой были провозглашены социальные и правовые принципы, касающиеся защиты и благополучия де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9" descr="Картинка 50 из 496"/>
          <p:cNvPicPr/>
          <p:nvPr/>
        </p:nvPicPr>
        <p:blipFill>
          <a:blip r:embed="rId1"/>
          <a:stretch/>
        </p:blipFill>
        <p:spPr>
          <a:xfrm>
            <a:off x="5003640" y="4365720"/>
            <a:ext cx="3888000" cy="218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Картинка 51 из 496"/>
          <p:cNvPicPr/>
          <p:nvPr/>
        </p:nvPicPr>
        <p:blipFill>
          <a:blip r:embed="rId2"/>
          <a:stretch/>
        </p:blipFill>
        <p:spPr>
          <a:xfrm>
            <a:off x="4788000" y="148428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29e"/>
                </a:solidFill>
                <a:latin typeface="Arial"/>
              </a:rPr>
              <a:t>По Декларации прав ребенка: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бенок имеет пра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семь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заботу и защиту со стороны государства, если нет временной или постоянной защиты со стороны родител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ать школу и учитьс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равенство в права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вободно выражать свои мыс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собственное мне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имя и гражданств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получение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защиту от насилия и жесток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медицинское обслужива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отдых и досу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дополнительную помощь со стороны государства, если есть особые потребности (например, у детей с ограниченными возможностями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5" descr="Картинка 38 из 496"/>
          <p:cNvPicPr/>
          <p:nvPr/>
        </p:nvPicPr>
        <p:blipFill>
          <a:blip r:embed="rId1"/>
          <a:stretch/>
        </p:blipFill>
        <p:spPr>
          <a:xfrm>
            <a:off x="6659640" y="2565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Обязанности школьник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людать Устав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бросовестно учить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режно относиться к имуществу шко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ажать честь и достоинство других учеников и работников шко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ять требования по соблюдению правил внутреннего распоряд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Обязанност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людать зако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хранять прир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щать Отече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ботиться о родител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учить образов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7:29:25Z</dcterms:created>
  <dc:creator>www.PHILka.RU</dc:creator>
  <dc:description/>
  <dc:language>en-US</dc:language>
  <cp:lastModifiedBy>Acer</cp:lastModifiedBy>
  <dcterms:modified xsi:type="dcterms:W3CDTF">2020-11-04T08:59:21Z</dcterms:modified>
  <cp:revision>13</cp:revision>
  <dc:subject/>
  <dc:title>Права ребенка</dc:title>
</cp:coreProperties>
</file>