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1638-586E-4B0A-BC3D-FB2913BDA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F3EC-4DFB-4A64-93FA-36023302DF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4AAC-B6CF-4677-AC00-53040DC1ED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2525-CE6F-44E9-A8C9-D84DE339B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B7CB-A40A-4BC3-9EB3-1BE45CC4D5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C23-C163-485D-A930-B4F38753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894-9772-4D30-A6F6-B963F50A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6E7-15E9-418D-92ED-E9BB35D0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13E-5365-4F12-BB14-FA5D1084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A583-71BF-4381-83CB-DA8C0D02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9894-DD76-4FFE-9890-7B82DA68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A63B-C968-49DB-BC42-73E9F3B3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F00C-047E-4631-8DB5-6F693CC9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633D-9836-40AF-A632-612E2D27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96C4-56A3-4FA4-AF42-B0542A92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DAA8-6192-4A4E-8548-2EFF49F8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46C-DDB6-45AB-874C-DFFFCC5B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D36F-ED3F-45ED-8EC9-81639CB8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7B16-E55F-4CB7-93F1-37DAAA19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0F69-BAB0-4149-8148-40FCEDEF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ED67-EF1E-4BB3-8321-46259D6D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88EF-AC12-4FB4-B2D6-7FB956BF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652-2725-48D2-AF6C-1B7E5462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128-A934-4261-9F5D-B16946F7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0B5-2A9B-417F-9E19-32E909BD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ABA-88BC-45B7-8886-E5A5081C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008-8436-4A92-BB22-4A6FF389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B4A-1255-40B0-92E6-7988D6C0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94B-214A-416E-B28A-260ACDE2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1109-3036-45A0-B24D-5158637DA6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9455-3F3E-4304-B273-207B7E6327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619280" y="1267920"/>
            <a:ext cx="7238880" cy="2737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Calibri"/>
              </a:rPr>
              <a:t>Урок математик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7200" spc="-1" strike="noStrike">
                <a:solidFill>
                  <a:srgbClr val="0070c0"/>
                </a:solidFill>
                <a:latin typeface="Calibri"/>
              </a:rPr>
              <a:t>2 клас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                  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560" y="1341360"/>
            <a:ext cx="663588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оберите из деталей конструктора прямоугольную рам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окажите, что это прямоугольн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думайте, как без линейки доказать, что противоположные стороны рав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00000" y="115920"/>
            <a:ext cx="8244000" cy="61214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1859c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4800" spc="-1" strike="noStrike">
                <a:solidFill>
                  <a:srgbClr val="31859c"/>
                </a:solidFill>
                <a:latin typeface="Calibri"/>
              </a:rPr>
              <a:t>           Свойство противоположных   сторон прямоугольни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ротивоположные стороны прямоугольн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равны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d:\Мои документы\Мои рисунки\LOGO.GIF"/>
          <p:cNvPicPr/>
          <p:nvPr/>
        </p:nvPicPr>
        <p:blipFill>
          <a:blip r:embed="rId1"/>
          <a:stretch/>
        </p:blipFill>
        <p:spPr>
          <a:xfrm>
            <a:off x="6227640" y="4365720"/>
            <a:ext cx="25765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G:\подготовка\6324f13c256c9b3788c174d51654b7db.media.200x225.jpg"/>
          <p:cNvPicPr/>
          <p:nvPr/>
        </p:nvPicPr>
        <p:blipFill>
          <a:blip r:embed="rId1"/>
          <a:stretch/>
        </p:blipFill>
        <p:spPr>
          <a:xfrm>
            <a:off x="0" y="3909960"/>
            <a:ext cx="2906640" cy="294804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4" descr=""/>
          <p:cNvPicPr/>
          <p:nvPr/>
        </p:nvPicPr>
        <p:blipFill>
          <a:blip r:embed="rId2"/>
          <a:stretch/>
        </p:blipFill>
        <p:spPr>
          <a:xfrm>
            <a:off x="858960" y="1779480"/>
            <a:ext cx="7315200" cy="1970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233352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"/>
          <p:cNvSpPr/>
          <p:nvPr/>
        </p:nvSpPr>
        <p:spPr>
          <a:xfrm>
            <a:off x="2816280" y="1374840"/>
            <a:ext cx="4105080" cy="223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005720" y="552600"/>
            <a:ext cx="17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0 м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572000" y="3500280"/>
            <a:ext cx="7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6840" y="1600200"/>
            <a:ext cx="5770440" cy="23335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2195640" y="1322280"/>
            <a:ext cx="4105080" cy="223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280680" y="541440"/>
            <a:ext cx="16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6370560" y="1616040"/>
            <a:ext cx="277200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7 дм  меньш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3276360" y="1600200"/>
            <a:ext cx="4103640" cy="23335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3276720" y="1357200"/>
            <a:ext cx="4103640" cy="223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4436280" y="560520"/>
            <a:ext cx="162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859c"/>
                </a:solidFill>
                <a:latin typeface="Arial"/>
              </a:rPr>
              <a:t>18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427640" y="361800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859c"/>
                </a:solidFill>
                <a:latin typeface="Arial"/>
              </a:rPr>
              <a:t>18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979640" y="20606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859c"/>
                </a:solidFill>
                <a:latin typeface="Arial"/>
              </a:rPr>
              <a:t>9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7524720" y="2282760"/>
            <a:ext cx="1079640" cy="48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3276360" y="1600200"/>
            <a:ext cx="4103640" cy="23335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"/>
          <p:cNvSpPr/>
          <p:nvPr/>
        </p:nvSpPr>
        <p:spPr>
          <a:xfrm>
            <a:off x="3276720" y="1357200"/>
            <a:ext cx="4103640" cy="223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4435200" y="5605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859c"/>
                </a:solidFill>
                <a:latin typeface="Arial"/>
              </a:rPr>
              <a:t>7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7524720" y="220500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859c"/>
                </a:solidFill>
                <a:latin typeface="Arial"/>
              </a:rPr>
              <a:t>3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3672000" y="1689120"/>
            <a:ext cx="33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859c"/>
                </a:solidFill>
                <a:latin typeface="Arial"/>
              </a:rPr>
              <a:t>Найти перимет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             Провер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000"/>
            <a:ext cx="8507520" cy="4784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0 мм     5 дм     9 см      20 с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Оцен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1835280" y="3068640"/>
            <a:ext cx="619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4 верных ответа –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3 верных ответа – «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1-2 верных ответа – «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23335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3"/>
          <p:cNvSpPr/>
          <p:nvPr/>
        </p:nvSpPr>
        <p:spPr>
          <a:xfrm>
            <a:off x="2816280" y="1374840"/>
            <a:ext cx="4105080" cy="223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005720" y="552600"/>
            <a:ext cx="17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0 м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4572000" y="3500280"/>
            <a:ext cx="7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6840" y="1600200"/>
            <a:ext cx="5770440" cy="233352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3"/>
          <p:cNvSpPr/>
          <p:nvPr/>
        </p:nvSpPr>
        <p:spPr>
          <a:xfrm>
            <a:off x="2195640" y="1322280"/>
            <a:ext cx="4105080" cy="223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3280680" y="541440"/>
            <a:ext cx="16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6370560" y="1616040"/>
            <a:ext cx="277200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7 дм  меньш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Блок-схема: ручное управление 1"/>
          <p:cNvSpPr/>
          <p:nvPr/>
        </p:nvSpPr>
        <p:spPr>
          <a:xfrm>
            <a:off x="6219720" y="628560"/>
            <a:ext cx="2449440" cy="1943280"/>
          </a:xfrm>
          <a:prstGeom prst="flowChartManualOperation">
            <a:avLst/>
          </a:prstGeom>
          <a:solidFill>
            <a:srgbClr val="ffffff"/>
          </a:solidFill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5589720" y="3284640"/>
            <a:ext cx="2663640" cy="1873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араллелограмм 9"/>
          <p:cNvSpPr/>
          <p:nvPr/>
        </p:nvSpPr>
        <p:spPr>
          <a:xfrm>
            <a:off x="1908000" y="907920"/>
            <a:ext cx="3681720" cy="1225800"/>
          </a:xfrm>
          <a:prstGeom prst="parallelogram">
            <a:avLst>
              <a:gd name="adj" fmla="val 25002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Диагональная полоса 10"/>
          <p:cNvSpPr/>
          <p:nvPr/>
        </p:nvSpPr>
        <p:spPr>
          <a:xfrm>
            <a:off x="1835280" y="3075120"/>
            <a:ext cx="3528720" cy="223344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3276360" y="1600200"/>
            <a:ext cx="4103640" cy="2333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3"/>
          <p:cNvSpPr/>
          <p:nvPr/>
        </p:nvSpPr>
        <p:spPr>
          <a:xfrm>
            <a:off x="3276720" y="1357200"/>
            <a:ext cx="4103640" cy="223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4436280" y="560520"/>
            <a:ext cx="162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859c"/>
                </a:solidFill>
                <a:latin typeface="Arial"/>
              </a:rPr>
              <a:t>18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427640" y="361800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859c"/>
                </a:solidFill>
                <a:latin typeface="Arial"/>
              </a:rPr>
              <a:t>18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1979640" y="20606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859c"/>
                </a:solidFill>
                <a:latin typeface="Arial"/>
              </a:rPr>
              <a:t>9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8"/>
          <p:cNvSpPr/>
          <p:nvPr/>
        </p:nvSpPr>
        <p:spPr>
          <a:xfrm>
            <a:off x="7524720" y="2282760"/>
            <a:ext cx="1079640" cy="48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3276360" y="1600200"/>
            <a:ext cx="4103640" cy="233352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3"/>
          <p:cNvSpPr/>
          <p:nvPr/>
        </p:nvSpPr>
        <p:spPr>
          <a:xfrm>
            <a:off x="3276720" y="1357200"/>
            <a:ext cx="4103640" cy="223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435200" y="5605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859c"/>
                </a:solidFill>
                <a:latin typeface="Arial"/>
              </a:rPr>
              <a:t>7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7524720" y="220500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859c"/>
                </a:solidFill>
                <a:latin typeface="Arial"/>
              </a:rPr>
              <a:t>3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3672000" y="1689120"/>
            <a:ext cx="33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859c"/>
                </a:solidFill>
                <a:latin typeface="Arial"/>
              </a:rPr>
              <a:t>Найти перимет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00000" y="115920"/>
            <a:ext cx="8244000" cy="61214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1859c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ru-RU" sz="4800" spc="-1" strike="noStrike">
                <a:solidFill>
                  <a:srgbClr val="31859c"/>
                </a:solidFill>
                <a:latin typeface="Calibri"/>
              </a:rPr>
              <a:t>           Свойство противоположных   сторон прямоугольни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ротивоположные стороны прямоугольн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равны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d:\Мои документы\Мои рисунки\LOGO.GIF"/>
          <p:cNvPicPr/>
          <p:nvPr/>
        </p:nvPicPr>
        <p:blipFill>
          <a:blip r:embed="rId1"/>
          <a:stretch/>
        </p:blipFill>
        <p:spPr>
          <a:xfrm>
            <a:off x="6227640" y="4365720"/>
            <a:ext cx="25765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85880" y="642960"/>
            <a:ext cx="8136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                Свойство    </a:t>
            </a: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противоположных сторон </a:t>
            </a: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прямоугольника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286000"/>
            <a:ext cx="8686800" cy="790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52000"/>
          </a:bodyPr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376092"/>
                </a:solidFill>
                <a:latin typeface="Calibri"/>
              </a:rPr>
              <a:t>Цель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1843560" y="2997360"/>
            <a:ext cx="5914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знать свойст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тивоположных стор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ямоугольн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Домашнее задание по выбо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Объект 1" descr=""/>
          <p:cNvPicPr/>
          <p:nvPr/>
        </p:nvPicPr>
        <p:blipFill>
          <a:blip r:embed="rId1"/>
          <a:stretch/>
        </p:blipFill>
        <p:spPr>
          <a:xfrm>
            <a:off x="-73080" y="712800"/>
            <a:ext cx="929016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Calibri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11" descr="(447)"/>
          <p:cNvPicPr/>
          <p:nvPr/>
        </p:nvPicPr>
        <p:blipFill>
          <a:blip r:embed="rId1"/>
          <a:stretch/>
        </p:blipFill>
        <p:spPr>
          <a:xfrm>
            <a:off x="3492360" y="3789360"/>
            <a:ext cx="2519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Прямоугольник –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это четырёхугольник,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у которого все углы прям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5480" y="0"/>
            <a:ext cx="8157960" cy="6626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3059280" y="2276640"/>
            <a:ext cx="4033800" cy="2016000"/>
          </a:xfrm>
          <a:prstGeom prst="rect">
            <a:avLst/>
          </a:prstGeom>
          <a:solidFill>
            <a:srgbClr val="ffffff"/>
          </a:solidFill>
          <a:ln w="7632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60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 Свойство противоположных сторон прямоугольника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133720"/>
            <a:ext cx="8686800" cy="790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52000"/>
          </a:bodyPr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Calibri"/>
              </a:rPr>
              <a:t>Цель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843560" y="2997360"/>
            <a:ext cx="5914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знать свойст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тивоположных стор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ямоугольн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663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                Исследов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560" y="691920"/>
            <a:ext cx="8425080" cy="5343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: открыть свойство противоположных сторон прямоуголь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ерите на столе белый лист прямоугольной 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ведите маркерами одного цвета противоположные стороны прямоугольника. Касаются ли противоположные стороны друг друж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авните длины противоположных сторон любым способом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с помощью перегибания лис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с помощью линей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делайте вывод о длине противоположных сторо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тавьте пропущенное слово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вод: противоположные стороны прямоугольника 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00000" y="115920"/>
            <a:ext cx="8244000" cy="61214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31859c"/>
                </a:solidFill>
                <a:latin typeface="Calibri"/>
              </a:rPr>
              <a:t>                 Свойство противоположных   сторон                    </a:t>
            </a:r>
            <a:r>
              <a:rPr b="0" lang="ru-RU" sz="4800" spc="-1" strike="noStrike">
                <a:solidFill>
                  <a:srgbClr val="31859c"/>
                </a:solidFill>
                <a:latin typeface="Calibri"/>
              </a:rPr>
              <a:t>	</a:t>
            </a:r>
            <a:r>
              <a:rPr b="0" lang="ru-RU" sz="4800" spc="-1" strike="noStrike">
                <a:solidFill>
                  <a:srgbClr val="31859c"/>
                </a:solidFill>
                <a:latin typeface="Calibri"/>
              </a:rPr>
              <a:t>	</a:t>
            </a:r>
            <a:r>
              <a:rPr b="0" lang="ru-RU" sz="4800" spc="-1" strike="noStrike">
                <a:solidFill>
                  <a:srgbClr val="31859c"/>
                </a:solidFill>
                <a:latin typeface="Calibri"/>
              </a:rPr>
              <a:t>прямоугольни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ротивоположные стороны прямоугольн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равны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d:\Мои документы\Мои рисунки\LOGO.GIF"/>
          <p:cNvPicPr/>
          <p:nvPr/>
        </p:nvPicPr>
        <p:blipFill>
          <a:blip r:embed="rId1"/>
          <a:stretch/>
        </p:blipFill>
        <p:spPr>
          <a:xfrm>
            <a:off x="6227640" y="4365720"/>
            <a:ext cx="25765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       Оценка работы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Объект 3" descr=""/>
          <p:cNvPicPr/>
          <p:nvPr/>
        </p:nvPicPr>
        <p:blipFill>
          <a:blip r:embed="rId1">
            <a:alphaModFix amt="65000"/>
          </a:blip>
          <a:srcRect l="9107" t="0" r="65847" b="1011"/>
          <a:stretch/>
        </p:blipFill>
        <p:spPr>
          <a:xfrm>
            <a:off x="1800360" y="1131840"/>
            <a:ext cx="792000" cy="811440"/>
          </a:xfrm>
          <a:prstGeom prst="rect">
            <a:avLst/>
          </a:prstGeom>
          <a:ln w="0">
            <a:noFill/>
          </a:ln>
        </p:spPr>
      </p:pic>
      <p:pic>
        <p:nvPicPr>
          <p:cNvPr id="107" name="Объект 3" descr=""/>
          <p:cNvPicPr/>
          <p:nvPr/>
        </p:nvPicPr>
        <p:blipFill>
          <a:blip r:embed="rId2">
            <a:alphaModFix amt="65000"/>
          </a:blip>
          <a:srcRect l="37750" t="0" r="39481" b="-3121"/>
          <a:stretch/>
        </p:blipFill>
        <p:spPr>
          <a:xfrm>
            <a:off x="1809720" y="2349360"/>
            <a:ext cx="719280" cy="844560"/>
          </a:xfrm>
          <a:prstGeom prst="rect">
            <a:avLst/>
          </a:prstGeom>
          <a:ln w="0">
            <a:noFill/>
          </a:ln>
        </p:spPr>
      </p:pic>
      <p:pic>
        <p:nvPicPr>
          <p:cNvPr id="108" name="Объект 3" descr=""/>
          <p:cNvPicPr/>
          <p:nvPr/>
        </p:nvPicPr>
        <p:blipFill>
          <a:blip r:embed="rId3">
            <a:alphaModFix amt="65000"/>
          </a:blip>
          <a:srcRect l="67088" t="0" r="7878" b="0"/>
          <a:stretch/>
        </p:blipFill>
        <p:spPr>
          <a:xfrm>
            <a:off x="1811160" y="3429000"/>
            <a:ext cx="792360" cy="819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0"/>
          <p:cNvSpPr/>
          <p:nvPr/>
        </p:nvSpPr>
        <p:spPr>
          <a:xfrm>
            <a:off x="2771640" y="1281240"/>
            <a:ext cx="59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-5 знаков +) 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У нас всё получилос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Мы хорошо поработ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2843280" y="247968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3 знака +)      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Мы старалис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но некоторые правила не уч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2843280" y="3600360"/>
            <a:ext cx="63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-2 знака +)   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Нам надо лучше изу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правила работы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     Работа в парах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r>
              <a:rPr b="0" lang="ru-RU" sz="5400" spc="-1" strike="noStrike">
                <a:solidFill>
                  <a:srgbClr val="000066"/>
                </a:solidFill>
                <a:latin typeface="Arial"/>
                <a:ea typeface="Arial"/>
              </a:rPr>
              <a:t>Учебн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  <a:ea typeface="Arial"/>
              </a:rPr>
              <a:t>стр. 32 №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3600" spc="-1" strike="noStrike">
                <a:solidFill>
                  <a:srgbClr val="cc3399"/>
                </a:solidFill>
                <a:latin typeface="Calibri"/>
              </a:rPr>
              <a:t>                            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Объект 3" descr=""/>
          <p:cNvPicPr/>
          <p:nvPr/>
        </p:nvPicPr>
        <p:blipFill>
          <a:blip r:embed="rId1">
            <a:alphaModFix amt="65000"/>
          </a:blip>
          <a:srcRect l="29251" t="31822" r="7756" b="44315"/>
          <a:stretch/>
        </p:blipFill>
        <p:spPr>
          <a:xfrm>
            <a:off x="1547640" y="1052640"/>
            <a:ext cx="64454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3:29:37Z</dcterms:created>
  <dc:creator>User</dc:creator>
  <dc:description/>
  <dc:language>en-US</dc:language>
  <cp:lastModifiedBy>bakhmatovd</cp:lastModifiedBy>
  <dcterms:modified xsi:type="dcterms:W3CDTF">2021-02-06T16:05:35Z</dcterms:modified>
  <cp:revision>150</cp:revision>
  <dc:subject/>
  <dc:title>Тема урока:  «Площадь. Формула площади прямоугольника».  </dc:title>
</cp:coreProperties>
</file>