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8BA2-8113-434C-BF61-2B2EA589E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6173-A8B3-4393-BCEA-CF6007200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8235-833B-4F8D-A931-A36BCCAC3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CD9B-6DB9-4EC3-8ED2-120D0A715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0005F-9FBB-481C-A25B-5517334BB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EC9B9-7C9E-4936-AAFF-DCDF9E7F1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7B3ED-872D-414F-8E13-94B32E0D0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81025-0827-4252-BA52-4E316890D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F953A-28F6-4072-ACE2-F65BEF294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10588-4D1E-4E03-98C6-D442108FD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1795A-9684-443F-9E68-086A7147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A637-F47F-45B4-B064-15001E325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160D0-C03A-4FB1-982E-1C1BA77B3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B5983-BAFC-41B1-9986-4D24AF70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1AF3F-D902-4A70-839B-4949C54CC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E9C35-F478-46A5-8DF3-622E0E4BA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B8940-0B44-4843-ADD7-1D48BFA2E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23EF-F504-433D-AC28-95F198820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D7ED-48A0-4060-8D6B-ED4ED4CAB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CA1D-1072-4716-A8B0-6ED9E1E5A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F36C-BA64-4A74-BAD5-B18B1E3E8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469C-C84B-48B8-890F-3DB5F0E80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BA3A-0FD3-4A60-AC79-E3FE13024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EC4D-30F5-4705-A88C-0A7AFFA4D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16C8A-F960-4A1B-BA99-8B44B9D3A3E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83A03-87A1-4179-B753-ACC2EAACDB8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ема: Прием округления при вычитании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ши пример, используя прием округления вычитаемог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3 – 15 = 43 – (15 + 5) + 5 = </a:t>
            </a: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3 – 20 + 5 = 28</a:t>
            </a: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                   </a:t>
            </a:r>
            <a:r>
              <a:rPr b="1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7 – 18 =</a:t>
            </a:r>
            <a:endParaRPr b="0" lang="en-US" sz="66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7 - 18 = 57 – (18 + 2) + 2 =                 57 – 20 + 2 = 39</a:t>
            </a:r>
            <a:endParaRPr b="0" lang="en-US" sz="54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Arial Black"/>
                <a:ea typeface="Arial"/>
              </a:rPr>
              <a:t>Алгоритм №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18800" y="1493640"/>
            <a:ext cx="783900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4061"/>
                </a:solidFill>
                <a:latin typeface="Arial"/>
                <a:ea typeface="Arial"/>
              </a:rPr>
              <a:t>1</a:t>
            </a:r>
            <a:r>
              <a:rPr b="1" lang="ru-RU" sz="3200" spc="-1" strike="noStrike">
                <a:solidFill>
                  <a:srgbClr val="660066"/>
                </a:solidFill>
                <a:latin typeface="Arial"/>
                <a:ea typeface="Arial"/>
              </a:rPr>
              <a:t>. </a:t>
            </a:r>
            <a:r>
              <a:rPr b="0" lang="ru-RU" sz="3200" spc="-1" strike="noStrike">
                <a:solidFill>
                  <a:srgbClr val="254061"/>
                </a:solidFill>
                <a:latin typeface="Arial"/>
                <a:ea typeface="Arial"/>
              </a:rPr>
              <a:t>Дополни уменьшаемое до круглого числа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9bbb5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4061"/>
                </a:solidFill>
                <a:latin typeface="Arial"/>
                <a:ea typeface="Arial"/>
              </a:rPr>
              <a:t>2. </a:t>
            </a:r>
            <a:r>
              <a:rPr b="0" lang="ru-RU" sz="3200" spc="-1" strike="noStrike">
                <a:solidFill>
                  <a:srgbClr val="254061"/>
                </a:solidFill>
                <a:latin typeface="Arial"/>
                <a:ea typeface="Arial"/>
              </a:rPr>
              <a:t>Вычти из полученного результата вычитаемое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9bbb5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4061"/>
                </a:solidFill>
                <a:latin typeface="Arial"/>
                <a:ea typeface="Arial"/>
              </a:rPr>
              <a:t>3. </a:t>
            </a:r>
            <a:r>
              <a:rPr b="0" lang="ru-RU" sz="3200" spc="-1" strike="noStrike">
                <a:solidFill>
                  <a:srgbClr val="254061"/>
                </a:solidFill>
                <a:latin typeface="Arial"/>
                <a:ea typeface="Arial"/>
              </a:rPr>
              <a:t>Вычти количество единиц, которое добавили к уменьшаемому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Arial Black"/>
                <a:ea typeface="Arial"/>
              </a:rPr>
              <a:t>Алгоритм №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018800" y="1493640"/>
            <a:ext cx="783900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4061"/>
                </a:solidFill>
                <a:latin typeface="Arial"/>
                <a:ea typeface="Arial"/>
              </a:rPr>
              <a:t>1. </a:t>
            </a:r>
            <a:r>
              <a:rPr b="0" lang="ru-RU" sz="3200" spc="-1" strike="noStrike">
                <a:solidFill>
                  <a:srgbClr val="254061"/>
                </a:solidFill>
                <a:latin typeface="Arial"/>
                <a:ea typeface="Arial"/>
              </a:rPr>
              <a:t>Дополни вычитаемое до круглого числа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9bbb5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4061"/>
                </a:solidFill>
                <a:latin typeface="Arial"/>
                <a:ea typeface="Arial"/>
              </a:rPr>
              <a:t>2. </a:t>
            </a:r>
            <a:r>
              <a:rPr b="0" lang="ru-RU" sz="3200" spc="-1" strike="noStrike">
                <a:solidFill>
                  <a:srgbClr val="254061"/>
                </a:solidFill>
                <a:latin typeface="Arial"/>
                <a:ea typeface="Arial"/>
              </a:rPr>
              <a:t>Вычти из уменьшаемого полученный результат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9bbb5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4061"/>
                </a:solidFill>
                <a:latin typeface="Arial"/>
                <a:ea typeface="Arial"/>
              </a:rPr>
              <a:t>3. </a:t>
            </a:r>
            <a:r>
              <a:rPr b="0" lang="ru-RU" sz="3200" spc="-1" strike="noStrike">
                <a:solidFill>
                  <a:srgbClr val="254061"/>
                </a:solidFill>
                <a:latin typeface="Arial"/>
                <a:ea typeface="Arial"/>
              </a:rPr>
              <a:t>Прибавь количество единиц, которое добавили к вычитаемому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15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04a7b"/>
                </a:solidFill>
                <a:latin typeface="Calibri"/>
              </a:rPr>
              <a:t>Найдите значение выражения, используя два способа округления чисел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      </a:t>
            </a:r>
            <a:r>
              <a:rPr b="1" lang="ru-RU" sz="3600" spc="-1" strike="noStrike">
                <a:solidFill>
                  <a:srgbClr val="000000"/>
                </a:solidFill>
                <a:latin typeface="Cambria"/>
              </a:rPr>
              <a:t>1 ряд                  2 ряд               3 ряд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mbria"/>
              </a:rPr>
              <a:t>       </a:t>
            </a:r>
            <a:r>
              <a:rPr b="1" lang="ru-RU" sz="3600" spc="-1" strike="noStrike">
                <a:solidFill>
                  <a:srgbClr val="ff0000"/>
                </a:solidFill>
                <a:latin typeface="Cambria"/>
              </a:rPr>
              <a:t>45-18                 61-28              44-19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Какой компонент удобнее округлять и               почему?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04a7b"/>
                </a:solidFill>
                <a:latin typeface="Calibri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11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mbria"/>
              </a:rPr>
              <a:t>1 ряд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mbria"/>
              </a:rPr>
              <a:t>45-18=45-(18+2)+2=45-20+2=27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mbria"/>
              </a:rPr>
              <a:t>2 ряд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mbria"/>
              </a:rPr>
              <a:t>61-28=61-(28+2)+2=61-30+2=33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mbria"/>
              </a:rPr>
              <a:t>3 ряд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Cambria"/>
              </a:rPr>
              <a:t>44-19=44-(19+1)+1=44-20+1=25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"/>
          <p:cNvPicPr/>
          <p:nvPr/>
        </p:nvPicPr>
        <p:blipFill>
          <a:blip r:embed="rId2"/>
          <a:stretch/>
        </p:blipFill>
        <p:spPr>
          <a:xfrm>
            <a:off x="2286000" y="171468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https://fs00.infourok.ru/images/doc/137/159748/img27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Устный сч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4360" y="1341360"/>
            <a:ext cx="763272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1. Найди сумму чисел 68 и 2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2. Уменьшаемое 55, вычитаемое 15, найди разность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3. Произведение чисел 4 и 10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4. Частное чисел 80 и 8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5. Запишите число, которое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31280" y="692280"/>
            <a:ext cx="871236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6. От какого числа надо отнять 5, чтобы получить 25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7. Напишите самое маленькое двузначное число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8. Петя  решил 27 примеров, а Ваня на 7 примеров меньше. Сколько примеров решил Ваня?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Проверк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2600" algn="ctr"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  <a:p>
            <a:pPr marL="12600" algn="ctr"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mbria"/>
              </a:rPr>
              <a:t>70  30  40  10  50  30  10  20</a:t>
            </a: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  <a:p>
            <a:pPr marL="1260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азделите на 2 групп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3 - 15                      57 - 18          </a:t>
            </a: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6 + 18     </a:t>
            </a: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7 + 24</a:t>
            </a: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ru-RU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 группа                      2 группа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6 + 18            43 – 15      </a:t>
            </a:r>
            <a:endParaRPr b="0" lang="en-US" sz="54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7 + 24            57 – 18 </a:t>
            </a:r>
            <a:endParaRPr b="0" lang="en-US" sz="5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Arial Black"/>
                <a:ea typeface="Arial"/>
              </a:rPr>
              <a:t>Приём округления при вычитан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99720" y="2000160"/>
            <a:ext cx="728676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Cambria"/>
              </a:rPr>
              <a:t>1.Узнать как пользоваться приёмом округления при вычитании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Cambria"/>
              </a:rPr>
              <a:t>2.Научиться решать выражения, используя прием округления при вычитании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ши пример, используя прием округления уменьшаемог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ambria"/>
              </a:rPr>
              <a:t>43 – 15 =</a:t>
            </a:r>
            <a:endParaRPr b="0" lang="en-US" sz="6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mbria"/>
              </a:rPr>
              <a:t>   </a:t>
            </a:r>
            <a:r>
              <a:rPr b="1" lang="ru-RU" sz="4400" spc="-1" strike="noStrike">
                <a:solidFill>
                  <a:srgbClr val="ff0000"/>
                </a:solidFill>
                <a:latin typeface="Cambria"/>
              </a:rPr>
              <a:t>43 – 15 = (43 + 7) – 15 – 7=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mbria"/>
              </a:rPr>
              <a:t>   </a:t>
            </a:r>
            <a:r>
              <a:rPr b="1" lang="ru-RU" sz="4400" spc="-1" strike="noStrike">
                <a:solidFill>
                  <a:srgbClr val="ff0000"/>
                </a:solidFill>
                <a:latin typeface="Cambria"/>
              </a:rPr>
              <a:t>50 – 15 – 7 = 28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8T18:48:39Z</dcterms:created>
  <dc:creator>1</dc:creator>
  <dc:description/>
  <dc:language>en-US</dc:language>
  <cp:lastModifiedBy>DNS</cp:lastModifiedBy>
  <dcterms:modified xsi:type="dcterms:W3CDTF">2022-11-20T12:38:01Z</dcterms:modified>
  <cp:revision>40</cp:revision>
  <dc:subject/>
  <dc:title>Игра «Цепочка»</dc:title>
</cp:coreProperties>
</file>