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5EE-724F-4659-B13F-93214DA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78F-8CDB-409A-973E-D128A511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35F-5FD9-4108-943C-46DD1021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AA9-1D7F-4290-8B73-BB7BBD4A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8E73-6DD4-4511-A1F1-E95162DE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23F5-AEE6-4450-A1BC-56E2D8C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FB9E-1C94-4779-8540-02A4D221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A49B-382F-4AF4-84A4-49DD872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CA52-FA36-4830-AEF5-B882E6A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3ED-014C-4F4B-96B8-35CA5F0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9438-DE2E-4F7D-B3E5-15990108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39C-622E-4CA9-ABAE-23CE0D02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9EF7-B64F-4444-8D4F-A796733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280-EF87-49DB-8F70-399E172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4497-7B83-411B-9332-B49BCA2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3480-2090-4B40-A84C-215774FA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10CA-9EF0-4B26-B1E2-78A27E2F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1BFC-C607-4B61-B828-57F5FDFB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B49A-C01F-4EC4-8243-C2CF448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CCC7-1C24-4234-8BA9-1C494D3E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853B-3EE8-4264-997D-A35C3F8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739B-1DC6-42C0-88F0-00E7678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089-9C3A-4F0A-BAFA-81F177A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69FC-8A53-41E3-A3EF-D06C334E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0696-0038-4075-9051-C527DBB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F8E5-1FDF-40D3-A50B-4205151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520C-FC4D-47B5-8E6A-F9604BE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DC17-D4D7-450B-97FD-61B3B1D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1459-8371-4A95-86B7-56302881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554F-2AFC-430A-A37C-710E441F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9FEF-7C75-4F65-8706-EE9527F4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F89E-423F-4DBF-9CB6-2940C13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C77F-E49B-417F-A33E-99E1A34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47A-FDA1-4EEC-B04A-E3DE26D8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8B55-66A7-4D87-BCD6-A48781C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A509-71E2-4D55-AB00-2BA6227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6215-B067-4421-AD9B-19AC0C1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264C-8834-47FF-8CA5-B198839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C080-353F-4EB6-8930-276DDF1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828A-C2F2-4987-AA65-284ADD2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C04E-9E4F-466C-8A29-72A2DABB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5DA1-F15D-4634-97ED-092C0251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EE4A-9035-42A4-A2E2-FD59526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31DD-71D0-4C1A-A9D4-E7F5E27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A25-D41D-4C34-9AEA-8D179F3A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B5123-4A5E-441D-A204-000EF24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8DB02-C6B8-4BB5-A8ED-6DA9285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86F7-8CE5-4FDD-86E8-D6AAE5F9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E39E-10FE-4C81-A199-01021A8C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CF99-A0F1-4981-8C8C-CFA60CD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39F4-7B1D-45DB-86CB-E720CFB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8D1A3-6CE8-478B-892A-D1C88014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29BB-F4FE-4770-91F9-4D1D7C9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8092-BC2B-4E82-8A65-41670622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D25C-E0C7-4BCE-A0DF-2B1FBD8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C66-EF5D-4A32-87D6-846F918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C474-BCFE-4444-87D0-4512FC23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D840-98C1-42C1-8649-25D4E69A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94065-6A1D-4BA2-87A0-C0B741F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546F-E51C-4199-A8FC-73657DC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BCD5-798A-428F-91BF-F81E8BD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34B5-6705-4276-A562-BA7E70E2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BD0E-CBA2-414B-80C7-9A14F8D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C7D6-8D85-4493-9FCB-9F89B06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CC071-A4D4-4CCF-A78A-AAD4DD8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EDAF-F4EF-40B8-81C8-B7C6EAD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02F-3BFD-4EF5-9264-485D762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0FEB-1431-4DD8-A47E-EA7D093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7EA9-6B37-4966-A536-E66A6AA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F4B08-7A3A-4524-AC4D-CF70B1A0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D54B-BEEB-455D-BBA0-1B9D29C8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371B-1F4F-463B-AA8C-CC1AA7A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7D41-FFEC-49FE-8165-55730A27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7A1E-4753-4EC9-8313-C332C0F2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1380-6C2E-4DED-82BB-1736F65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03F8-9B4C-4CE1-AD3D-9559FE5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EA6DD-6C05-4B70-B6DE-7EAFB60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329-6CDD-4F0B-A317-6405DDD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AF174-71E1-4616-BB50-8EA4692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60F3-06DE-4825-B8DA-8D18A13F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1C38-1384-434E-95CB-8D2DB75E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84A28-CFE8-4563-89EA-6D39C9B7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1702-50B2-4786-B707-54A710CC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AE106-42CD-426B-A191-0D6ECC7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2172-DD66-410A-89A6-23BE46A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A9BC-72D1-4475-A29A-3CE84C01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19D7-1C67-4E18-BD6F-B8E8366B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8952-A846-4390-B119-73683FD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B55-5E4D-4139-87BE-E933597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1003-CECC-4D72-BE5E-56BDF66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D016-52D5-4674-B388-3BB58C6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2EAD-1F12-48B7-A4E4-D83F11A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F07D-E7B9-4696-9D62-F53C1E4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85F05-B050-4A3A-9FA6-6D2A3AA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0744-A609-4ACC-A58E-C69DEC4C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1802A-2DEC-4715-A2DF-01E3BA83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C6DD-A438-4E50-94C4-27AF54CD2D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92EC-ED77-4132-9E07-8AA2CF2202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8BA-2524-4078-9C44-17DD9B69E5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C828-3C08-4EF9-8E30-B513E886F2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84C9-8343-4262-9795-48AA275B72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294-8FBA-40F2-B2FE-CA824A6992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192-0522-4671-A0A9-CE4C0ACC7B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27E-8E05-4FDA-9F1C-8A1AEA359D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85;&#1086;&#1074;&#1085;&#1086;&#1081;_&#1086;&#1088;&#1075;&#1072;&#1085;&#1080;&#1095;&#1077;&#1089;&#1082;&#1080;&#1081;_&#1089;&#1080;&#1085;&#1090;&#1077;&#1079;" TargetMode="External"/><Relationship Id="rId2" Type="http://schemas.openxmlformats.org/officeDocument/2006/relationships/hyperlink" Target="http://ru.wikipedia.org/wiki/&#1042;&#1080;&#1085;&#1080;&#1083;&#1072;&#1094;&#1077;&#1090;&#1072;&#1090;" TargetMode="External"/><Relationship Id="rId3" Type="http://schemas.openxmlformats.org/officeDocument/2006/relationships/hyperlink" Target="http://ru.wikipedia.org/wiki/&#1044;&#1080;&#1093;&#1083;&#1086;&#1088;&#1101;&#1090;&#1072;&#1085;" TargetMode="External"/><Relationship Id="rId4" Type="http://schemas.openxmlformats.org/officeDocument/2006/relationships/hyperlink" Target="http://ru.wikipedia.org/wiki/&#1042;&#1080;&#1085;&#1080;&#1083;&#1093;&#1083;&#1086;&#1088;&#1080;&#1076;" TargetMode="External"/><Relationship Id="rId5" Type="http://schemas.openxmlformats.org/officeDocument/2006/relationships/hyperlink" Target="http://ru.wikipedia.org/wiki/&#1054;&#1082;&#1080;&#1089;&#1100;_&#1101;&#1090;&#1080;&#1083;&#1077;&#1085;&#1072;" TargetMode="External"/><Relationship Id="rId6" Type="http://schemas.openxmlformats.org/officeDocument/2006/relationships/hyperlink" Target="http://ru.wikipedia.org/wiki/&#1055;&#1086;&#1083;&#1080;&#1101;&#1090;&#1080;&#1083;&#1077;&#1085;" TargetMode="External"/><Relationship Id="rId7" Type="http://schemas.openxmlformats.org/officeDocument/2006/relationships/hyperlink" Target="http://ru.wikipedia.org/wiki/&#1057;&#1090;&#1080;&#1088;&#1086;&#1083;" TargetMode="External"/><Relationship Id="rId8" Type="http://schemas.openxmlformats.org/officeDocument/2006/relationships/hyperlink" Target="http://ru.wikipedia.org/wiki/&#1059;&#1082;&#1089;&#1091;&#1089;&#1085;&#1072;&#1103;_&#1082;&#1080;&#1089;&#1083;&#1086;&#1090;&#1072;" TargetMode="External"/><Relationship Id="rId9" Type="http://schemas.openxmlformats.org/officeDocument/2006/relationships/hyperlink" Target="http://ru.wikipedia.org/wiki/&#1069;&#1090;&#1080;&#1083;&#1073;&#1077;&#1085;&#1079;&#1086;&#1083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785880" y="7128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8" descr="1263560115"/>
          <p:cNvPicPr/>
          <p:nvPr/>
        </p:nvPicPr>
        <p:blipFill>
          <a:blip r:embed="rId2"/>
          <a:stretch/>
        </p:blipFill>
        <p:spPr>
          <a:xfrm>
            <a:off x="5214960" y="4506840"/>
            <a:ext cx="3929040" cy="2351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87H8TCA8RJZOGCAESUX33CATF0SB2CAR06B99CAEZ9FN1CAVG8F1TCAQ114BSCAVA8UVLCAOEQOX9CA6IGTIZCAWN3E18CAH59BCNCAR1NY0TCA7ZK3KFCANOKCDECA739IWVCABELTVPCAOWTGQM"/>
          <p:cNvPicPr/>
          <p:nvPr/>
        </p:nvPicPr>
        <p:blipFill>
          <a:blip r:embed="rId3"/>
          <a:stretch/>
        </p:blipFill>
        <p:spPr>
          <a:xfrm>
            <a:off x="428760" y="2928960"/>
            <a:ext cx="3970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51640" y="-49086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571680" y="47484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является ведущим продуктом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основного органического синте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меняется для получения следующих соединений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Винилаце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Дихлорэт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винилхлор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-е место, 12 % всего объёма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5"/>
              </a:rPr>
              <a:t>Окись эти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-е место, 14—15 % всего объёма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6"/>
              </a:rPr>
              <a:t>Полиэтил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-е место, до 60 % всего объёма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7"/>
              </a:rPr>
              <a:t>Стир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8"/>
              </a:rPr>
              <a:t>Уксус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9"/>
              </a:rPr>
              <a:t>Этилбенз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в смеси с кислородом используют в медицине для наркоза. Этилен является фитогормоном практически у всех растени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6836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является одним из базовых продуктов промышленной химии и стоит в основании ряда цепочек синтез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высоких концентрациях этилен оказывает на человека и животных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тическое воздейств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726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4" descr="barbiturates"/>
          <p:cNvPicPr/>
          <p:nvPr/>
        </p:nvPicPr>
        <p:blipFill>
          <a:blip r:embed="rId1"/>
          <a:stretch/>
        </p:blipFill>
        <p:spPr>
          <a:xfrm>
            <a:off x="179280" y="3716280"/>
            <a:ext cx="3867120" cy="2706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246"/>
          <p:cNvPicPr/>
          <p:nvPr/>
        </p:nvPicPr>
        <p:blipFill>
          <a:blip r:embed="rId2"/>
          <a:stretch/>
        </p:blipFill>
        <p:spPr>
          <a:xfrm>
            <a:off x="5364000" y="2997360"/>
            <a:ext cx="3305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А такж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этилен используют для ускорения созревания овощей и фруктов, прореживания цветков, ускорения опадения плодов и листьев. Применяют его и для регулирования процесса дифференциации пола у некоторых овощных культу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640720" y="-48171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Picture 4" descr="10"/>
          <p:cNvPicPr/>
          <p:nvPr/>
        </p:nvPicPr>
        <p:blipFill>
          <a:blip r:embed="rId1"/>
          <a:stretch/>
        </p:blipFill>
        <p:spPr>
          <a:xfrm>
            <a:off x="324000" y="3500280"/>
            <a:ext cx="408276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etil[1]"/>
          <p:cNvPicPr/>
          <p:nvPr/>
        </p:nvPicPr>
        <p:blipFill>
          <a:blip r:embed="rId2"/>
          <a:stretch/>
        </p:blipFill>
        <p:spPr>
          <a:xfrm>
            <a:off x="4932360" y="3213000"/>
            <a:ext cx="3403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4" descr="1275983359foto1_big"/>
          <p:cNvPicPr/>
          <p:nvPr/>
        </p:nvPicPr>
        <p:blipFill>
          <a:blip r:embed="rId1"/>
          <a:stretch/>
        </p:blipFill>
        <p:spPr>
          <a:xfrm>
            <a:off x="214200" y="642960"/>
            <a:ext cx="5688000" cy="4176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640720" y="-4869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17" descr="iн"/>
          <p:cNvPicPr/>
          <p:nvPr/>
        </p:nvPicPr>
        <p:blipFill>
          <a:blip r:embed="rId2"/>
          <a:stretch/>
        </p:blipFill>
        <p:spPr>
          <a:xfrm>
            <a:off x="6257880" y="907920"/>
            <a:ext cx="2603520" cy="23068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5" descr="iпп"/>
          <p:cNvPicPr/>
          <p:nvPr/>
        </p:nvPicPr>
        <p:blipFill>
          <a:blip r:embed="rId3"/>
          <a:stretch/>
        </p:blipFill>
        <p:spPr>
          <a:xfrm>
            <a:off x="5572080" y="4572000"/>
            <a:ext cx="3289320" cy="2054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iyr"/>
          <p:cNvPicPr/>
          <p:nvPr/>
        </p:nvPicPr>
        <p:blipFill>
          <a:blip r:embed="rId4"/>
          <a:stretch/>
        </p:blipFill>
        <p:spPr>
          <a:xfrm>
            <a:off x="642960" y="4214880"/>
            <a:ext cx="3440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1:20:57Z</dcterms:created>
  <dc:creator>Ксюша</dc:creator>
  <dc:description/>
  <dc:language>en-US</dc:language>
  <cp:lastModifiedBy>Серега</cp:lastModifiedBy>
  <dcterms:modified xsi:type="dcterms:W3CDTF">2014-04-22T01:20:55Z</dcterms:modified>
  <cp:revision>4</cp:revision>
  <dc:subject/>
  <dc:title>Применение этилена</dc:title>
</cp:coreProperties>
</file>