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29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25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37E9-E30B-4088-8E86-C0055D7E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C81-66AD-44B0-952D-3EEEADBC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8EA-9708-4AAE-ABD7-54D09F2F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C0F-A00E-4B24-9500-F87E6144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D33-3AB3-4D96-97F9-92FAF19F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C61-B8D2-4212-BB4E-4A0157FA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928-6F63-45CF-8733-9DD37820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DD2-8EEB-4DEE-B21F-B21E3059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E71-D01B-472D-A5D5-802C70C5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DFE-267A-483B-8CD6-6281414C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497-9A94-4CE8-8F58-E6E321D6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DCA2-AB81-4B56-B541-9A80973E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51F9-D5C5-4CBB-AF4C-89127C7F64F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B646-CF2F-457C-AEFD-2E474185C6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5.pn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5.png"/><Relationship Id="rId10" Type="http://schemas.openxmlformats.org/officeDocument/2006/relationships/image" Target="../media/image3.gif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0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1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4"/>
          <p:cNvSpPr/>
          <p:nvPr/>
        </p:nvSpPr>
        <p:spPr>
          <a:xfrm>
            <a:off x="1187280" y="2708280"/>
            <a:ext cx="6913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13" descr=""/>
          <p:cNvPicPr/>
          <p:nvPr/>
        </p:nvPicPr>
        <p:blipFill>
          <a:blip r:embed="rId12"/>
          <a:stretch/>
        </p:blipFill>
        <p:spPr>
          <a:xfrm>
            <a:off x="828720" y="1487520"/>
            <a:ext cx="7199280" cy="5173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6"/>
          <p:cNvSpPr/>
          <p:nvPr/>
        </p:nvSpPr>
        <p:spPr>
          <a:xfrm>
            <a:off x="755640" y="2565360"/>
            <a:ext cx="799308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КДОУ Латненский детский сад «Родничо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«Признаки ос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еревья и листья осень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Подготовила :воспитатель 1 К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                                                                                </a:t>
            </a:r>
            <a:r>
              <a:rPr b="1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Рожкова Алл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3"/>
          <a:stretch/>
        </p:blipFill>
        <p:spPr>
          <a:xfrm>
            <a:off x="1619280" y="189000"/>
            <a:ext cx="1500120" cy="968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Пользователь\Рабочий стол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600200"/>
            <a:ext cx="675792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Озорной повес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ролетел над лесом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рыльями взмахнул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лист с дерева стряхну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Управляющая кнопка: справка 3">
            <a:hlinkClick r:id="" action="ppaction://hlinkshowjump?jump=nextslide"/>
          </p:cNvPr>
          <p:cNvSpPr/>
          <p:nvPr/>
        </p:nvSpPr>
        <p:spPr>
          <a:xfrm>
            <a:off x="800100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3d69b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Пользователь\Рабочий стол\Рисунок3.jpg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564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643720" y="214200"/>
            <a:ext cx="328608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те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215200" y="5929200"/>
            <a:ext cx="785880" cy="755640"/>
          </a:xfrm>
          <a:custGeom>
            <a:avLst/>
            <a:gdLst>
              <a:gd name="textAreaLeft" fmla="*/ 48960 w 785880"/>
              <a:gd name="textAreaRight" fmla="*/ 736920 w 78588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2464" h="21600">
                <a:moveTo>
                  <a:pt x="0" y="0"/>
                </a:moveTo>
                <a:lnTo>
                  <a:pt x="22464" y="0"/>
                </a:lnTo>
                <a:lnTo>
                  <a:pt x="22464" y="21600"/>
                </a:lnTo>
                <a:lnTo>
                  <a:pt x="0" y="21600"/>
                </a:lnTo>
                <a:close/>
              </a:path>
              <a:path fill="lightenLess" w="22464" h="21600">
                <a:moveTo>
                  <a:pt x="0" y="0"/>
                </a:moveTo>
                <a:lnTo>
                  <a:pt x="22464" y="0"/>
                </a:lnTo>
                <a:lnTo>
                  <a:pt x="21064" y="1400"/>
                </a:lnTo>
                <a:lnTo>
                  <a:pt x="1400" y="1400"/>
                </a:lnTo>
                <a:close/>
              </a:path>
              <a:path fill="darken" w="22464" h="21600">
                <a:moveTo>
                  <a:pt x="22464" y="0"/>
                </a:moveTo>
                <a:lnTo>
                  <a:pt x="22464" y="21600"/>
                </a:lnTo>
                <a:lnTo>
                  <a:pt x="21064" y="20200"/>
                </a:lnTo>
                <a:lnTo>
                  <a:pt x="21064" y="1400"/>
                </a:lnTo>
                <a:close/>
              </a:path>
              <a:path fill="darkenLess" w="22464" h="21600">
                <a:moveTo>
                  <a:pt x="22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64" y="20200"/>
                </a:lnTo>
                <a:close/>
              </a:path>
              <a:path fill="lighten" w="22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64" h="21600">
                <a:moveTo>
                  <a:pt x="4226" y="3794"/>
                </a:moveTo>
                <a:lnTo>
                  <a:pt x="18238" y="10800"/>
                </a:lnTo>
                <a:lnTo>
                  <a:pt x="4226" y="17806"/>
                </a:lnTo>
                <a:close/>
              </a:path>
            </a:pathLst>
          </a:cu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Пользователь\Рабочий стол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186920" y="1413000"/>
            <a:ext cx="6193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н идёт, а мы бежи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н догонит всё рав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дом укрыться мы спеши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Будет к нам стучать в окн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 по крыше тук да тук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т, не впустим, милый друг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Управляющая кнопка: справка 3">
            <a:hlinkClick r:id="" action="ppaction://hlinkshowjump?jump=nextslide"/>
          </p:cNvPr>
          <p:cNvSpPr/>
          <p:nvPr/>
        </p:nvSpPr>
        <p:spPr>
          <a:xfrm>
            <a:off x="7858080" y="564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3d69b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Documents and Settings\Пользователь\Рабочий стол\Рисунок4.jpg"/>
          <p:cNvPicPr/>
          <p:nvPr/>
        </p:nvPicPr>
        <p:blipFill>
          <a:blip r:embed="rId1"/>
          <a:srcRect l="-1210" t="0" r="0" b="0"/>
          <a:stretch/>
        </p:blipFill>
        <p:spPr>
          <a:xfrm>
            <a:off x="0" y="115920"/>
            <a:ext cx="9056520" cy="662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14200" y="213840"/>
            <a:ext cx="332928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ждь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43920" y="585792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Documents and Settings\Пользователь\Рабочий стол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6840" y="1428480"/>
            <a:ext cx="66150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еновый, дубовый, осиновый ли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жно за руки взяли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ужились, понесли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желтел и лес, и са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 узнали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Управляющая кнопка: справка 3">
            <a:hlinkClick r:id="" action="ppaction://hlinkshowjump?jump=nextslide"/>
          </p:cNvPr>
          <p:cNvSpPr/>
          <p:nvPr/>
        </p:nvSpPr>
        <p:spPr>
          <a:xfrm>
            <a:off x="7786800" y="564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3d69b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Пользователь\Рабочий стол\Рисунок5.jpg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553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42880" y="142560"/>
            <a:ext cx="4714920" cy="10825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1" lang="ru-RU" sz="8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и</a:t>
            </a:r>
            <a:r>
              <a:rPr b="1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</a:t>
            </a: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r>
              <a:rPr b="1" lang="ru-RU" sz="8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</a:t>
            </a:r>
            <a:r>
              <a:rPr b="1" lang="ru-RU" sz="80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</a:t>
            </a:r>
            <a:r>
              <a:rPr b="1" lang="ru-RU" sz="8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</a:t>
            </a:r>
            <a:r>
              <a:rPr b="1" lang="ru-RU" sz="80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д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F1BA-DD08-4957-803D-0B69CCD4E11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3676-8B19-4C4A-B126-E58AFF3B3D5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8"/>
          <p:cNvSpPr/>
          <p:nvPr/>
        </p:nvSpPr>
        <p:spPr>
          <a:xfrm>
            <a:off x="108000" y="189000"/>
            <a:ext cx="8928000" cy="6480000"/>
          </a:xfrm>
          <a:prstGeom prst="rect">
            <a:avLst/>
          </a:prstGeom>
          <a:solidFill>
            <a:srgbClr val="f7fdad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781200" y="5805360"/>
            <a:ext cx="693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вайтесь от ребёнка полного ответа на заданные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15160" y="549360"/>
            <a:ext cx="668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ребёнку рассказ, задайте вопросы, предложи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казать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611280" y="1341360"/>
            <a:ext cx="792144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Лес осен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Летом лес был зелёный. Теперь берёзки и клёны жёлтые. Осины красные. Между ними ёлочки зелене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Налетит ветер. Закружатся листья в воздухе, словно бабочки. Потом тихо – тихо на землю опуск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Травы и цветы вянут. Семена их на землю осыпаются. На следующий год из семян вырастут новые рас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 1. О каком времени года говорится в рассказ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ого цвета лес был лет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ого цвета стали берёзки и клёны осень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ого цвета стали осенью оси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кие деревья не изменили своего цве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ак кружатся листья в воздух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Пользователь\Рабочий стол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B6EE-971D-4FBD-BBD8-F0D144C292A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8369-6128-45A9-BE19-B709B29F034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2428920" y="2060640"/>
            <a:ext cx="411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есною зелен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Летом загор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сенью над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расные корал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Управляющая кнопка: справка 7">
            <a:hlinkClick r:id="" action="ppaction://hlinkshowjump?jump=nextslide"/>
          </p:cNvPr>
          <p:cNvSpPr/>
          <p:nvPr/>
        </p:nvSpPr>
        <p:spPr>
          <a:xfrm>
            <a:off x="7786800" y="564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3d69b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3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5F26-D205-4A30-B0E6-4F8BE5F2A7D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423680" y="189000"/>
            <a:ext cx="452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ЯБИ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43920" y="585792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Documents and Settings\Пользователь\Рабочий стол\Рисунок2.gif"/>
          <p:cNvPicPr/>
          <p:nvPr/>
        </p:nvPicPr>
        <p:blipFill>
          <a:blip r:embed="rId2"/>
          <a:stretch/>
        </p:blipFill>
        <p:spPr>
          <a:xfrm>
            <a:off x="971640" y="404640"/>
            <a:ext cx="3895560" cy="6229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Documents and Settings\Пользователь\Рабочий стол\Рисунок2.gif"/>
          <p:cNvPicPr/>
          <p:nvPr/>
        </p:nvPicPr>
        <p:blipFill>
          <a:blip r:embed="rId3"/>
          <a:stretch/>
        </p:blipFill>
        <p:spPr>
          <a:xfrm>
            <a:off x="5219640" y="1268280"/>
            <a:ext cx="3265560" cy="522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Documents and Settings\Пользователь\Рабочий стол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7681-0148-4DAA-8089-2E2055E29C4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1887-22C6-47CE-8479-37E0F7B6DA0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1702800" y="1916280"/>
            <a:ext cx="4725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Желто-красная одеж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Каждый листи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как ладо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Осенью всех ярче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Догадались? Это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Управляющая кнопка: справка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3d69b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8"/>
          <p:cNvSpPr/>
          <p:nvPr/>
        </p:nvSpPr>
        <p:spPr>
          <a:xfrm>
            <a:off x="108000" y="189000"/>
            <a:ext cx="8928000" cy="6480000"/>
          </a:xfrm>
          <a:prstGeom prst="rect">
            <a:avLst/>
          </a:prstGeom>
          <a:solidFill>
            <a:srgbClr val="f7fdad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45FE-5242-4DC8-A3B6-3663D58030D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907920"/>
            <a:ext cx="822960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представление об осени как времени года, о существенных признаках сезона: похолодании, сокращении светового дня, холодных затяжных осадк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сти в активный словарь ребен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ществительны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ень, дождь, туман, туча, листопад, непогода, сырость, названия деревьев (береза, рябина, дуб,     клен, ель, осина, сосн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лаго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ступать, желтеть, краснеть, опадать, дуть, ли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януть, моросить, хмуриться, накрапывать, облет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лагатель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хмурый, желтый, разноцветный, дождливая, унылый, пасмурный, проливн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реч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кро, сыро, ненастно, пасмурно, хмуро, ветрено, ясно, солнечн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684000" y="333360"/>
            <a:ext cx="13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1800" spc="-1" strike="noStrike">
                <a:solidFill>
                  <a:srgbClr val="e46c0a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182D-0B22-4106-B142-72B722460A8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F60C-8757-4CD9-BA77-F2CA7CCE5EA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143920" y="585792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179280" y="189000"/>
            <a:ext cx="27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Клё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C:\Documents and Settings\Пользователь\Рабочий стол\Рисунок3.gif"/>
          <p:cNvPicPr/>
          <p:nvPr/>
        </p:nvPicPr>
        <p:blipFill>
          <a:blip r:embed="rId2"/>
          <a:stretch/>
        </p:blipFill>
        <p:spPr>
          <a:xfrm>
            <a:off x="2085840" y="189000"/>
            <a:ext cx="4519800" cy="6669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Documents and Settings\Пользователь\Рабочий стол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21A6-24CA-4E12-8163-D402C288654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5D7E-6C7A-4F19-AB2A-0D5CA370FED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1258920" y="2492280"/>
            <a:ext cx="5775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ревца в лесу сто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же в тихий день дрож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доль извилистой тропи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елестят листво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Управляющая кнопка: справка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3d69b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6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689C-1D1C-488B-AACA-4DE2A9D7999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5D65-6EFC-46A4-8678-9F370C0E129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17280" y="0"/>
            <a:ext cx="34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ин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C:\Documents and Settings\Пользователь\Рабочий стол\Рисунок1.gif"/>
          <p:cNvPicPr/>
          <p:nvPr/>
        </p:nvPicPr>
        <p:blipFill>
          <a:blip r:embed="rId2"/>
          <a:srcRect l="0" t="3269" r="3121" b="7304"/>
          <a:stretch/>
        </p:blipFill>
        <p:spPr>
          <a:xfrm>
            <a:off x="3419640" y="0"/>
            <a:ext cx="2952720" cy="6630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Documents and Settings\Пользователь\Рабочий стол\Рисунок1.gif"/>
          <p:cNvPicPr/>
          <p:nvPr/>
        </p:nvPicPr>
        <p:blipFill>
          <a:blip r:embed="rId3"/>
          <a:stretch/>
        </p:blipFill>
        <p:spPr>
          <a:xfrm>
            <a:off x="1332000" y="1268280"/>
            <a:ext cx="1914480" cy="4657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Documents and Settings\Пользователь\Рабочий стол\Рисунок1.gif"/>
          <p:cNvPicPr/>
          <p:nvPr/>
        </p:nvPicPr>
        <p:blipFill>
          <a:blip r:embed="rId4"/>
          <a:stretch/>
        </p:blipFill>
        <p:spPr>
          <a:xfrm>
            <a:off x="6588000" y="1484280"/>
            <a:ext cx="1914480" cy="4657680"/>
          </a:xfrm>
          <a:prstGeom prst="rect">
            <a:avLst/>
          </a:prstGeom>
          <a:ln w="0">
            <a:noFill/>
          </a:ln>
        </p:spPr>
      </p:pic>
      <p:sp>
        <p:nvSpPr>
          <p:cNvPr id="168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8143920" y="585792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Documents and Settings\Пользователь\Рабочий стол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0798-FA37-4CF9-A4CE-F50153FB2A7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6C96-75FC-4563-887E-A0AFEE7DCE5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1691280" y="1773360"/>
            <a:ext cx="4882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н в лесу, как витяз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Желудями в срок о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 лесник, и лесор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 ним знакомы. Это..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Управляющая кнопка: справка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3d69b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7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336D-C315-4078-8379-34A89B1204E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524D-7904-420B-BC67-90238F15725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5884920" y="0"/>
            <a:ext cx="208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D:\Новая папка (2)\Мои рисунки\деревья\дуб.gif"/>
          <p:cNvPicPr/>
          <p:nvPr/>
        </p:nvPicPr>
        <p:blipFill>
          <a:blip r:embed="rId2"/>
          <a:stretch/>
        </p:blipFill>
        <p:spPr>
          <a:xfrm>
            <a:off x="539640" y="-171360"/>
            <a:ext cx="5977080" cy="7200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1"/>
          <p:cNvSpPr/>
          <p:nvPr/>
        </p:nvSpPr>
        <p:spPr>
          <a:xfrm>
            <a:off x="108000" y="189000"/>
            <a:ext cx="8928000" cy="6443640"/>
          </a:xfrm>
          <a:prstGeom prst="rect">
            <a:avLst/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6E3C-F784-4C6C-9C5C-97FFFAA9F3B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480240" y="333360"/>
            <a:ext cx="627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екомендации родителя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95280" y="1197000"/>
            <a:ext cx="84646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рогулок с ребенком наблюдайте за изменениями в приро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олнцем (как грело летом, как греет теперь). Обратите внимание на каждодневный путь сол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садками, за облачностью. Обратите внимание на дующие  прохладные ветры, приносящие дождь и пасмурную по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ебом (все чаще небо хмурое, серое, покрыто тяжелыми туч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деждой людей (что изменилось, сравните одежду летом и осень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7"/>
          <p:cNvSpPr/>
          <p:nvPr/>
        </p:nvSpPr>
        <p:spPr>
          <a:xfrm>
            <a:off x="108000" y="189000"/>
            <a:ext cx="8928000" cy="6480000"/>
          </a:xfrm>
          <a:prstGeom prst="rect">
            <a:avLst/>
          </a:prstGeom>
          <a:solidFill>
            <a:srgbClr val="f7fdad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17C2-1536-4016-8969-B7799529588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1689120" y="476280"/>
            <a:ext cx="51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Пальчиковая гимнаст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9640" y="1197000"/>
          <a:ext cx="7848720" cy="4940280"/>
        </p:xfrm>
        <a:graphic>
          <a:graphicData uri="http://schemas.openxmlformats.org/drawingml/2006/table">
            <a:tbl>
              <a:tblPr/>
              <a:tblGrid>
                <a:gridCol w="4248360"/>
                <a:gridCol w="360036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бросала осень листья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делает волнообразные движения ладоня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украсила их кисть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ет плавные взмахи ладонями вверх, вниз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72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в осенний парк пойде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Шагает» пальчиками обеих ру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букеты листья собере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рещивает ладони с растопыриванием пальце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 кленовый, лист с осинк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 дубовый, лист рябин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жий тополиный ли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поочередно загибает пальцы, начиная с большого, на обеих руках одновремен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рожку спрыгнул вниз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пает в ладон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8E09-EFBB-41E6-8D1F-C14E62BF145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5" descr=""/>
          <p:cNvPicPr/>
          <p:nvPr/>
        </p:nvPicPr>
        <p:blipFill>
          <a:blip r:embed="rId1"/>
          <a:stretch/>
        </p:blipFill>
        <p:spPr>
          <a:xfrm>
            <a:off x="2193840" y="262080"/>
            <a:ext cx="4792680" cy="64584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866520" y="907920"/>
            <a:ext cx="3211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осчитай листоч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419400" y="1413000"/>
            <a:ext cx="82731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дубовый листочек, два дубовых листочка…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 дубовых листоч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 так же ребенок считает кленовые, березовые, липовые, осиновы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листочки. Обязательно обращайте внимание на соглас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ительных с прилагательными и существитель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5006880" y="3213000"/>
            <a:ext cx="3454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справь предлож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3800520" y="3716280"/>
            <a:ext cx="497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лёне желтеют берёзовые лис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идёт дождь, на улице сух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720000" y="4724280"/>
            <a:ext cx="79182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ru-RU" sz="2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родолжи предлож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ю сбрасывают листья дубы,…(клёны, ивы, топол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 кружит листья берёзы,…(осины, липы, дуба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rcRect l="19356" t="14485" r="19356" b="19559"/>
          <a:stretch/>
        </p:blipFill>
        <p:spPr>
          <a:xfrm>
            <a:off x="6875640" y="333360"/>
            <a:ext cx="1196640" cy="129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3"/>
          <a:srcRect l="0" t="0" r="10414" b="7162"/>
          <a:stretch/>
        </p:blipFill>
        <p:spPr>
          <a:xfrm rot="2607000">
            <a:off x="7283160" y="1002960"/>
            <a:ext cx="1295280" cy="1133280"/>
          </a:xfrm>
          <a:prstGeom prst="rect">
            <a:avLst/>
          </a:prstGeom>
          <a:ln w="0">
            <a:noFill/>
          </a:ln>
        </p:spPr>
      </p:pic>
      <p:sp>
        <p:nvSpPr>
          <p:cNvPr id="78" name="TextBox 13"/>
          <p:cNvSpPr/>
          <p:nvPr/>
        </p:nvSpPr>
        <p:spPr>
          <a:xfrm>
            <a:off x="543960" y="3284640"/>
            <a:ext cx="286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кажи наоборо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469080" y="3716280"/>
            <a:ext cx="276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ый дуб –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ая осинка –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 ель –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5"/>
          <p:cNvSpPr/>
          <p:nvPr/>
        </p:nvSpPr>
        <p:spPr>
          <a:xfrm>
            <a:off x="684360" y="595008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дубом было много … (желуд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9"/>
          <p:cNvSpPr/>
          <p:nvPr/>
        </p:nvSpPr>
        <p:spPr>
          <a:xfrm>
            <a:off x="108000" y="189000"/>
            <a:ext cx="8928000" cy="6480000"/>
          </a:xfrm>
          <a:prstGeom prst="rect">
            <a:avLst/>
          </a:prstGeom>
          <a:solidFill>
            <a:srgbClr val="f7fdad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A327-12A0-480F-A744-763CAC3268B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568320" y="40464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Три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492480" y="907920"/>
            <a:ext cx="8184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жите три разных листочка (или картинки с изображением листье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е  ребёнку назвать листья и сказать как они леж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«Дубовый лист – между кленовым и берёзовы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леновый лист – справа от рябинового и слева от дубовог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рёзовый лист лежит около кленового»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308720" y="4292640"/>
            <a:ext cx="1584360" cy="2352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Пользователь\Рабочий стол\List_klena.jpg"/>
          <p:cNvPicPr/>
          <p:nvPr/>
        </p:nvPicPr>
        <p:blipFill>
          <a:blip r:embed="rId2"/>
          <a:stretch/>
        </p:blipFill>
        <p:spPr>
          <a:xfrm>
            <a:off x="1476360" y="2781360"/>
            <a:ext cx="1538280" cy="1425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Documents and Settings\Пользователь\Рабочий стол\List_duba1.jpg"/>
          <p:cNvPicPr/>
          <p:nvPr/>
        </p:nvPicPr>
        <p:blipFill>
          <a:blip r:embed="rId3"/>
          <a:stretch/>
        </p:blipFill>
        <p:spPr>
          <a:xfrm>
            <a:off x="3203640" y="2781360"/>
            <a:ext cx="1584360" cy="14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Documents and Settings\Пользователь\Рабочий стол\List_berezy1.png"/>
          <p:cNvPicPr/>
          <p:nvPr/>
        </p:nvPicPr>
        <p:blipFill>
          <a:blip r:embed="rId4"/>
          <a:stretch/>
        </p:blipFill>
        <p:spPr>
          <a:xfrm>
            <a:off x="5219640" y="2637000"/>
            <a:ext cx="1432080" cy="1655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Documents and Settings\Пользователь\Рабочий стол\List_topolya-e1348399436890.jpg"/>
          <p:cNvPicPr/>
          <p:nvPr/>
        </p:nvPicPr>
        <p:blipFill>
          <a:blip r:embed="rId5"/>
          <a:stretch/>
        </p:blipFill>
        <p:spPr>
          <a:xfrm rot="2403000">
            <a:off x="4788000" y="4220640"/>
            <a:ext cx="1233360" cy="2021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C:\Documents and Settings\Пользователь\Рабочий стол\risunki-listev-derevev-s-nazvaniyami7.gif"/>
          <p:cNvPicPr/>
          <p:nvPr/>
        </p:nvPicPr>
        <p:blipFill>
          <a:blip r:embed="rId6"/>
          <a:stretch/>
        </p:blipFill>
        <p:spPr>
          <a:xfrm>
            <a:off x="2556000" y="4653000"/>
            <a:ext cx="1368360" cy="1263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87EE-29F5-48E6-BDC8-7160D752236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13DE-CE11-44E8-BFBA-C761104E075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Documents and Settings\Пользователь\Рабочий стол\Рисунок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5" descr=""/>
          <p:cNvPicPr/>
          <p:nvPr/>
        </p:nvPicPr>
        <p:blipFill>
          <a:blip r:embed="rId2"/>
          <a:stretch/>
        </p:blipFill>
        <p:spPr>
          <a:xfrm>
            <a:off x="3706920" y="1268280"/>
            <a:ext cx="4572000" cy="126684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3274560" y="2421000"/>
            <a:ext cx="510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е ребёнку отгадать заг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бъяснить, что ему помогло их отга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Пользователь\Рабочий стол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71720" y="1428840"/>
            <a:ext cx="60004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лащ золотистый она надева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ёплое лето она провожа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тиц отправляет в дальние стран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м оставляет дожди и тум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Управляющая кнопка: справка 3">
            <a:hlinkClick r:id="" action="ppaction://hlinkshowjump?jump=nextslide"/>
          </p:cNvPr>
          <p:cNvSpPr/>
          <p:nvPr/>
        </p:nvSpPr>
        <p:spPr>
          <a:xfrm>
            <a:off x="7929720" y="564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3d69b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C:\Documents and Settings\Пользователь\Рабочий стол\Рисунок1.jpg"/>
          <p:cNvPicPr/>
          <p:nvPr/>
        </p:nvPicPr>
        <p:blipFill>
          <a:blip r:embed="rId1"/>
          <a:stretch/>
        </p:blipFill>
        <p:spPr>
          <a:xfrm>
            <a:off x="108000" y="189000"/>
            <a:ext cx="8928000" cy="6551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0" y="274680"/>
            <a:ext cx="368604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ен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143920" y="592920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10:27:06Z</dcterms:created>
  <dc:creator>Арсеньева О.Ю.</dc:creator>
  <dc:description/>
  <dc:language>en-US</dc:language>
  <cp:lastModifiedBy>пк</cp:lastModifiedBy>
  <dcterms:modified xsi:type="dcterms:W3CDTF">2022-11-20T17:55:37Z</dcterms:modified>
  <cp:revision>99</cp:revision>
  <dc:subject/>
  <dc:title>Слайд 1</dc:title>
</cp:coreProperties>
</file>