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F3C9-0FB4-4C08-8E64-7505F117B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0A39-397B-4656-97BF-405754CF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E9C8-4F3B-4DB6-A95D-68B47C13D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E528-7D30-45FC-B868-D2CEB696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76D4-F870-4698-A20F-19D973F53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2667-B20B-4ABA-8724-EDB2FD17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6EA5-652F-40CE-9774-9C49F66D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DA62-53EC-4C19-B10B-4C09D07E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6CBD-35DA-46EF-AE62-D97D11B0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81A4-41F9-4AA9-8265-86124B29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97ED-791E-451E-85B4-4D9D8827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BF25-60A0-4E9D-A286-532217C2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F14D-2B65-4BB6-8A14-DB05D276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E83E-4990-4C9A-997B-FFEC8B7E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F765-1D7B-420A-9DDA-464A0BAD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19E7-5E33-4AAD-9FD1-0ACA2C5A4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B2D9-70CC-4F2C-953C-46446A97E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E930-9B41-4547-ACAE-523AB121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043A-B327-4AE4-9896-57B4DA4D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BEA1-7883-4809-8F54-5BA26340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3919-F93B-4E9A-8483-0B58387A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42B5-C0C9-41D5-8728-D6F31DD4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1F72-78C4-41C1-A4E8-342D7735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41A5-EE29-4881-ACD3-27A92E7B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C049340-F162-4144-BC52-3673C1D28DD4}" type="datetime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36D9A6F-0DAF-419A-8A48-4E9AAFBE8338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9671370-96CC-4C47-9AF3-18679AE05847}" type="datetime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66EDA38-3268-4082-865F-8AC15F3AEDF4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3"/>
          <p:cNvSpPr/>
          <p:nvPr/>
        </p:nvSpPr>
        <p:spPr>
          <a:xfrm flipV="1" rot="10800000">
            <a:off x="2411280" y="1432440"/>
            <a:ext cx="4648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 Black"/>
              </a:rPr>
              <a:t>Проект</a:t>
            </a:r>
            <a:r>
              <a:rPr b="0" lang="ru-RU" sz="5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 Black"/>
              </a:rPr>
              <a:t>«</a:t>
            </a:r>
            <a:r>
              <a:rPr b="0" lang="ru-RU" sz="5400" spc="-1" strike="noStrike">
                <a:solidFill>
                  <a:srgbClr val="ff0000"/>
                </a:solidFill>
                <a:latin typeface="Arial Black"/>
              </a:rPr>
              <a:t>Девочки-</a:t>
            </a:r>
            <a:r>
              <a:rPr b="0" lang="ru-RU" sz="5400" spc="-1" strike="noStrike">
                <a:solidFill>
                  <a:srgbClr val="0070c0"/>
                </a:solidFill>
                <a:latin typeface="Arial Black"/>
              </a:rPr>
              <a:t>мальчики</a:t>
            </a:r>
            <a:r>
              <a:rPr b="0" lang="ru-RU" sz="5400" spc="-1" strike="noStrike">
                <a:solidFill>
                  <a:srgbClr val="000000"/>
                </a:solidFill>
                <a:latin typeface="Arial Black"/>
              </a:rPr>
              <a:t>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1835280" y="5445000"/>
            <a:ext cx="45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Ефимова С.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1"/>
          <p:cNvSpPr/>
          <p:nvPr/>
        </p:nvSpPr>
        <p:spPr>
          <a:xfrm>
            <a:off x="1238760" y="692280"/>
            <a:ext cx="72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ДОУ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тавальского  МР РК  Детский сад №23 корпус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6" descr="C:\Users\User\Pictures\depositphotos_142531027-stock-illustration-cute-boy-cartoon.jpg"/>
          <p:cNvPicPr/>
          <p:nvPr/>
        </p:nvPicPr>
        <p:blipFill>
          <a:blip r:embed="rId1"/>
          <a:stretch/>
        </p:blipFill>
        <p:spPr>
          <a:xfrm>
            <a:off x="179280" y="1284120"/>
            <a:ext cx="2376720" cy="2883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C:\Users\User\Pictures\beautiful-doll-baby-girl-long-brown-hair-pink-dress-isolated-white-vector-illustration-214812359.jpg"/>
          <p:cNvPicPr/>
          <p:nvPr/>
        </p:nvPicPr>
        <p:blipFill>
          <a:blip r:embed="rId2"/>
          <a:stretch/>
        </p:blipFill>
        <p:spPr>
          <a:xfrm>
            <a:off x="6227640" y="3843360"/>
            <a:ext cx="237672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2340000" y="54936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этап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проект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C:\Users\User\Pictures\карточка-валентайн-23148989.jpg"/>
          <p:cNvPicPr/>
          <p:nvPr/>
        </p:nvPicPr>
        <p:blipFill>
          <a:blip r:embed="rId1"/>
          <a:stretch/>
        </p:blipFill>
        <p:spPr>
          <a:xfrm>
            <a:off x="2378160" y="1773360"/>
            <a:ext cx="45352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116000" y="549360"/>
          <a:ext cx="7272360" cy="6095880"/>
        </p:xfrm>
        <a:graphic>
          <a:graphicData uri="http://schemas.openxmlformats.org/drawingml/2006/table">
            <a:tbl>
              <a:tblPr/>
              <a:tblGrid>
                <a:gridCol w="2835360"/>
                <a:gridCol w="4437000"/>
              </a:tblGrid>
              <a:tr h="6095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знавательное развит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бота с зеркалом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«Мои эмоции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д. игр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«Кто что надевает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ь идентифицировать себя с представителями своего по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смотр мультфильм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«Маша и медведь» с обсуждением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Д  «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вочки и мальчики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ь детей быть внимательными друг к другу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ть классификационные умения на примере предметов одежд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дактические иг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пиши того, кто справа...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день куклу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стираем одежду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81818"/>
                          </a:solidFill>
                          <a:latin typeface="Times New Roman"/>
                          <a:ea typeface="Times New Roman"/>
                        </a:rPr>
                        <a:t>Развивать представления о других людях на основе сопоставления себя с ними, выделения сходств и различий.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1258920" y="404640"/>
          <a:ext cx="7058160" cy="6048720"/>
        </p:xfrm>
        <a:graphic>
          <a:graphicData uri="http://schemas.openxmlformats.org/drawingml/2006/table">
            <a:tbl>
              <a:tblPr/>
              <a:tblGrid>
                <a:gridCol w="3157560"/>
                <a:gridCol w="3900600"/>
              </a:tblGrid>
              <a:tr h="6048720">
                <a:tc>
                  <a:txBody>
                    <a:bodyPr lIns="59760" rIns="59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знавательное развит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руирован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омик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рузей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81818"/>
                          </a:solidFill>
                          <a:latin typeface="Times New Roman"/>
                          <a:ea typeface="Times New Roman"/>
                        </a:rPr>
                        <a:t>Воспитывать дружеские взаимоотнош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блюдения за работой дворника, помощника воспитателя, пова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81818"/>
                          </a:solidFill>
                          <a:latin typeface="Times New Roman"/>
                          <a:ea typeface="Times New Roman"/>
                        </a:rPr>
                        <a:t>Формировать представления о «женских» и «мужских» видах деятельност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116000" y="333360"/>
          <a:ext cx="6912000" cy="6110280"/>
        </p:xfrm>
        <a:graphic>
          <a:graphicData uri="http://schemas.openxmlformats.org/drawingml/2006/table">
            <a:tbl>
              <a:tblPr/>
              <a:tblGrid>
                <a:gridCol w="2570040"/>
                <a:gridCol w="4341960"/>
              </a:tblGrid>
              <a:tr h="6110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чевое развити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се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вила в нашей группе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Мальчики- защитники слабы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Девочки-мамины помощнки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Мой папа», «Моя мама лучше всех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вивать умения соотносить свое полоролевое поведение с поведением других, адекватно оценивать полоролевое поведение сверстников и свое собственно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ение художественной литературы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. Маяковский «Что такое хорошо и что такое плохо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 Маршак «О девочках и мальчиках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258920" y="692280"/>
          <a:ext cx="6842160" cy="5616360"/>
        </p:xfrm>
        <a:graphic>
          <a:graphicData uri="http://schemas.openxmlformats.org/drawingml/2006/table">
            <a:tbl>
              <a:tblPr/>
              <a:tblGrid>
                <a:gridCol w="2544840"/>
                <a:gridCol w="4297320"/>
              </a:tblGrid>
              <a:tr h="5616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удожественно- эстетическое развити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сценирование сказки «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урочка Ряба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Заюшкина избушка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смотр мультфильмов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«Яблоко», «Кошкин дом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формировать представления о роли и занятости мужчины и женщины в семь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Д по изо ( аппликация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арок папе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Открытка для мамы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ть эмоционально-положительное отношение к выполнению будущей социальной ро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1042920" y="765000"/>
          <a:ext cx="7201080" cy="5727960"/>
        </p:xfrm>
        <a:graphic>
          <a:graphicData uri="http://schemas.openxmlformats.org/drawingml/2006/table">
            <a:tbl>
              <a:tblPr/>
              <a:tblGrid>
                <a:gridCol w="3116160"/>
                <a:gridCol w="4084920"/>
              </a:tblGrid>
              <a:tr h="2605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изическое развити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вижные игры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1-2-3 девочки бегите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гры с пальчик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Дружат в нашей группе девочки и мальчики»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спитывать дружеские взаимоотнош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2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циально- коммуникативное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вити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Сюжетно-ролевые игры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дем гостей», «Больница», «Семья», «Гараж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здавать условия для реализации знаний об эталонах «мужского» и «женского» поведения в игровых и реальных взаимоотношениях со сверстниками. Сформировать представления о роли и занятости мужчины и женщины в семь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1604880" y="1557360"/>
          <a:ext cx="6351840" cy="4149720"/>
        </p:xfrm>
        <a:graphic>
          <a:graphicData uri="http://schemas.openxmlformats.org/drawingml/2006/table">
            <a:tbl>
              <a:tblPr/>
              <a:tblGrid>
                <a:gridCol w="2362320"/>
                <a:gridCol w="3989520"/>
              </a:tblGrid>
              <a:tr h="414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бота с родителям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сультация для родителей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пки-передвижки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Гендерное воспитание в детском саду: что это и для чего?"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ак воспитывать девочку"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ак воспитывать девочку»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то-выставка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« Игры мальчиков и девочек»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2195640" y="2708280"/>
            <a:ext cx="681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Спасибо за внимание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3"/>
          <p:cNvSpPr/>
          <p:nvPr/>
        </p:nvSpPr>
        <p:spPr>
          <a:xfrm>
            <a:off x="2207160" y="54936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1476360" y="1071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13" descr=""/>
          <p:cNvPicPr/>
          <p:nvPr/>
        </p:nvPicPr>
        <p:blipFill>
          <a:blip r:embed="rId1"/>
          <a:stretch/>
        </p:blipFill>
        <p:spPr>
          <a:xfrm>
            <a:off x="1476360" y="1071720"/>
            <a:ext cx="615168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1628640" y="765000"/>
            <a:ext cx="5942160" cy="3154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Users\User\Pictures\28340c133a33d4c837c2967768494b29--baby-jesus-christmas-pictures.jpg"/>
          <p:cNvPicPr/>
          <p:nvPr/>
        </p:nvPicPr>
        <p:blipFill>
          <a:blip r:embed="rId2"/>
          <a:stretch/>
        </p:blipFill>
        <p:spPr>
          <a:xfrm>
            <a:off x="4140360" y="3919680"/>
            <a:ext cx="315576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594180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1600200" y="1152360"/>
            <a:ext cx="5942160" cy="42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1600200" y="1733400"/>
            <a:ext cx="594216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600200" y="1733400"/>
            <a:ext cx="594216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835280" y="1635120"/>
            <a:ext cx="568944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седа с целью выявления знаний дет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Вопрос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Кто ты девочка или мальчик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Как одеты девочки и мальчик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В какие игры ты любишь играт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Беседа показала, что не все дети знают о своем половом различии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1600200" y="2379600"/>
            <a:ext cx="594216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4:23:19Z</dcterms:created>
  <dc:creator>User</dc:creator>
  <dc:description/>
  <dc:language>en-US</dc:language>
  <cp:lastModifiedBy>Светлана Ефимова</cp:lastModifiedBy>
  <dcterms:modified xsi:type="dcterms:W3CDTF">2022-02-07T15:45:09Z</dcterms:modified>
  <cp:revision>141</cp:revision>
  <dc:subject/>
  <dc:title>Слайд 1</dc:title>
</cp:coreProperties>
</file>