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053-288B-40CB-8EC5-A798B507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504-F7B0-491A-929F-E3B241F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A38-8E1B-41F7-AEA8-691F88A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1F4-20C2-4B4A-9B66-4DCCAB1E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338-FD88-401C-83B0-3C9D9C7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CA8-A8A7-4199-AA30-0671CF3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02B-EDF8-4F2A-934A-50ECA60E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B61-54A0-4BED-92FA-BF033470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F8F-0210-43D0-BF84-07096EE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7F6-7130-42DD-89FF-29BAAF9A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ED4-6397-41F7-A759-EB45559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474-9574-4390-B5A7-95874E8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1A3-F668-4C06-9C50-757F3F815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1252440" y="149400"/>
            <a:ext cx="187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работа  по русскому язы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каз о слове»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5033880" y="857160"/>
            <a:ext cx="3894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ма: Кош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232160" y="2660760"/>
            <a:ext cx="691524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роект выполнила: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Ученица 3 «Б» клас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МАОУ «СОШ№5 г. Закаменск»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3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Ибрагимова Валерия.</a:t>
            </a:r>
            <a:r>
              <a:rPr b="1" lang="ru-RU" sz="25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Учитель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Федосеева Елена Михайл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Ноябрь 202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94600" y="1030320"/>
            <a:ext cx="171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Кош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Прямая со стрелкой 7"/>
          <p:cNvCxnSpPr/>
          <p:nvPr/>
        </p:nvCxnSpPr>
        <p:spPr>
          <a:xfrm>
            <a:off x="2535120" y="1356840"/>
            <a:ext cx="478800" cy="3200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51" name="Прямая со стрелкой 9"/>
          <p:cNvCxnSpPr/>
          <p:nvPr/>
        </p:nvCxnSpPr>
        <p:spPr>
          <a:xfrm flipV="1">
            <a:off x="2527200" y="1018800"/>
            <a:ext cx="564480" cy="2469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52" name="Прямоугольник 11"/>
          <p:cNvSpPr/>
          <p:nvPr/>
        </p:nvSpPr>
        <p:spPr>
          <a:xfrm>
            <a:off x="3095640" y="871560"/>
            <a:ext cx="25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носим –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[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`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ка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3095280" y="149220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сываем-ко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716040" y="2241720"/>
            <a:ext cx="90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ексическое значение сло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Домашнее животное, являющееся самкой кота, которое ловит крыс и мыш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Небольшое млекопитающее семейства кошачьих (например, дикая кош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716040" y="32781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днокоренные сло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шечка, кошатник, кошатница, кошачий, кошк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716040" y="4173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инони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ивотно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ищни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лекопитающе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атый друг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шистый клубоче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с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хотник на мыш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3411720" y="4172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нтоним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0" descr=""/>
          <p:cNvPicPr/>
          <p:nvPr/>
        </p:nvPicPr>
        <p:blipFill>
          <a:blip r:embed="rId2"/>
          <a:stretch/>
        </p:blipFill>
        <p:spPr>
          <a:xfrm>
            <a:off x="5468760" y="3406680"/>
            <a:ext cx="53103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1168560" y="1476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азеологизм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) Жить как кошка с собакой (жить постоянно в ссоре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) Кошки на душе скребут (когда человеку грустно, тоскливо, тревож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) Кошке- игрушки, а мышке- слезки. (когда сильный человек обижает слабого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2608200" y="19321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четаемость слов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яя кошк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дная кошк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рослая кошк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дная кошка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бирские кошки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390600" y="2735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9bc2"/>
                </a:solidFill>
                <a:latin typeface="Times New Roman"/>
                <a:ea typeface="Times New Roman"/>
              </a:rPr>
              <a:t>Пословиц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Рано пташечка запела, как бы кошечка не съе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Лакома кошка до рыбки, да в воду лезть не хоч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390600" y="372420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ыгать может высок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ьет из блюдца моло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, разлегшись, у окош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Жмурит глазки наша</a:t>
            </a:r>
            <a:r>
              <a:rPr b="0" i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0" descr=""/>
          <p:cNvPicPr/>
          <p:nvPr/>
        </p:nvPicPr>
        <p:blipFill>
          <a:blip r:embed="rId2"/>
          <a:stretch/>
        </p:blipFill>
        <p:spPr>
          <a:xfrm>
            <a:off x="6458040" y="514440"/>
            <a:ext cx="6769080" cy="4503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746520" y="37242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едлож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ca00"/>
                </a:solidFill>
                <a:latin typeface="Times New Roman"/>
                <a:ea typeface="Times New Roman"/>
              </a:rPr>
              <a:t>Маленькая кош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ca00"/>
                </a:solidFill>
                <a:latin typeface="Times New Roman"/>
                <a:ea typeface="Times New Roman"/>
              </a:rPr>
              <a:t>Прыгнула в лукош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ca00"/>
                </a:solidFill>
                <a:latin typeface="Times New Roman"/>
                <a:ea typeface="Times New Roman"/>
              </a:rPr>
              <a:t>Потянулась, облизнулас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ca00"/>
                </a:solidFill>
                <a:latin typeface="Times New Roman"/>
                <a:ea typeface="Times New Roman"/>
              </a:rPr>
              <a:t>И калачиком свернулась!</a:t>
            </a:r>
            <a:r>
              <a:rPr b="0" i="1" lang="ru-RU" sz="1800" spc="-1" strike="noStrike">
                <a:solidFill>
                  <a:srgbClr val="b4ca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Чагин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0T06:02:15Z</dcterms:created>
  <dc:creator>Артем</dc:creator>
  <dc:description/>
  <dc:language>en-US</dc:language>
  <cp:lastModifiedBy>bait</cp:lastModifiedBy>
  <dcterms:modified xsi:type="dcterms:W3CDTF">2022-11-20T09:41:03Z</dcterms:modified>
  <cp:revision>13</cp:revision>
  <dc:subject/>
  <dc:title>Презентация PowerPoint</dc:title>
</cp:coreProperties>
</file>