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A73-9F63-464E-8AAB-35605276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02E-834C-429F-9169-A3D00626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F4D-B53B-43E2-9E45-12E6AAA9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5EF-6748-423D-8A05-4AE7CA9F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CA1-8826-4F2E-87DA-8B6E4237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2C7-CC36-49D4-9F5F-BB38202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9DC8-050F-4245-B7A3-B939BB7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AA2C-EF21-4206-BF2D-2FACFE0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CC7-0DCF-4FB1-8739-B4CD8AF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300-1304-49A2-AF4A-BA75ECA6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ECB8-30B9-4FE5-92EA-67E29CD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F85-9AC7-46BC-B867-D945860C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4483-B6CC-451B-AA99-E3F52AF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FBFA-24A6-4B24-8980-1787024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0FC-5D14-4902-84A4-6AEB1C5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731-870A-40F5-AFFD-C55089EC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8637-A573-4AC5-9913-63AC45E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4E7-9474-464A-83C3-AB381F7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651-4952-4AEB-88DB-1EF5583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355-2FBB-4028-8D0B-6A3035A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AC8-7CF6-4C39-AFCE-9069149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B97-A32F-4875-AFE6-8616A73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C57-26E4-4BB1-BD00-B3ADC85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661-486A-42D3-9EB1-64BFE73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BB37-7F66-490E-A152-52370FDDCE0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8BD-9EF1-4C3F-AFDF-A819FEBE862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ная деятельность учителя</a:t>
            </a:r>
            <a:endParaRPr b="0" lang="en-US" sz="8000" spc="-1" strike="noStrike">
              <a:solidFill>
                <a:srgbClr val="212745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Palatino Linotype"/>
              </a:rPr>
              <a:t>Предварительная работа по проекту.                                                              Домашнее задание(по </a:t>
            </a:r>
            <a:r>
              <a:rPr b="1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группам</a:t>
            </a:r>
            <a:r>
              <a:rPr b="1" lang="ru-RU" sz="2400" spc="-1" strike="noStrike">
                <a:solidFill>
                  <a:srgbClr val="4e67c8"/>
                </a:solidFill>
                <a:latin typeface="Palatino Linotype"/>
              </a:rPr>
              <a:t> дается заранее): </a:t>
            </a:r>
            <a:br>
              <a:rPr sz="4900"/>
            </a:br>
            <a:br>
              <a:rPr sz="4900"/>
            </a:br>
            <a:endParaRPr b="0" lang="en-US" sz="2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трагедию А.С.Пушкина «Моцарт и Сальери»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я (с использованием мультимедийных технологий) по темам (по 4 минуты)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текст трагед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 материал сообщений (домашнего задания) для работы по проекту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вехи жизненного и творческого пути А.С.Пушкина, определить его позицию в отношении гениальности и злодей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ою позицию по теме и аргументировать е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000080"/>
          <a:ext cx="8856720" cy="4876920"/>
        </p:xfrm>
        <a:graphic>
          <a:graphicData uri="http://schemas.openxmlformats.org/drawingml/2006/table">
            <a:tbl>
              <a:tblPr/>
              <a:tblGrid>
                <a:gridCol w="804960"/>
                <a:gridCol w="804600"/>
                <a:gridCol w="806400"/>
                <a:gridCol w="804960"/>
                <a:gridCol w="804960"/>
                <a:gridCol w="804960"/>
                <a:gridCol w="804600"/>
                <a:gridCol w="804960"/>
                <a:gridCol w="806400"/>
                <a:gridCol w="804960"/>
                <a:gridCol w="804960"/>
              </a:tblGrid>
              <a:tr h="20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альн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ды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м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тере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новные темы твор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юбовь в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му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Бо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создан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00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С.Пу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ц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ль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4"/>
          <p:cNvSpPr/>
          <p:nvPr/>
        </p:nvSpPr>
        <p:spPr>
          <a:xfrm>
            <a:off x="357120" y="285840"/>
            <a:ext cx="82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ются сообщения учеников (в ходе их выступлений используются материал презентаций, включающих портреты А.Пушкина, Моцарта, Сальери)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словарем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оведческих термин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рагедия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трагед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толкование сл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дей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цель проекта? Как будем ее достигать? Какой продукт произведем? Насколько эта тема актуальна в наше время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ники формулируют сами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– исследовать текст трагедии и выяснить авторскую позицию, соотнести с современным представлением о гениальности  и злодействе, обосновав актуальность данного произведения в 21 веке. </a:t>
            </a:r>
            <a:br>
              <a:rPr sz="1600"/>
            </a:br>
            <a:endParaRPr b="0" lang="en-US" sz="16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500120"/>
          <a:ext cx="8229600" cy="483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ц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алье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, нет спеси, чванства; ценит дружбу, щедр, доверчив; обладает чувством юмора и т.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ует глубоко обиду; горд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сл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музыке говорит сдержанно, что он работает по ночам, что это огромная внутренняя работа, мучительный и томительный труд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бя считает избранным, жрецом в искусстве; ему кажется оскорбительным, что простой скрипач играет Моцарта. Главный смысл его жизни – музыка, всё остальное – «праздные забавы». Добился искусной игры ежедневной работой, «алгеброй поверил гармонию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Б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жи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 насыщенной, наполненной жизнью. Открыт людям, радостен. Предупредителен с женой, любит сы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ён, что правды нет ни на земле, ни на небе…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, что «мало жизнь люблю…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ебрежительное отношение к простым люд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друг к д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ит талант Сальери; считает его сыном гармо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мневается в его гениальности, но считает, что «недостоин сам себя», называет «гулякой праздны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Варианты 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омашнего</a:t>
            </a: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 задания </a:t>
            </a:r>
            <a:br>
              <a:rPr sz="2800"/>
            </a:b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(завершающий этап проекта)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8576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браз гения всех времен и народов (на основе маленькой трагедии А.Пушкина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эссе на темы : «Тварь я дрожащая или право имею?», «К чему приводит гениальное злодейство?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олученные знания, создать проект  «Сильные мира сего: гении или злодеи?» (Наполеон, Гитлер, Ленин, др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 прощание…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Творите, дерзайте, экспериментируйте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Не ошибается только тот, кто ничего не делает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Смысл</a:t>
            </a: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 работы?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я над мини – проектом, ученик учится планировать свою деятельность с помощью предложенного алгоритма, получая желаемый результат. Работая с информацией, ученик овладевает определенными навыками: умение работать со справочной литературой, ставить цель и планировать свою работу и т.п. Наработанный материал используем для работы на урока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Работаем над проектом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ые темы учебных проектов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я говорю и пишу?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сные и согласные бывают такие опасные …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поставить ударение?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атые слова и выражения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что похоже наречие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азличать омони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разные синони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йны морфе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в современном мире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мствованные слова и причины их появления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Побудем детьми!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 «Крылатые слова и выражения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«Пословицы в современном мире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Определите цель, задачи, проблему проекта, составьте план работы над проектом, поделитесь на группы, определите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Palatino Linotype"/>
              </a:rPr>
              <a:t>Проект  «Крылатые слова и выражения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едусматривает организацию самостоятельных детских исследований, направленных на получение знаний о богатстве родной речи, о русском языке как исключительной ценности в жизни общества, каждого отдельного человек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 прививать любовь и уважение к родному язык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я и навыки самостоятельной работы с разными источниками информации, развивать умения анализировать информацию, выделять главное, обобщать и делать вывод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структурировать информацию, правильно излагать свои мысли устно и письменно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у детей навыки работы в групп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ить представления детей о родном языке, о его многообрази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в группах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Создание кроссворда «Речь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Исследование «Что любят читать мои одноклассники?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Изготовление буклета «Эти многоликие слова» (однозначные слова, многозначные слова, прямое и переносное значение слов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Создание мультимедийной презентации «Крылатые слова и выражения». (Какие слова и выражения называют «крылатыми»? Почему? Что такое фразеологизмы? Как они вошли в нашу речь? Рождаются фразеологизмы в наше время?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работы: кроссворд, таблица с результатами исследований, буклеты, электронная презентаци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лушивание устных сообщений по результатам работы каждой групп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атериалов проекта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изучении ряда тем по русскому языку («Лексическое значение слова», «Однозначные и многозначные слова», «Прямое и переносное значение слова», «Крылатые слова и выражения»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неклассной работе (при проведении викторин, читательских конференций, КВН и др.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67c8"/>
                </a:solidFill>
                <a:latin typeface="Palatino Linotype"/>
              </a:rPr>
              <a:t>Проект «</a:t>
            </a:r>
            <a:r>
              <a:rPr b="1" lang="ru-RU" sz="28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Пословицы</a:t>
            </a:r>
            <a:r>
              <a:rPr b="1" lang="ru-RU" sz="2800" spc="-1" strike="noStrike">
                <a:solidFill>
                  <a:srgbClr val="4e67c8"/>
                </a:solidFill>
                <a:latin typeface="Palatino Linotype"/>
              </a:rPr>
              <a:t> в современном мире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олнить активный словарный запас учащихся пословиц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очнить смысл и значение каждой из них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применять их в реч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 создать книгу – сборник «Любимые пословицы», в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й собрать тематические пословицы русского народа и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, придуманные ученик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толкование пословицам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совать к пословицам иллюстраци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диагностику уровня знаний пословиц у детей 5 классов 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оценку полученных результатов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ть решения и соответствующие мероприятия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 ребят самостоятельно искать необходимую информацию с использованием различных источников, обмениваться информацией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способности учеников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рукописный вариант книги «Любимые пословицы ученико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его класса»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о его оформит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блемный вопрос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ождаются пословицы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та в группах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знаки и функции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народов мир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ие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времен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с поэтическим и прозаическим складом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о пословица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источников происхождения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й и переносный смысл послов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детских исследований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книги пословиц, в которой каждый ученик представляет свою страницу (пословица, толкование, иллюстрация)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: урок – презентация «Пословицы в современном мире»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3440" y="188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67c8"/>
                </a:solidFill>
                <a:latin typeface="Palatino Linotype"/>
              </a:rPr>
              <a:t>«ГЕНИЙ И ЗЛОДЕЙСТВО - ДВЕ ВЕЩИ НЕСОВМЕСТНЫЕ»?              </a:t>
            </a:r>
            <a:r>
              <a:rPr b="1" i="1" lang="ru-RU" sz="1800" spc="-1" strike="noStrike">
                <a:solidFill>
                  <a:srgbClr val="212745"/>
                </a:solidFill>
                <a:latin typeface="Palatino Linotype"/>
              </a:rPr>
              <a:t>Урок-проект по произведению А.С.Пушкина «Моцарт и Сальери» (2 часа) </a:t>
            </a:r>
            <a:br>
              <a:rPr sz="4900"/>
            </a:br>
            <a:endParaRPr b="0" lang="en-US" sz="1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571400"/>
            <a:ext cx="8229600" cy="48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ь общечеловеческий смысл пьесы , идейно-художественное своеобразие драматического произведения, авторскую позицию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-проек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оизведению А.С.Пушкина «Моцарт и Сальери»: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личнос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и совершенствование  готовности и способности учащихся к определению своей жизненной и нравственной позиции, формирование мотивации к оценке своих поступков в среде  межличностных отношений на примере отношения к проблематике литературного произведения 19 века, ценностно-смысловых установок, способности ставить цели и строить жизненные планы, опираясь на этические нормы человеческих взаимоотношений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мета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учающимися межпредметных понятий и универсальных учебных действий (регулятивные, познавательные, коммуникативные), их использование в жизни, развитие самостоятельности и умения работать в группах,  сотрудничества с педагогами и сверстниками, способности к построению индивидуального образовательного маршрута, освоение навыков учебно-исследовательской, проектной деятельности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анализу драматического произведения, умению работать с текстом художественного произведения, сравнительной характеристике, совершенствование работы над проектом, формирование научного типа мышления, владение научной терминологией, ключевыми понятиями, методами и приёмами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1:40:05Z</dcterms:created>
  <dc:creator>Alexandr</dc:creator>
  <dc:description/>
  <dc:language>en-US</dc:language>
  <cp:lastModifiedBy>Галина Лисина</cp:lastModifiedBy>
  <dcterms:modified xsi:type="dcterms:W3CDTF">2022-11-20T20:15:01Z</dcterms:modified>
  <cp:revision>20</cp:revision>
  <dc:subject/>
  <dc:title>Проектная деятельность учителя</dc:title>
</cp:coreProperties>
</file>