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99F-7DA1-47E5-AC93-E7052847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EAF-95F2-44F8-9D8F-996DF477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BC9-4006-41A6-9365-60128579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D46-AE83-49BE-B88C-5BEFCDC6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6DD1-FFCB-4326-80BE-EED7B5F6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8F25-AA36-47D5-BCD2-C900A4A7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38E8-4BB0-4245-A404-FC7EA018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E2D1-C4FC-46B6-8FBE-D4C9D548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E786-9965-4F00-9F17-56004F9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B3CF-7887-4BA6-80B2-2DD43FA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D966-648B-4D65-868F-5A9EF7AE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19A-D46B-4773-A613-6E4834D1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B2EA-6083-49EB-A6B9-424492F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3BF9-C790-4ECB-B4EF-453DA4F9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F692-0D7A-470F-978E-C0A5A105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31D-1C38-491C-8B27-B0BE49A1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43E9-A163-4674-B5E0-169BE769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2E1-67FE-4FB2-9210-E72A119D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362-1556-4596-AB58-7A6658FB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9D6-E4A9-4B9F-9573-4BF15DA0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080-5852-4C87-89B3-3345C6B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5B3-31D8-47BA-9776-A76D3A3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C9F-10D9-4115-B104-7787824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576-5BCE-4883-875C-7E5C294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1274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7150-9858-4302-9076-C11E4ACE2E6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1274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4F5D-55AD-4965-BDB3-86AFEECC977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ектная деятельность учителя</a:t>
            </a:r>
            <a:endParaRPr b="0" lang="en-US" sz="8000" spc="-1" strike="noStrike">
              <a:solidFill>
                <a:srgbClr val="212745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Palatino Linotype"/>
              </a:rPr>
              <a:t>Предварительная работа по проекту.                                                              Домашнее задание(по </a:t>
            </a:r>
            <a:r>
              <a:rPr b="1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группам</a:t>
            </a:r>
            <a:r>
              <a:rPr b="1" lang="ru-RU" sz="2400" spc="-1" strike="noStrike">
                <a:solidFill>
                  <a:srgbClr val="4e67c8"/>
                </a:solidFill>
                <a:latin typeface="Palatino Linotype"/>
              </a:rPr>
              <a:t> дается заранее): </a:t>
            </a:r>
            <a:br>
              <a:rPr sz="4900"/>
            </a:br>
            <a:br>
              <a:rPr sz="4900"/>
            </a:br>
            <a:endParaRPr b="0" lang="en-US" sz="2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трагедию А.С.Пушкина «Моцарт и Сальери»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сообщения (с использованием мультимедийных технологий) по темам (по 4 минуты)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путь А.А.Пушкин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А.С.Пушкин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Моцарт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Салье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современников к Пушкину, Моцарту, Салье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7138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текст трагеди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 материал сообщений (домашнего задания) для работы по проекту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вехи жизненного и творческого пути А.С.Пушкина, определить его позицию в отношении гениальности и злодейств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свою позицию по теме и аргументировать е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одукт проек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1000080"/>
          <a:ext cx="8856720" cy="4876920"/>
        </p:xfrm>
        <a:graphic>
          <a:graphicData uri="http://schemas.openxmlformats.org/drawingml/2006/table">
            <a:tbl>
              <a:tblPr/>
              <a:tblGrid>
                <a:gridCol w="804960"/>
                <a:gridCol w="804600"/>
                <a:gridCol w="806400"/>
                <a:gridCol w="804960"/>
                <a:gridCol w="804960"/>
                <a:gridCol w="804960"/>
                <a:gridCol w="804600"/>
                <a:gridCol w="804960"/>
                <a:gridCol w="806400"/>
                <a:gridCol w="804960"/>
                <a:gridCol w="804960"/>
              </a:tblGrid>
              <a:tr h="209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альны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оды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ем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нтере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новные темы твор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юбовь в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ношение к му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ношение к Бо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ношение к люд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созданных произве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00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С.Пу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87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ц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87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ль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4"/>
          <p:cNvSpPr/>
          <p:nvPr/>
        </p:nvSpPr>
        <p:spPr>
          <a:xfrm>
            <a:off x="357120" y="285840"/>
            <a:ext cx="82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7138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ются сообщения учеников (в ходе их выступлений используются материал презентаций, включающих портреты А.Пушкина, Моцарта, Сальери)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путь А.А.Пушки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А.С.Пушки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Моцар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и творчество Сальер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современников к Пушкину, Моцарту, Салье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28760" y="71388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 словарем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оведческих термин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трагедия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начит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ая трагед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толкование сл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действ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цель проекта? Как будем ее достигать? Какой продукт произведем? Насколько эта тема актуальна в наше время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еники формулируют сами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– исследовать текст трагедии и выяснить авторскую позицию, соотнести с современным представлением о гениальности  и злодействе, обосновав актуальность данного произведения в 21 веке. </a:t>
            </a:r>
            <a:br>
              <a:rPr sz="1600"/>
            </a:br>
            <a:endParaRPr b="0" lang="en-US" sz="1600" spc="-1" strike="noStrike">
              <a:solidFill>
                <a:srgbClr val="212745"/>
              </a:solidFill>
              <a:latin typeface="Palatino Linotyp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1500120"/>
          <a:ext cx="8229600" cy="483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ца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алье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, нет спеси, чванства; ценит дружбу, щедр, доверчив; обладает чувством юмора и т.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ует глубоко обиду; горд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сл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музыке говорит сдержанно, что он работает по ночам, что это огромная внутренняя работа, мучительный и томительный труд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бя считает избранным, жрецом в искусстве; ему кажется оскорбительным, что простой скрипач играет Моцарта. Главный смысл его жизни – музыка, всё остальное – «праздные забавы». Добился искусной игры ежедневной работой, «алгеброй поверил гармонию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Б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и жи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ёт насыщенной, наполненной жизнью. Открыт людям, радостен. Предупредителен с женой, любит сын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ждён, что правды нет ни на земле, ни на небе…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, что «мало жизнь люблю…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ебрежительное отношение к простым люд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е друг к дру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ит талант Сальери; считает его сыном гармо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мневается в его гениальности, но считает, что «недостоин сам себя», называет «гулякой праздны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Варианты </a:t>
            </a:r>
            <a:r>
              <a:rPr b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омашнего</a:t>
            </a: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 задания </a:t>
            </a:r>
            <a:br>
              <a:rPr sz="2800"/>
            </a:br>
            <a:r>
              <a:rPr b="1" lang="ru-RU" sz="2800" spc="-1" strike="noStrike">
                <a:solidFill>
                  <a:srgbClr val="212745"/>
                </a:solidFill>
                <a:latin typeface="Palatino Linotype"/>
              </a:rPr>
              <a:t>(завершающий этап проекта)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2857680"/>
            <a:ext cx="82296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образ гения всех времен и народов (на основе маленькой трагедии А.Пушкина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эссе на темы : «Тварь я дрожащая или право имею?», «К чему приводит гениальное злодейство?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полученные знания, создать проект  «Сильные мира сего: гении или злодеи?» (Наполеон, Гитлер, Ленин, др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 прощание…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Творите, дерзайте, экспериментируйте!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Не ошибается только тот, кто ничего не делает!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213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Смысл</a:t>
            </a:r>
            <a:r>
              <a:rPr b="0" lang="ru-RU" sz="5400" spc="-1" strike="noStrike">
                <a:solidFill>
                  <a:srgbClr val="4e67c8"/>
                </a:solidFill>
                <a:latin typeface="Palatino Linotype"/>
              </a:rPr>
              <a:t> работы?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я над мини – проектом, ученик учится планировать свою деятельность с помощью предложенного алгоритма, получая желаемый результат. Работая с информацией, ученик овладевает определенными навыками: умение работать со справочной литературой, ставить цель и планировать свою работу и т.п. Наработанный материал используем для работы на урока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67c8"/>
                </a:solidFill>
                <a:latin typeface="Palatino Linotype"/>
              </a:rPr>
              <a:t>Работаем над проектом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ые темы учебных проектов: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чем я говорю и пишу?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сные и согласные бывают такие опасные …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де поставить ударение?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ылатые слова и выражения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что похоже наречие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различать омонимы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е разные синонимы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йны морфемы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в современном мире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мствованные слова и причины их появления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67c8"/>
                </a:solidFill>
                <a:latin typeface="Palatino Linotype"/>
              </a:rPr>
              <a:t>Побудем детьми!</a:t>
            </a:r>
            <a:endParaRPr b="0" lang="en-US" sz="54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1 груп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Проект  «Крылатые слова и выражения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2 групп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Проект «Пословицы в современном мире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Определите цель, задачи, проблему проекта, составьте план работы над проектом, поделитесь на группы, определите продукт проек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Palatino Linotype"/>
              </a:rPr>
              <a:t>Проект  «Крылатые слова и выражения»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предусматривает организацию самостоятельных детских исследований, направленных на получение знаний о богатстве родной речи, о русском языке как исключительной ценности в жизни общества, каждого отдельного человек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проекта: прививать любовь и уважение к родному язык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умения и навыки самостоятельной работы с разными источниками информации, развивать умения анализировать информацию, выделять главное, обобщать и делать выводы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ь детей структурировать информацию, правильно излагать свои мысли устно и письменно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ть у детей навыки работы в групп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ить представления детей о родном языке, о его многообразии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ный вопрос: Может ли речь быть богатой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ный вопрос: Может ли речь быть богатой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в группах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Создание кроссворда «Речь»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Исследование «Что любят читать мои одноклассники?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Изготовление буклета «Эти многоликие слова» (однозначные слова, многозначные слова, прямое и переносное значение слов)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Создание мультимедийной презентации «Крылатые слова и выражения». (Какие слова и выражения называют «крылатыми»? Почему? Что такое фразеологизмы? Как они вошли в нашу речь? Рождаются фразеологизмы в наше время?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результатов работы: кроссворд, таблица с результатами исследований, буклеты, электронная презентация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лушивание устных сообщений по результатам работы каждой группы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материалов проекта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изучении ряда тем по русскому языку («Лексическое значение слова», «Однозначные и многозначные слова», «Прямое и переносное значение слова», «Крылатые слова и выражения»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неклассной работе (при проведении викторин, читательских конференций, КВН и др.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67c8"/>
                </a:solidFill>
                <a:latin typeface="Palatino Linotype"/>
              </a:rPr>
              <a:t>Проект «</a:t>
            </a:r>
            <a:r>
              <a:rPr b="1" lang="ru-RU" sz="28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Пословицы</a:t>
            </a:r>
            <a:r>
              <a:rPr b="1" lang="ru-RU" sz="2800" spc="-1" strike="noStrike">
                <a:solidFill>
                  <a:srgbClr val="4e67c8"/>
                </a:solidFill>
                <a:latin typeface="Palatino Linotype"/>
              </a:rPr>
              <a:t> в современном мире»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и проекта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олнить активный словарный запас учащихся пословицами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очнить смысл и значение каждой из них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ся применять их в речи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 создать книгу – сборник «Любимые пословицы», в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ой собрать тематические пословицы русского народа и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, придуманные учениками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толкование пословицам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исовать к пословицам иллюстраци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 проекта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диагностику уровня знаний пословиц у детей 5 классов ,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оценку полученных результатов,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ть решения и соответствующие мероприятия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 ребят самостоятельно искать необходимую информацию с использованием различных источников, обмениваться информацией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творческие способности учеников;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ть рукописный вариант книги «Любимые пословицы учеников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его класса»,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ественно его оформить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облемный вопрос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рождаются пословицы?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та в группах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знаки и функции пословицы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народов мира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тические пословицы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разных времен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с поэтическим и прозаическим складом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о пословицах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овицы разных источников происхождения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й и переносный смысл послов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результатов детских исследований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ормление книги пословиц, в которой каждый ученик представляет свою страницу (пословица, толкование, иллюстрация)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едение итогов: урок – презентация «Пословицы в современном мире»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3440" y="188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67c8"/>
                </a:solidFill>
                <a:latin typeface="Palatino Linotype"/>
              </a:rPr>
              <a:t>«ГЕНИЙ И ЗЛОДЕЙСТВО - ДВЕ ВЕЩИ НЕСОВМЕСТНЫЕ»?              </a:t>
            </a:r>
            <a:r>
              <a:rPr b="1" i="1" lang="ru-RU" sz="1800" spc="-1" strike="noStrike">
                <a:solidFill>
                  <a:srgbClr val="212745"/>
                </a:solidFill>
                <a:latin typeface="Palatino Linotype"/>
              </a:rPr>
              <a:t>Урок-проект по произведению А.С.Пушкина «Моцарт и Сальери» (2 часа) </a:t>
            </a:r>
            <a:br>
              <a:rPr sz="4900"/>
            </a:br>
            <a:endParaRPr b="0" lang="en-US" sz="1800" spc="-1" strike="noStrike">
              <a:solidFill>
                <a:srgbClr val="212745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571400"/>
            <a:ext cx="8229600" cy="48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ять общечеловеческий смысл пьесы , идейно-художественное своеобразие драматического произведения, авторскую позицию.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-проект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оизведению А.С.Пушкина «Моцарт и Сальери»: 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личностные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и совершенствование  готовности и способности учащихся к определению своей жизненной и нравственной позиции, формирование мотивации к оценке своих поступков в среде  межличностных отношений на примере отношения к проблематике литературного произведения 19 века, ценностно-смысловых установок, способности ставить цели и строить жизненные планы, опираясь на этические нормы человеческих взаимоотношений;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метапредметные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бучающимися межпредметных понятий и универсальных учебных действий (регулятивные, познавательные, коммуникативные), их использование в жизни, развитие самостоятельности и умения работать в группах,  сотрудничества с педагогами и сверстниками, способности к построению индивидуального образовательного маршрута, освоение навыков учебно-исследовательской, проектной деятельности;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едметные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анализу драматического произведения, умению работать с текстом художественного произведения, сравнительной характеристике, совершенствование работы над проектом, формирование научного типа мышления, владение научной терминологией, ключевыми понятиями, методами и приёмами.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21:40:05Z</dcterms:created>
  <dc:creator>Alexandr</dc:creator>
  <dc:description/>
  <dc:language>en-US</dc:language>
  <cp:lastModifiedBy>Галина Лисина</cp:lastModifiedBy>
  <dcterms:modified xsi:type="dcterms:W3CDTF">2022-11-20T20:15:01Z</dcterms:modified>
  <cp:revision>20</cp:revision>
  <dc:subject/>
  <dc:title>Проектная деятельность учителя</dc:title>
</cp:coreProperties>
</file>