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47D34-62DC-4390-B48A-CDA8D102FF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F98E9-E04B-4AF5-AE80-154851A914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9B994-D4F3-4D68-8BAE-42AC449274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1685-49CD-4396-AD3C-389B228CE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AD4A-192D-4D92-87FB-FDA1847A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6E10-4616-436A-B035-294BF32C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72DE-C218-4238-A89B-213617E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EFF3-BC3F-4B76-9AB9-2261FF58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816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1BE4-05C1-4BFB-80EF-71387452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9822-5109-4343-942F-37A74DFF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CE08-D951-437B-A8DB-E5EDF194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0051-3981-4422-9478-9D69192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75D1-57EF-4DBE-A4EC-11CDF32D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CF2C-1C75-475B-8FDB-8E6BBD2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459E-1979-419A-A89E-2E298F96F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4C1C4-C503-424F-A691-FD7CC21E4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1F977-51FE-4082-9821-C398EF53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55E5D-6E46-46BC-BA52-59DD8301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54BC2-3BE5-41D0-A462-424A5B48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3F7ED-19E9-4F0B-87C6-5D95AA1C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816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9A462-57EE-4AF4-833A-7C291890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BDA37-C2A3-4EBC-A518-CCF4BAEE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93CA1-2065-42CB-A5B4-20F1762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34131-8318-4551-9DB0-EDDFF6DD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167E5-C8D6-44A9-8BCC-2C2E30DD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05BA6-1362-4ED2-A292-4CE29142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19988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2971800"/>
            <a:ext cx="26492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E7AA0-65AA-4BAA-8C02-EC014E4263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816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297180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81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195640" y="681120"/>
            <a:ext cx="4680000" cy="388764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"/>
          <p:cNvSpPr/>
          <p:nvPr/>
        </p:nvSpPr>
        <p:spPr>
          <a:xfrm>
            <a:off x="-14400" y="20520"/>
            <a:ext cx="9158400" cy="5123160"/>
          </a:xfrm>
          <a:prstGeom prst="rect">
            <a:avLst/>
          </a:prstGeom>
          <a:solidFill>
            <a:srgbClr val="32e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179280" y="195120"/>
            <a:ext cx="8785440" cy="482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96960"/>
            <a:ext cx="77709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195640" y="681120"/>
            <a:ext cx="4680000" cy="38876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>
            <a:off x="-14400" y="20520"/>
            <a:ext cx="9158400" cy="5123160"/>
          </a:xfrm>
          <a:prstGeom prst="rect">
            <a:avLst/>
          </a:prstGeom>
          <a:solidFill>
            <a:srgbClr val="32e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19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124080" y="4767120"/>
            <a:ext cx="2895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4767120"/>
            <a:ext cx="21322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A7A9C0-C1C1-4AAE-8A0A-B8C1A98743F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195640" y="681120"/>
            <a:ext cx="4680000" cy="3887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-14400" y="20520"/>
            <a:ext cx="9158400" cy="5123160"/>
          </a:xfrm>
          <a:prstGeom prst="rect">
            <a:avLst/>
          </a:prstGeom>
          <a:solidFill>
            <a:srgbClr val="32e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457200" y="4767120"/>
            <a:ext cx="21319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124080" y="4767120"/>
            <a:ext cx="2895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4"/>
          </p:nvPr>
        </p:nvSpPr>
        <p:spPr>
          <a:xfrm>
            <a:off x="6552720" y="4767120"/>
            <a:ext cx="21322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39299A-3C56-487C-A20A-9D3BE895FD3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13148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ешение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340000" y="3651120"/>
            <a:ext cx="4968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работано учителем матема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асановой А.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ОУ «СОШ №1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74160" y="199404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063320" y="2330280"/>
            <a:ext cx="3753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К: А.Г. Мерзляк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88323_html_6a9f064e"/>
          <p:cNvPicPr/>
          <p:nvPr/>
        </p:nvPicPr>
        <p:blipFill>
          <a:blip r:embed="rId1"/>
          <a:stretch/>
        </p:blipFill>
        <p:spPr>
          <a:xfrm>
            <a:off x="1476360" y="2139840"/>
            <a:ext cx="8920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. Примеры решения уравн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03120"/>
            <a:ext cx="4037040" cy="36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ец решения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(х + 5) =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4х + 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х 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- 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х = -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= -8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203120"/>
            <a:ext cx="40388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шим  урав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. – (14 -21х) = 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. 7(х + 7) = 10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. 3(х +8) = - 3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. (45 - у) + 8 = 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. 5(х - 5) = - 8х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2d2db9"/>
                </a:solidFill>
                <a:latin typeface="Calibri"/>
              </a:rPr>
              <a:t>Решите самостоятель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03120"/>
            <a:ext cx="403704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(х - 2) = х +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7х +1) – (9х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– 2(х - 1) = 4 – 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4х – 14 = 7(2х - 3) +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,4 + 2у = 7(у – 2,3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76720" y="1203120"/>
            <a:ext cx="3608640" cy="38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верим от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чис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" descr="88323_html_6a9f064e"/>
          <p:cNvPicPr/>
          <p:nvPr/>
        </p:nvPicPr>
        <p:blipFill>
          <a:blip r:embed="rId1"/>
          <a:stretch/>
        </p:blipFill>
        <p:spPr>
          <a:xfrm>
            <a:off x="7170840" y="2211480"/>
            <a:ext cx="15066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. Примеры решения уравн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203480"/>
            <a:ext cx="403704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зец решения уравн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3(2х - 4) -2(х+3)= -2 +8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х – 12 -2х – 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 + 8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х - 2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– 8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+12+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х =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= 16 :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=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6160" y="1203120"/>
            <a:ext cx="40388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шим   урав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. (7х +1) – (9х +3) =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. 3(6х-1) = 2(9х+1) -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. 4(5х+2)=10(2х-3)+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. 2(7х - 7) = 7(2х-3) +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. 3(х+6) = х +2(х+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2d2db9"/>
                </a:solidFill>
                <a:latin typeface="Calibri"/>
              </a:rPr>
              <a:t>Решите самостоятель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203120"/>
            <a:ext cx="40370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8х + 3) – (10х + 6) =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(7х - 7) = 7(2х - 3) + 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(х - 12) = 6(х - 10) - 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(4х - 1) = 6 – 2(3 – 14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,6 – 3(2 – 0,4х) = 0,4(4х -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292720" y="1203480"/>
            <a:ext cx="339264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верим от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чис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чис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½ = - 0,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9" descr="88323_html_6a9f064e"/>
          <p:cNvPicPr/>
          <p:nvPr/>
        </p:nvPicPr>
        <p:blipFill>
          <a:blip r:embed="rId1"/>
          <a:stretch/>
        </p:blipFill>
        <p:spPr>
          <a:xfrm>
            <a:off x="7380360" y="2284560"/>
            <a:ext cx="1465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195120"/>
            <a:ext cx="8227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. Примеры решения уравн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987120"/>
            <a:ext cx="4037040" cy="415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ец решения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·(х - 8) = 7·(х +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х – 24 = 7х +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– 7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+ 2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х = 3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= 38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- 4)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2920" y="1058400"/>
            <a:ext cx="4038840" cy="35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шим   урав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ject 7" descr=""/>
          <p:cNvPicPr/>
          <p:nvPr/>
        </p:nvPicPr>
        <p:blipFill>
          <a:blip r:embed="rId1"/>
          <a:stretch/>
        </p:blipFill>
        <p:spPr>
          <a:xfrm>
            <a:off x="1979640" y="1276200"/>
            <a:ext cx="1441440" cy="88128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9" descr=""/>
          <p:cNvPicPr/>
          <p:nvPr/>
        </p:nvPicPr>
        <p:blipFill>
          <a:blip r:embed="rId2"/>
          <a:stretch/>
        </p:blipFill>
        <p:spPr>
          <a:xfrm>
            <a:off x="5364000" y="1347840"/>
            <a:ext cx="2376720" cy="98892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10" descr=""/>
          <p:cNvPicPr/>
          <p:nvPr/>
        </p:nvPicPr>
        <p:blipFill>
          <a:blip r:embed="rId3"/>
          <a:stretch/>
        </p:blipFill>
        <p:spPr>
          <a:xfrm>
            <a:off x="5292720" y="2427120"/>
            <a:ext cx="2592360" cy="101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5435640" y="3508200"/>
            <a:ext cx="21607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2d2db9"/>
                </a:solidFill>
                <a:latin typeface="Calibri"/>
              </a:rPr>
              <a:t>Решите самостоятель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03120"/>
            <a:ext cx="40370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6160" y="1203120"/>
            <a:ext cx="40388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верим от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(х-4)=5(2х-3)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=2(3+х)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6(3-х)=4(х+5);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2(3х-1)=4(1-х);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)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(3-х)=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;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971640" y="1203480"/>
            <a:ext cx="1728720" cy="731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0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2700360" y="1779480"/>
            <a:ext cx="1440000" cy="808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2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3"/>
          <a:stretch/>
        </p:blipFill>
        <p:spPr>
          <a:xfrm>
            <a:off x="971640" y="2427120"/>
            <a:ext cx="1584360" cy="7383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2556000" y="3219480"/>
            <a:ext cx="1655640" cy="745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5" descr=""/>
          <p:cNvPicPr/>
          <p:nvPr/>
        </p:nvPicPr>
        <p:blipFill>
          <a:blip r:embed="rId5"/>
          <a:stretch/>
        </p:blipFill>
        <p:spPr>
          <a:xfrm>
            <a:off x="971640" y="4011480"/>
            <a:ext cx="2448000" cy="4813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7"/>
          <p:cNvSpPr/>
          <p:nvPr/>
        </p:nvSpPr>
        <p:spPr>
          <a:xfrm>
            <a:off x="7596360" y="1779480"/>
            <a:ext cx="115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3/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310880" y="2427120"/>
            <a:ext cx="1081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3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7310880" y="3003480"/>
            <a:ext cx="12002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-1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7526880" y="3579840"/>
            <a:ext cx="1081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7094880" y="4227480"/>
            <a:ext cx="1180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 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. Примеры решения уравн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03120"/>
            <a:ext cx="40370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ец решения 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│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- 24│ =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+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- 24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=2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- 24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=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– 24 =22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х +24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24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2      -х=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24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= 46           -х = - 2;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х=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2; 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6160" y="1203120"/>
            <a:ext cx="40388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шим   урав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. │2х - 1│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│5х + 1│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. │5х + 1│= -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. │21х + 2│ =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. │10х - 1│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2d2db9"/>
                </a:solidFill>
                <a:latin typeface="Calibri"/>
              </a:rPr>
              <a:t>Решите самостоятель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03120"/>
            <a:ext cx="40370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. │х - 4│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│х + 4│ =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. │х - 3│ =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. │3х - 2│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. │2х + 2│ = -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219640" y="1203480"/>
            <a:ext cx="346248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верим от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. 2 и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. -13 и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. -9 и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. -2/3 и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)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т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9" descr="88323_html_6a9f064e"/>
          <p:cNvPicPr/>
          <p:nvPr/>
        </p:nvPicPr>
        <p:blipFill>
          <a:blip r:embed="rId1"/>
          <a:stretch/>
        </p:blipFill>
        <p:spPr>
          <a:xfrm>
            <a:off x="7308720" y="2066760"/>
            <a:ext cx="15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000" y="483840"/>
            <a:ext cx="6048360" cy="40323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Желаю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УСПЕХОВ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в изучени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МАТЕМАТИКИ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9" descr="88323_html_6a9f064e"/>
          <p:cNvPicPr/>
          <p:nvPr/>
        </p:nvPicPr>
        <p:blipFill>
          <a:blip r:embed="rId1"/>
          <a:stretch/>
        </p:blipFill>
        <p:spPr>
          <a:xfrm>
            <a:off x="8028000" y="3292560"/>
            <a:ext cx="936720" cy="1655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88323_html_6a9f064e"/>
          <p:cNvPicPr/>
          <p:nvPr/>
        </p:nvPicPr>
        <p:blipFill>
          <a:blip r:embed="rId2"/>
          <a:stretch/>
        </p:blipFill>
        <p:spPr>
          <a:xfrm>
            <a:off x="250920" y="3292560"/>
            <a:ext cx="1008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НЕТ РЕСУР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468360" y="1203480"/>
            <a:ext cx="8229600" cy="33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http://olinkalilinka.ucoz.com/_ph/9/251175469.png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http://k41.kn3.net/taringa/6/5/2/1/3/1/4/b2kcarolina/13C.jpg?277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http://www.playcast.ru/uploads/2016/12/03/20750693.gif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ртинка черного человечка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prosdo.ru/ouazoc/Частные+вопросы%2C+связанные+с+изучаемой+темойc/88323_html_6a9f064e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5000"/>
              </a:lnSpc>
              <a:spcBef>
                <a:spcPts val="638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9640" y="26431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р шаблона презентаци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оргунова Ольга Викторовн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 технологии ГБОУ «АООШ І-ІІІ ст. №19» ЛНР г. Антра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194760"/>
            <a:ext cx="82278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ПОМН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 рес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8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Мерзляк, В.Б. Полонский, М.С. Якир. Математика: 6 класс: учебник для учащихся общеобразовательных организаций, - 2-е изд., перераб. – М.: Вентана-Граф,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рзл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н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ино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и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дактические материа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обие для учащихся общеобразовательных учрежд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нт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0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ПОМН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ject 4" descr=""/>
          <p:cNvPicPr/>
          <p:nvPr/>
        </p:nvPicPr>
        <p:blipFill>
          <a:blip r:embed="rId1"/>
          <a:stretch/>
        </p:blipFill>
        <p:spPr>
          <a:xfrm>
            <a:off x="539640" y="1276200"/>
            <a:ext cx="7993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войства уравне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203480"/>
            <a:ext cx="871380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к обеим частям данного уравн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бав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е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 и то ж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получим уравнение, имеющее те же корни, что и д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обе части уравн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нож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дно и то же отличное от нуля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получим уравнение, имеющее те же корни, что и д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какое-нибудь слагаем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нести из одной части уравнения в другую, изменив при этом знак на противополож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получим уравнение, имеющее те же корни, что и д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Алгоритм решения уравн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03480"/>
            <a:ext cx="822816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)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ачала уравнение упрост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раскрой скоб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)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неси слагаемы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буквой в левую часть уравнения, без буквы – в правую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3)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веди подобные слагаем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4)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д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вую и правую части уравнени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множитель перед буквой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пример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(образец реш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203120"/>
            <a:ext cx="40370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 – 5х = 13 – 3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5х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+ 3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8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2х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= 5 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(-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-2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2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6160" y="1203120"/>
            <a:ext cx="40388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04000" indent="-50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Calibri"/>
              <a:buAutoNum type="arabicParenR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(х+3)-5 = 4 -(х-9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х + 6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5 = 4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х +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+ 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6 +5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4 +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х =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= 12 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Решите  самостоятель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79280" y="1276200"/>
            <a:ext cx="2664000" cy="19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х-1=х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х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59280" y="1276200"/>
            <a:ext cx="5833800" cy="145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а+1=3а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0а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987640" y="2932200"/>
            <a:ext cx="2808360" cy="19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4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6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 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940360" y="2932200"/>
            <a:ext cx="3024360" cy="179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-9=в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88323_html_6a9f064e"/>
          <p:cNvPicPr/>
          <p:nvPr/>
        </p:nvPicPr>
        <p:blipFill>
          <a:blip r:embed="rId1"/>
          <a:stretch/>
        </p:blipFill>
        <p:spPr>
          <a:xfrm>
            <a:off x="1403280" y="3363840"/>
            <a:ext cx="760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. Примеры решения уравн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370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ец решения у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х - 3 = 2х +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5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- 2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+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=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= 9 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2920" y="1203120"/>
            <a:ext cx="40388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шаем  урав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. 5 – 6х =  -5х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. 5 – 3х =  -7х –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. -7 – 4х = -10х -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. 5х – 3 =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.  -х + 9 =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Calibri"/>
              </a:rPr>
              <a:t>Решите самостоятель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203120"/>
            <a:ext cx="4037040" cy="33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х = 18 - 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х + 4 = 48 – 2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х + 3 = 30 – 2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– 2х = 3х - 1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4х + 3,8 = 2,6 – 0,8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219640" y="1203480"/>
            <a:ext cx="3462480" cy="37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верим от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9" descr="88323_html_6a9f064e"/>
          <p:cNvPicPr/>
          <p:nvPr/>
        </p:nvPicPr>
        <p:blipFill>
          <a:blip r:embed="rId1"/>
          <a:stretch/>
        </p:blipFill>
        <p:spPr>
          <a:xfrm>
            <a:off x="7129440" y="2139840"/>
            <a:ext cx="15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фиса</cp:lastModifiedBy>
  <dcterms:modified xsi:type="dcterms:W3CDTF">2022-11-19T12:21:21Z</dcterms:modified>
  <cp:revision>67</cp:revision>
  <dc:subject/>
  <dc:title>УНИВЕРСАЛЬНЫЕ ШАБЛОН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b0000000000010243100207f6000400038000</vt:lpwstr>
  </property>
</Properties>
</file>