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CA7-24D6-4AE3-ACD8-C809F7BE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AB6-CB8D-4D4C-A8F6-B4F7091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3ED-EE5B-4539-ADFD-B3940977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B1C-A4C2-4BB8-B3E2-C25320C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FED8-2F63-4058-B7CF-74293A41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DBEB-0307-46FF-BE99-738A39D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021-3090-459F-A709-B364C64C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C3DA-DBA1-4A6D-B788-4A3777D8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5A5-737A-404A-9E66-D56ED59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BBC8-5738-4DD4-B9F2-2154CDD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4C7E-912C-4B11-882D-8CFA6B2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08E-202E-46A9-8CF4-0D689C3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BE6-880F-4C06-9784-BBCA5D5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B8C-B6FA-47CB-BC3F-61C9278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6D5-FB9D-4285-B34E-05131A2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6FD9-B946-4568-A88E-1B0B9720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4407-704E-4FB0-83FD-9A635A83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569-42DC-46E2-BC06-34711452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438-83BE-4022-ADEA-E4FFE0D5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3B6-72F2-4222-AD95-7807AEE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50B-8DFF-42CE-BCBB-EAE1EF8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C59-BD64-4627-9F3A-149D12B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811-D434-4FCD-93A9-0836C43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AEF-9AA0-456B-A310-DE22E3A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6236-319C-48D7-8502-30B05ABCC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C65-6F5B-42ED-A933-2F7F12C02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Шэнэ байша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. Цыдендамба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40000"/>
            <a:ext cx="5905440" cy="397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434960"/>
            <a:ext cx="7058160" cy="398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Bur31"/>
              </a:rPr>
              <a:t>Гэрэ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у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гэлтэ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аргал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852640"/>
            <a:ext cx="2448000" cy="2448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781360"/>
            <a:ext cx="3887640" cy="25192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3141720"/>
            <a:ext cx="1873440" cy="1873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3920" y="3112920"/>
            <a:ext cx="3241440" cy="1872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атинсануу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одо – 1, 3, 5,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Дээдэ – 11, 13,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Торгон б</a:t>
            </a:r>
            <a:r>
              <a:rPr b="0" lang="en-US" sz="28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д соо (хашар</a:t>
            </a:r>
            <a:r>
              <a:rPr b="0" lang="en-US" sz="2800" spc="-1" strike="noStrike">
                <a:solidFill>
                  <a:srgbClr val="ffffff"/>
                </a:solidFill>
                <a:latin typeface="ArialBur31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а) м</a:t>
            </a:r>
            <a:r>
              <a:rPr b="0" lang="en-US" sz="28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Bur31"/>
              </a:rPr>
              <a:t>нгэ хэх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эрэй торх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1430280"/>
            <a:ext cx="5328000" cy="39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энэ гэ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430280"/>
            <a:ext cx="5328000" cy="39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ер дабхар гэ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430280"/>
            <a:ext cx="5328000" cy="39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арюунуу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табяад на</a:t>
            </a:r>
            <a:r>
              <a:rPr b="0" lang="en-US" sz="2400" spc="-1" strike="noStrike">
                <a:solidFill>
                  <a:srgbClr val="ffffff"/>
                </a:solidFill>
                <a:latin typeface="ArialBur31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ат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Ме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А – Воло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Нанзад </a:t>
            </a:r>
            <a:r>
              <a:rPr b="0" lang="en-US" sz="24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гэ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Пэлмаа х</a:t>
            </a:r>
            <a:r>
              <a:rPr b="0" lang="en-US" sz="24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гшэ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Ойдоб бааб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Максар дарх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Bur31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Б – Ерэн гурбат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Нэгэшье алдууг</a:t>
            </a:r>
            <a:r>
              <a:rPr b="0" lang="en-US" sz="2400" spc="-1" strike="noStrike">
                <a:solidFill>
                  <a:srgbClr val="ffffff"/>
                </a:solidFill>
                <a:latin typeface="ArialBur31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й – «5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1 – 2 алдуутай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«4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3 – 4 алдуутай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Bur31"/>
              </a:rPr>
              <a:t>«3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7:08Z</dcterms:created>
  <dc:creator>User</dc:creator>
  <dc:description/>
  <dc:language>en-US</dc:language>
  <cp:lastModifiedBy>Учитель</cp:lastModifiedBy>
  <dcterms:modified xsi:type="dcterms:W3CDTF">2008-11-18T05:13:03Z</dcterms:modified>
  <cp:revision>6</cp:revision>
  <dc:subject/>
  <dc:title>Шэнэ байшан</dc:title>
</cp:coreProperties>
</file>