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041-A588-4E28-A981-CF08110A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176-C2A7-4E78-A2A7-9F154F40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BB4-CBA8-4013-BEEA-89057FEC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BFD-F1A8-46D3-A53A-5189C3BD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C11-EAF2-4DC2-B1B6-DB122438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9F1-20AA-4B94-A958-4D2886AB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BCB-D71B-44D5-B2DA-23B2290C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FEB-1893-4A8C-96BA-F3A8FC5E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B54-0947-48D5-AAAE-1993AAAA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A52-E16C-4239-9678-F46A9A82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652-2BD7-4169-B343-683FD534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10D-66BD-4DB9-904F-9F18199B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C6CA-D291-4F0B-8A47-A54FF826F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ова с непроизносимым согласным в кор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йчиди О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м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ссаж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читай слова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бей на групп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ть, вестник, известие, известный, весточка, изве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ть                                 ве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вестие                           изве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точка                           изв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ядом стоят три согласных звука, то зву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произносится(выпадае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ется этот согласны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произносим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оизносимые согласные – это буквы или зву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авило или закон я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обнаружить непроизносимый согласный и как правильно написать слова в которых он встречаетс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оизносимый согласный встречается в сочетании со звукам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[c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)н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(д)н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тобы правильно написать букву непроизносимого согласного, нужно подобрать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днокоренное сло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где бы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сле согласного стоял гла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86 упр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72-73 правила 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варт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од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л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ппе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сс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7:12:34Z</dcterms:created>
  <dc:creator>Дмитрий</dc:creator>
  <dc:description/>
  <dc:language>en-US</dc:language>
  <cp:lastModifiedBy>Дмитрий</cp:lastModifiedBy>
  <dcterms:modified xsi:type="dcterms:W3CDTF">2012-10-07T17:55:38Z</dcterms:modified>
  <cp:revision>2</cp:revision>
  <dc:subject/>
  <dc:title>Слова с непроизносимым согласным в корне.</dc:title>
</cp:coreProperties>
</file>