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E135-1DBA-459D-A735-CAF5A30B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43B-62A0-4265-A1BB-81300B55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77D3-128D-4B89-A812-36705D77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2899-A4B4-4A83-AF1B-DD37CEEF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8E37-4746-4AD7-AD4A-410DA366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815D-C8D8-46BD-A1B6-C9173D28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1B96-A840-400F-96D4-A0A193F6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8645-1056-4AF2-9C82-4CF1B396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990A-F886-434B-8159-FEDAA542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BC6A-211F-40FA-A510-EE2566BF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9BCA-405A-4516-9A2C-91FFA62F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0EEB-FD2C-405F-93CF-941A164F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66CA-81A3-4598-8B21-10074E0688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gubdaily.ru/blog/lifestyle/interesnoe/psy-geroi-kak-sobaki-pomogali-soldatam-na-velikoj-otechestvennoj-vojne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2"/>
          <a:stretch/>
        </p:blipFill>
        <p:spPr>
          <a:xfrm>
            <a:off x="901800" y="2133720"/>
            <a:ext cx="8004240" cy="2803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5796000" y="4869000"/>
            <a:ext cx="303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53616"/>
                </a:solidFill>
                <a:latin typeface="Times New Roman"/>
                <a:ea typeface="Times New Roman"/>
              </a:rPr>
              <a:t>Тугутаева Оксана Леонид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2499480" y="33336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ецкая овчарка Джульбар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468360" y="1792440"/>
            <a:ext cx="2504880" cy="28573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3132000" y="1341360"/>
            <a:ext cx="56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наружил более 7000 мин и снарядов, награжденный медалью «За боевые заслуги» и участвовал в Параде Победы в Моск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4" descr=""/>
          <p:cNvPicPr/>
          <p:nvPr/>
        </p:nvPicPr>
        <p:blipFill>
          <a:blip r:embed="rId2"/>
          <a:stretch/>
        </p:blipFill>
        <p:spPr>
          <a:xfrm>
            <a:off x="3833640" y="3141720"/>
            <a:ext cx="42847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2"/>
          <p:cNvSpPr/>
          <p:nvPr/>
        </p:nvSpPr>
        <p:spPr>
          <a:xfrm>
            <a:off x="826920" y="1413000"/>
            <a:ext cx="7921800" cy="36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этом году приближается юбилей нашей Поб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ако мало кто знает, что в то время бок о бок с солдатами гордо и отважно сражались братья наши меньши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аки, как и люди совершали подвиги, боевые животные спасли тысячи человечески жизней и помогли приблизить долгожданный День Поб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611280" y="1268280"/>
            <a:ext cx="813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gubdaily.ru/blog/lifestyle/interesnoe/psy-geroi-kak-sobaki-pomogali-soldatam-na-velikoj-otechestvennoj-vojn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vmnews.ru/stati/2019/10/27/kak-sobaki-sapery-na-severe-tundru-razminirov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755640" y="1413000"/>
            <a:ext cx="7777080" cy="17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знать как собаки помогали воинам Красной армии во время Великой Отечественной во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395280" y="4869000"/>
            <a:ext cx="842472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годы Великой Отечественной войны в армию было призвано около 68 тысяч собак, среди которых были не только овчарки, но и другие породы: например, крупные дворняжки. Из собак сформировали 168 отрядов, которые полноценно помогали людям в борьбе с враг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1704960" y="476280"/>
            <a:ext cx="709128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250920" y="5300640"/>
            <a:ext cx="8569080" cy="9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аки-связисты доставили 200 000 боевых донесений, протянули  7883 километра пров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2" descr=""/>
          <p:cNvPicPr/>
          <p:nvPr/>
        </p:nvPicPr>
        <p:blipFill>
          <a:blip r:embed="rId1"/>
          <a:stretch/>
        </p:blipFill>
        <p:spPr>
          <a:xfrm>
            <a:off x="1962000" y="476280"/>
            <a:ext cx="68580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324000" y="5445000"/>
            <a:ext cx="835164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востатые саперы разминировали более 30 крупных городов, найдя более 4 000 000 единиц фугасов и 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1389240" y="620640"/>
            <a:ext cx="72864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324000" y="5157720"/>
            <a:ext cx="849600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аки-санитары вывезли с поля боя примерно 500 000 тяжелораненых бойцов Красной ар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1962000" y="333360"/>
            <a:ext cx="68580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68360" y="5229360"/>
            <a:ext cx="8280360" cy="93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азывали они помощь и на поле боя. Подползали с медицинской сумкой к раненому, ждали, пока он себя перевяжет, а после сползли к следующему. Если боец был без сознания, лизали ему лицо — чтобы очнул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1996920" y="476280"/>
            <a:ext cx="675180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3119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95280" y="5373720"/>
            <a:ext cx="8424720" cy="93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иболее известны собаки, которые, обвешанные взрывчаткой, кидались под вражеские танки. В битве на Курской дуге 12 немецких танков были уничтожены именно т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1962000" y="620640"/>
            <a:ext cx="68580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8:35:42Z</dcterms:created>
  <dc:creator>user1</dc:creator>
  <dc:description/>
  <dc:language>en-US</dc:language>
  <cp:lastModifiedBy>user</cp:lastModifiedBy>
  <dcterms:modified xsi:type="dcterms:W3CDTF">2022-11-20T09:24:54Z</dcterms:modified>
  <cp:revision>78</cp:revision>
  <dc:subject/>
  <dc:title>Презентация PowerPoint</dc:title>
</cp:coreProperties>
</file>