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2DD3-61A3-4E4C-A80C-2C4BA8F65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F1F8-B08C-4903-8054-7135A5AD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524D-63F7-45E1-87E6-F74B3787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CBE4-92C3-453E-BCCC-820FC4A5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FD40-1BA5-47C5-BF24-E6333CDD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9F34-7FB1-44C9-87E8-038F7826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F04D-FFAD-436E-998C-B07C935B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4229-C8CC-4465-9F67-0F03D9F9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06FE-EE21-4887-A62F-196912EE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BC73-21B8-4E58-A053-29858799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C2C8-67A8-4126-8B9C-6CB5E08F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78FA-711E-46D4-821E-B0AD5598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502A-33C2-4E36-A08C-8A9940B4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07B3-9B15-4907-8B90-F0E43EC3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1AF9-1673-4956-A62A-7AD5CD0C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8417-6070-4310-B0DA-9BCCB1FB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9A6A-E5CB-4EFB-A4CC-8FC25B627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D2FD-5A63-4B08-A610-B0BEF6BC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B7BC-C1E0-4020-91A1-F708DCF4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B1FA-F497-419A-AFA4-86DED497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A33E-3550-4E48-A749-1AE06303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F4A4-82B8-467B-B69F-98129E30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4D95-D780-4776-B9D4-9154971A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4570-8443-465A-A3B6-7993EE72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3955-0F8D-450C-A64E-4E527ADA054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4635-84DA-4F48-B463-BB369104110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153280" cy="17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ы времени –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, месяц, сутки</a:t>
            </a:r>
            <a:br>
              <a:rPr sz="48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80520" y="2133360"/>
            <a:ext cx="8191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времени по час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5" descr="1645690991_1-kartinkin-net-p-tsiferblat-chasov-kartinki-1.jpg"/>
          <p:cNvPicPr/>
          <p:nvPr/>
        </p:nvPicPr>
        <p:blipFill>
          <a:blip r:embed="rId1"/>
          <a:stretch/>
        </p:blipFill>
        <p:spPr>
          <a:xfrm>
            <a:off x="2819520" y="3048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5" name="Объект 3" descr=""/>
          <p:cNvPicPr/>
          <p:nvPr/>
        </p:nvPicPr>
        <p:blipFill>
          <a:blip r:embed="rId1"/>
          <a:stretch/>
        </p:blipFill>
        <p:spPr>
          <a:xfrm>
            <a:off x="76320" y="1690560"/>
            <a:ext cx="8719920" cy="234792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/>
          <p:cNvSpPr/>
          <p:nvPr/>
        </p:nvSpPr>
        <p:spPr>
          <a:xfrm>
            <a:off x="228600" y="4056120"/>
            <a:ext cx="220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часов утра или 8 часов вечера – 20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2590920" y="4056120"/>
            <a:ext cx="198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ч 10 мин или 1 ч 10 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4724280" y="4191120"/>
            <a:ext cx="198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ч 40 мин или 3 ч 40 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934320" y="419112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ч 55 мин или 23 ч 55 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1" name="Объект 3" descr=""/>
          <p:cNvPicPr/>
          <p:nvPr/>
        </p:nvPicPr>
        <p:blipFill>
          <a:blip r:embed="rId1"/>
          <a:stretch/>
        </p:blipFill>
        <p:spPr>
          <a:xfrm>
            <a:off x="355680" y="210960"/>
            <a:ext cx="3470040" cy="343548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4" descr=""/>
          <p:cNvPicPr/>
          <p:nvPr/>
        </p:nvPicPr>
        <p:blipFill>
          <a:blip r:embed="rId2"/>
          <a:stretch/>
        </p:blipFill>
        <p:spPr>
          <a:xfrm>
            <a:off x="5124600" y="47520"/>
            <a:ext cx="3627360" cy="35910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6" descr=""/>
          <p:cNvPicPr/>
          <p:nvPr/>
        </p:nvPicPr>
        <p:blipFill>
          <a:blip r:embed="rId3"/>
          <a:stretch/>
        </p:blipFill>
        <p:spPr>
          <a:xfrm>
            <a:off x="2743200" y="3276720"/>
            <a:ext cx="3754440" cy="34383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7"/>
          <p:cNvSpPr/>
          <p:nvPr/>
        </p:nvSpPr>
        <p:spPr>
          <a:xfrm>
            <a:off x="274680" y="2860560"/>
            <a:ext cx="116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5029200" y="2666880"/>
            <a:ext cx="59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2733840" y="5883120"/>
            <a:ext cx="45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426960" y="3611520"/>
            <a:ext cx="265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ч 6 мин или 23 ч или 6 м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6213600" y="349740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ч 11 м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22 ч 11 м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5943600" y="6006960"/>
            <a:ext cx="23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ч или 15 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Group 2"/>
          <p:cNvGrpSpPr/>
          <p:nvPr/>
        </p:nvGrpSpPr>
        <p:grpSpPr>
          <a:xfrm>
            <a:off x="395280" y="1655640"/>
            <a:ext cx="8283960" cy="4365360"/>
            <a:chOff x="395280" y="1655640"/>
            <a:chExt cx="8283960" cy="4365360"/>
          </a:xfrm>
        </p:grpSpPr>
        <p:grpSp>
          <p:nvGrpSpPr>
            <p:cNvPr id="143" name="Group 3"/>
            <p:cNvGrpSpPr/>
            <p:nvPr/>
          </p:nvGrpSpPr>
          <p:grpSpPr>
            <a:xfrm>
              <a:off x="395280" y="4565880"/>
              <a:ext cx="2760840" cy="1455120"/>
              <a:chOff x="395280" y="4565880"/>
              <a:chExt cx="2760840" cy="1455120"/>
            </a:xfrm>
          </p:grpSpPr>
          <p:sp>
            <p:nvSpPr>
              <p:cNvPr id="144" name="Line 4"/>
              <p:cNvSpPr/>
              <p:nvPr/>
            </p:nvSpPr>
            <p:spPr>
              <a:xfrm flipV="1">
                <a:off x="395280" y="4565880"/>
                <a:ext cx="0" cy="1455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5"/>
              <p:cNvSpPr/>
              <p:nvPr/>
            </p:nvSpPr>
            <p:spPr>
              <a:xfrm>
                <a:off x="395280" y="4565880"/>
                <a:ext cx="27608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6"/>
            <p:cNvGrpSpPr/>
            <p:nvPr/>
          </p:nvGrpSpPr>
          <p:grpSpPr>
            <a:xfrm>
              <a:off x="3156480" y="3110760"/>
              <a:ext cx="2761560" cy="1455120"/>
              <a:chOff x="3156480" y="3110760"/>
              <a:chExt cx="2761560" cy="1455120"/>
            </a:xfrm>
          </p:grpSpPr>
          <p:sp>
            <p:nvSpPr>
              <p:cNvPr id="147" name="Line 7"/>
              <p:cNvSpPr/>
              <p:nvPr/>
            </p:nvSpPr>
            <p:spPr>
              <a:xfrm flipV="1">
                <a:off x="3156480" y="3110760"/>
                <a:ext cx="0" cy="1455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8"/>
              <p:cNvSpPr/>
              <p:nvPr/>
            </p:nvSpPr>
            <p:spPr>
              <a:xfrm>
                <a:off x="3156480" y="3110760"/>
                <a:ext cx="2761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Group 9"/>
            <p:cNvGrpSpPr/>
            <p:nvPr/>
          </p:nvGrpSpPr>
          <p:grpSpPr>
            <a:xfrm>
              <a:off x="5918400" y="1655640"/>
              <a:ext cx="2760840" cy="1455120"/>
              <a:chOff x="5918400" y="1655640"/>
              <a:chExt cx="2760840" cy="1455120"/>
            </a:xfrm>
          </p:grpSpPr>
          <p:sp>
            <p:nvSpPr>
              <p:cNvPr id="150" name="Line 10"/>
              <p:cNvSpPr/>
              <p:nvPr/>
            </p:nvSpPr>
            <p:spPr>
              <a:xfrm flipV="1">
                <a:off x="5918400" y="1655640"/>
                <a:ext cx="0" cy="1455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11"/>
              <p:cNvSpPr/>
              <p:nvPr/>
            </p:nvSpPr>
            <p:spPr>
              <a:xfrm>
                <a:off x="5918400" y="1655640"/>
                <a:ext cx="27608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мер времен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Group 2"/>
          <p:cNvGrpSpPr/>
          <p:nvPr/>
        </p:nvGrpSpPr>
        <p:grpSpPr>
          <a:xfrm>
            <a:off x="152280" y="1825560"/>
            <a:ext cx="8839080" cy="3142800"/>
            <a:chOff x="152280" y="1825560"/>
            <a:chExt cx="8839080" cy="3142800"/>
          </a:xfrm>
        </p:grpSpPr>
        <p:sp>
          <p:nvSpPr>
            <p:cNvPr id="91" name="Rectangle 3"/>
            <p:cNvSpPr/>
            <p:nvPr/>
          </p:nvSpPr>
          <p:spPr>
            <a:xfrm>
              <a:off x="152280" y="1825560"/>
              <a:ext cx="8839080" cy="3142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4"/>
            <p:cNvSpPr/>
            <p:nvPr/>
          </p:nvSpPr>
          <p:spPr>
            <a:xfrm>
              <a:off x="293760" y="3063960"/>
              <a:ext cx="845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ed7d31"/>
                  </a:solidFill>
                  <a:latin typeface="Times New Roman"/>
                </a:rPr>
                <a:t>1 век    1 год    1 месяц   1 сутки     1 ч    1 мин   1 с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Group 5"/>
            <p:cNvGrpSpPr/>
            <p:nvPr/>
          </p:nvGrpSpPr>
          <p:grpSpPr>
            <a:xfrm>
              <a:off x="903240" y="3577680"/>
              <a:ext cx="7370280" cy="248040"/>
              <a:chOff x="903240" y="3577680"/>
              <a:chExt cx="7370280" cy="248040"/>
            </a:xfrm>
          </p:grpSpPr>
          <p:sp>
            <p:nvSpPr>
              <p:cNvPr id="94" name="Arc 6"/>
              <p:cNvSpPr/>
              <p:nvPr/>
            </p:nvSpPr>
            <p:spPr>
              <a:xfrm flipV="1">
                <a:off x="903240" y="3585960"/>
                <a:ext cx="1077480" cy="207000"/>
              </a:xfrm>
              <a:custGeom>
                <a:avLst/>
                <a:gdLst>
                  <a:gd name="textAreaLeft" fmla="*/ 0 w 1077480"/>
                  <a:gd name="textAreaRight" fmla="*/ 1077840 w 1077480"/>
                  <a:gd name="textAreaTop" fmla="*/ -360 h 207000"/>
                  <a:gd name="textAreaBottom" fmla="*/ 207000 h 207000"/>
                </a:gdLst>
                <a:ahLst/>
                <a:rect l="textAreaLeft" t="textAreaTop" r="textAreaRight" b="textAreaBottom"/>
                <a:pathLst>
                  <a:path fill="none" w="43091" h="21600">
                    <a:moveTo>
                      <a:pt x="0" y="19430"/>
                    </a:moveTo>
                    <a:cubicBezTo>
                      <a:pt x="1114" y="8397"/>
                      <a:pt x="10401" y="0"/>
                      <a:pt x="21491" y="0"/>
                    </a:cubicBezTo>
                    <a:cubicBezTo>
                      <a:pt x="-32116" y="0"/>
                      <a:pt x="-22445" y="9670"/>
                      <a:pt x="-22445" y="21600"/>
                    </a:cubicBezTo>
                  </a:path>
                  <a:path stroke="0" w="43091" h="21600">
                    <a:moveTo>
                      <a:pt x="0" y="19430"/>
                    </a:moveTo>
                    <a:cubicBezTo>
                      <a:pt x="1114" y="8397"/>
                      <a:pt x="10401" y="0"/>
                      <a:pt x="21491" y="0"/>
                    </a:cubicBezTo>
                    <a:cubicBezTo>
                      <a:pt x="-32116" y="0"/>
                      <a:pt x="-22445" y="9670"/>
                      <a:pt x="-22445" y="21600"/>
                    </a:cubicBezTo>
                    <a:lnTo>
                      <a:pt x="21491" y="21600"/>
                    </a:lnTo>
                    <a:lnTo>
                      <a:pt x="0" y="19430"/>
                    </a:lnTo>
                    <a:close/>
                  </a:path>
                </a:pathLst>
              </a:custGeom>
              <a:noFill/>
              <a:ln w="2844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Arc 7"/>
              <p:cNvSpPr/>
              <p:nvPr/>
            </p:nvSpPr>
            <p:spPr>
              <a:xfrm flipV="1">
                <a:off x="2148480" y="3578040"/>
                <a:ext cx="1217880" cy="247680"/>
              </a:xfrm>
              <a:custGeom>
                <a:avLst/>
                <a:gdLst>
                  <a:gd name="textAreaLeft" fmla="*/ 0 w 1217880"/>
                  <a:gd name="textAreaRight" fmla="*/ 1217880 w 1217880"/>
                  <a:gd name="textAreaTop" fmla="*/ 360 h 247680"/>
                  <a:gd name="textAreaBottom" fmla="*/ 248400 h 247680"/>
                </a:gdLst>
                <a:ahLst/>
                <a:rect l="textAreaLeft" t="textAreaTop" r="textAreaRight" b="textAreaBottom"/>
                <a:pathLst>
                  <a:path fill="none" w="43091" h="21600">
                    <a:moveTo>
                      <a:pt x="0" y="19430"/>
                    </a:moveTo>
                    <a:cubicBezTo>
                      <a:pt x="1114" y="8397"/>
                      <a:pt x="10401" y="0"/>
                      <a:pt x="21491" y="0"/>
                    </a:cubicBezTo>
                    <a:cubicBezTo>
                      <a:pt x="-32116" y="0"/>
                      <a:pt x="-22445" y="9670"/>
                      <a:pt x="-22445" y="21600"/>
                    </a:cubicBezTo>
                  </a:path>
                  <a:path stroke="0" w="43091" h="21600">
                    <a:moveTo>
                      <a:pt x="0" y="19430"/>
                    </a:moveTo>
                    <a:cubicBezTo>
                      <a:pt x="1114" y="8397"/>
                      <a:pt x="10401" y="0"/>
                      <a:pt x="21491" y="0"/>
                    </a:cubicBezTo>
                    <a:cubicBezTo>
                      <a:pt x="-32116" y="0"/>
                      <a:pt x="-22445" y="9670"/>
                      <a:pt x="-22445" y="21600"/>
                    </a:cubicBezTo>
                    <a:lnTo>
                      <a:pt x="21491" y="21600"/>
                    </a:lnTo>
                    <a:lnTo>
                      <a:pt x="0" y="19430"/>
                    </a:lnTo>
                    <a:close/>
                  </a:path>
                </a:pathLst>
              </a:custGeom>
              <a:noFill/>
              <a:ln w="2844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Arc 8"/>
              <p:cNvSpPr/>
              <p:nvPr/>
            </p:nvSpPr>
            <p:spPr>
              <a:xfrm flipV="1">
                <a:off x="3479040" y="3578040"/>
                <a:ext cx="1217520" cy="247680"/>
              </a:xfrm>
              <a:custGeom>
                <a:avLst/>
                <a:gdLst>
                  <a:gd name="textAreaLeft" fmla="*/ 0 w 1217520"/>
                  <a:gd name="textAreaRight" fmla="*/ 1217880 w 1217520"/>
                  <a:gd name="textAreaTop" fmla="*/ 360 h 247680"/>
                  <a:gd name="textAreaBottom" fmla="*/ 248400 h 247680"/>
                </a:gdLst>
                <a:ahLst/>
                <a:rect l="textAreaLeft" t="textAreaTop" r="textAreaRight" b="textAreaBottom"/>
                <a:pathLst>
                  <a:path fill="none" w="43091" h="21600">
                    <a:moveTo>
                      <a:pt x="0" y="19430"/>
                    </a:moveTo>
                    <a:cubicBezTo>
                      <a:pt x="1114" y="8397"/>
                      <a:pt x="10401" y="0"/>
                      <a:pt x="21491" y="0"/>
                    </a:cubicBezTo>
                    <a:cubicBezTo>
                      <a:pt x="-32116" y="0"/>
                      <a:pt x="-22445" y="9670"/>
                      <a:pt x="-22445" y="21600"/>
                    </a:cubicBezTo>
                  </a:path>
                  <a:path stroke="0" w="43091" h="21600">
                    <a:moveTo>
                      <a:pt x="0" y="19430"/>
                    </a:moveTo>
                    <a:cubicBezTo>
                      <a:pt x="1114" y="8397"/>
                      <a:pt x="10401" y="0"/>
                      <a:pt x="21491" y="0"/>
                    </a:cubicBezTo>
                    <a:cubicBezTo>
                      <a:pt x="-32116" y="0"/>
                      <a:pt x="-22445" y="9670"/>
                      <a:pt x="-22445" y="21600"/>
                    </a:cubicBezTo>
                    <a:lnTo>
                      <a:pt x="21491" y="21600"/>
                    </a:lnTo>
                    <a:lnTo>
                      <a:pt x="0" y="19430"/>
                    </a:lnTo>
                    <a:close/>
                  </a:path>
                </a:pathLst>
              </a:custGeom>
              <a:noFill/>
              <a:ln w="2844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Arc 9"/>
              <p:cNvSpPr/>
              <p:nvPr/>
            </p:nvSpPr>
            <p:spPr>
              <a:xfrm flipV="1">
                <a:off x="4957560" y="3578040"/>
                <a:ext cx="1217880" cy="247680"/>
              </a:xfrm>
              <a:custGeom>
                <a:avLst/>
                <a:gdLst>
                  <a:gd name="textAreaLeft" fmla="*/ 0 w 1217880"/>
                  <a:gd name="textAreaRight" fmla="*/ 1217880 w 1217880"/>
                  <a:gd name="textAreaTop" fmla="*/ 360 h 247680"/>
                  <a:gd name="textAreaBottom" fmla="*/ 248400 h 247680"/>
                </a:gdLst>
                <a:ahLst/>
                <a:rect l="textAreaLeft" t="textAreaTop" r="textAreaRight" b="textAreaBottom"/>
                <a:pathLst>
                  <a:path fill="none" w="43091" h="21600">
                    <a:moveTo>
                      <a:pt x="0" y="19430"/>
                    </a:moveTo>
                    <a:cubicBezTo>
                      <a:pt x="1114" y="8397"/>
                      <a:pt x="10401" y="0"/>
                      <a:pt x="21491" y="0"/>
                    </a:cubicBezTo>
                    <a:cubicBezTo>
                      <a:pt x="-32116" y="0"/>
                      <a:pt x="-22445" y="9670"/>
                      <a:pt x="-22445" y="21600"/>
                    </a:cubicBezTo>
                  </a:path>
                  <a:path stroke="0" w="43091" h="21600">
                    <a:moveTo>
                      <a:pt x="0" y="19430"/>
                    </a:moveTo>
                    <a:cubicBezTo>
                      <a:pt x="1114" y="8397"/>
                      <a:pt x="10401" y="0"/>
                      <a:pt x="21491" y="0"/>
                    </a:cubicBezTo>
                    <a:cubicBezTo>
                      <a:pt x="-32116" y="0"/>
                      <a:pt x="-22445" y="9670"/>
                      <a:pt x="-22445" y="21600"/>
                    </a:cubicBezTo>
                    <a:lnTo>
                      <a:pt x="21491" y="21600"/>
                    </a:lnTo>
                    <a:lnTo>
                      <a:pt x="0" y="19430"/>
                    </a:lnTo>
                    <a:close/>
                  </a:path>
                </a:pathLst>
              </a:custGeom>
              <a:noFill/>
              <a:ln w="2844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Arc 10"/>
              <p:cNvSpPr/>
              <p:nvPr/>
            </p:nvSpPr>
            <p:spPr>
              <a:xfrm flipV="1">
                <a:off x="6289560" y="3577320"/>
                <a:ext cx="948960" cy="193320"/>
              </a:xfrm>
              <a:custGeom>
                <a:avLst/>
                <a:gdLst>
                  <a:gd name="textAreaLeft" fmla="*/ 0 w 948960"/>
                  <a:gd name="textAreaRight" fmla="*/ 949320 w 948960"/>
                  <a:gd name="textAreaTop" fmla="*/ -360 h 193320"/>
                  <a:gd name="textAreaBottom" fmla="*/ 193320 h 193320"/>
                </a:gdLst>
                <a:ahLst/>
                <a:rect l="textAreaLeft" t="textAreaTop" r="textAreaRight" b="textAreaBottom"/>
                <a:pathLst>
                  <a:path fill="none" w="43091" h="21600">
                    <a:moveTo>
                      <a:pt x="0" y="19430"/>
                    </a:moveTo>
                    <a:cubicBezTo>
                      <a:pt x="1114" y="8397"/>
                      <a:pt x="10401" y="0"/>
                      <a:pt x="21491" y="0"/>
                    </a:cubicBezTo>
                    <a:cubicBezTo>
                      <a:pt x="-32116" y="0"/>
                      <a:pt x="-22445" y="9670"/>
                      <a:pt x="-22445" y="21600"/>
                    </a:cubicBezTo>
                  </a:path>
                  <a:path stroke="0" w="43091" h="21600">
                    <a:moveTo>
                      <a:pt x="0" y="19430"/>
                    </a:moveTo>
                    <a:cubicBezTo>
                      <a:pt x="1114" y="8397"/>
                      <a:pt x="10401" y="0"/>
                      <a:pt x="21491" y="0"/>
                    </a:cubicBezTo>
                    <a:cubicBezTo>
                      <a:pt x="-32116" y="0"/>
                      <a:pt x="-22445" y="9670"/>
                      <a:pt x="-22445" y="21600"/>
                    </a:cubicBezTo>
                    <a:lnTo>
                      <a:pt x="21491" y="21600"/>
                    </a:lnTo>
                    <a:lnTo>
                      <a:pt x="0" y="19430"/>
                    </a:lnTo>
                    <a:close/>
                  </a:path>
                </a:pathLst>
              </a:custGeom>
              <a:noFill/>
              <a:ln w="2844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Arc 11"/>
              <p:cNvSpPr/>
              <p:nvPr/>
            </p:nvSpPr>
            <p:spPr>
              <a:xfrm flipV="1">
                <a:off x="7324560" y="3577320"/>
                <a:ext cx="948960" cy="193320"/>
              </a:xfrm>
              <a:custGeom>
                <a:avLst/>
                <a:gdLst>
                  <a:gd name="textAreaLeft" fmla="*/ 0 w 948960"/>
                  <a:gd name="textAreaRight" fmla="*/ 949320 w 948960"/>
                  <a:gd name="textAreaTop" fmla="*/ -360 h 193320"/>
                  <a:gd name="textAreaBottom" fmla="*/ 193320 h 193320"/>
                </a:gdLst>
                <a:ahLst/>
                <a:rect l="textAreaLeft" t="textAreaTop" r="textAreaRight" b="textAreaBottom"/>
                <a:pathLst>
                  <a:path fill="none" w="43091" h="21600">
                    <a:moveTo>
                      <a:pt x="0" y="19430"/>
                    </a:moveTo>
                    <a:cubicBezTo>
                      <a:pt x="1114" y="8397"/>
                      <a:pt x="10401" y="0"/>
                      <a:pt x="21491" y="0"/>
                    </a:cubicBezTo>
                    <a:cubicBezTo>
                      <a:pt x="-32116" y="0"/>
                      <a:pt x="-22445" y="9670"/>
                      <a:pt x="-22445" y="21600"/>
                    </a:cubicBezTo>
                  </a:path>
                  <a:path stroke="0" w="43091" h="21600">
                    <a:moveTo>
                      <a:pt x="0" y="19430"/>
                    </a:moveTo>
                    <a:cubicBezTo>
                      <a:pt x="1114" y="8397"/>
                      <a:pt x="10401" y="0"/>
                      <a:pt x="21491" y="0"/>
                    </a:cubicBezTo>
                    <a:cubicBezTo>
                      <a:pt x="-32116" y="0"/>
                      <a:pt x="-22445" y="9670"/>
                      <a:pt x="-22445" y="21600"/>
                    </a:cubicBezTo>
                    <a:lnTo>
                      <a:pt x="21491" y="21600"/>
                    </a:lnTo>
                    <a:lnTo>
                      <a:pt x="0" y="19430"/>
                    </a:lnTo>
                    <a:close/>
                  </a:path>
                </a:pathLst>
              </a:custGeom>
              <a:noFill/>
              <a:ln w="2844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Arc 12"/>
            <p:cNvSpPr/>
            <p:nvPr/>
          </p:nvSpPr>
          <p:spPr>
            <a:xfrm>
              <a:off x="2155680" y="2867040"/>
              <a:ext cx="2958840" cy="401400"/>
            </a:xfrm>
            <a:custGeom>
              <a:avLst/>
              <a:gdLst>
                <a:gd name="textAreaLeft" fmla="*/ 0 w 2958840"/>
                <a:gd name="textAreaRight" fmla="*/ 2959200 w 295884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fill="none" w="43091" h="21600">
                  <a:moveTo>
                    <a:pt x="0" y="19430"/>
                  </a:moveTo>
                  <a:cubicBezTo>
                    <a:pt x="1114" y="8397"/>
                    <a:pt x="10401" y="0"/>
                    <a:pt x="21491" y="0"/>
                  </a:cubicBezTo>
                  <a:cubicBezTo>
                    <a:pt x="-32116" y="0"/>
                    <a:pt x="-22445" y="9670"/>
                    <a:pt x="-22445" y="21600"/>
                  </a:cubicBezTo>
                </a:path>
                <a:path stroke="0" w="43091" h="21600">
                  <a:moveTo>
                    <a:pt x="0" y="19430"/>
                  </a:moveTo>
                  <a:cubicBezTo>
                    <a:pt x="1114" y="8397"/>
                    <a:pt x="10401" y="0"/>
                    <a:pt x="21491" y="0"/>
                  </a:cubicBezTo>
                  <a:cubicBezTo>
                    <a:pt x="-32116" y="0"/>
                    <a:pt x="-22445" y="9670"/>
                    <a:pt x="-22445" y="21600"/>
                  </a:cubicBezTo>
                  <a:lnTo>
                    <a:pt x="21491" y="21600"/>
                  </a:lnTo>
                  <a:lnTo>
                    <a:pt x="0" y="19430"/>
                  </a:lnTo>
                  <a:close/>
                </a:path>
              </a:pathLst>
            </a:custGeom>
            <a:noFill/>
            <a:ln w="2844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3"/>
            <p:cNvSpPr/>
            <p:nvPr/>
          </p:nvSpPr>
          <p:spPr>
            <a:xfrm>
              <a:off x="2607480" y="2177280"/>
              <a:ext cx="243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ed7d31"/>
                  </a:solidFill>
                  <a:latin typeface="Times New Roman"/>
                </a:rPr>
                <a:t>365 или 36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4"/>
            <p:cNvSpPr/>
            <p:nvPr/>
          </p:nvSpPr>
          <p:spPr>
            <a:xfrm>
              <a:off x="890280" y="373824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ed7d31"/>
                  </a:solidFill>
                  <a:latin typeface="Times New Roman"/>
                </a:rPr>
                <a:t>1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5"/>
            <p:cNvSpPr/>
            <p:nvPr/>
          </p:nvSpPr>
          <p:spPr>
            <a:xfrm>
              <a:off x="2527560" y="3759480"/>
              <a:ext cx="63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ed7d31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6"/>
            <p:cNvSpPr/>
            <p:nvPr/>
          </p:nvSpPr>
          <p:spPr>
            <a:xfrm>
              <a:off x="3389760" y="3812040"/>
              <a:ext cx="1561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d7d31"/>
                  </a:solidFill>
                  <a:latin typeface="Times New Roman"/>
                </a:rPr>
                <a:t>30 или 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d7d31"/>
                  </a:solidFill>
                  <a:latin typeface="Times New Roman"/>
                </a:rPr>
                <a:t>(28 – 29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7"/>
            <p:cNvSpPr/>
            <p:nvPr/>
          </p:nvSpPr>
          <p:spPr>
            <a:xfrm>
              <a:off x="5328000" y="3817440"/>
              <a:ext cx="635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ed7d31"/>
                  </a:solidFill>
                  <a:latin typeface="Times New Roman"/>
                </a:rPr>
                <a:t>2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8"/>
            <p:cNvSpPr/>
            <p:nvPr/>
          </p:nvSpPr>
          <p:spPr>
            <a:xfrm>
              <a:off x="6435360" y="3773160"/>
              <a:ext cx="63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ed7d31"/>
                  </a:solidFill>
                  <a:latin typeface="Times New Roman"/>
                </a:rPr>
                <a:t>6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9"/>
            <p:cNvSpPr/>
            <p:nvPr/>
          </p:nvSpPr>
          <p:spPr>
            <a:xfrm>
              <a:off x="7620480" y="3817440"/>
              <a:ext cx="63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ed7d31"/>
                  </a:solidFill>
                  <a:latin typeface="Times New Roman"/>
                </a:rPr>
                <a:t>6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89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секунд в 3 минутах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секунд в 5 минутах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минут в двух часах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часов составляю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уток и 12 часов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часов в 10 сутках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8760" y="2590920"/>
            <a:ext cx="82864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180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сек</a:t>
            </a: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, 150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мин</a:t>
            </a: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, 120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мин</a:t>
            </a: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, 60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, 240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ч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2819160"/>
            <a:ext cx="8210520" cy="26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, 120, 150, 180, 24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825200"/>
            <a:ext cx="86868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 V, III, VIII, X, II, VI, IV, VII,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X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152280" y="2865600"/>
            <a:ext cx="861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5, 3, 8, 10, 2, 6, 4, 7, 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9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ы</a:t>
            </a: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28560" y="2743200"/>
            <a:ext cx="7886880" cy="34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ор для измерения времен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9" name="Объект 3" descr=""/>
          <p:cNvPicPr/>
          <p:nvPr/>
        </p:nvPicPr>
        <p:blipFill>
          <a:blip r:embed="rId1"/>
          <a:stretch/>
        </p:blipFill>
        <p:spPr>
          <a:xfrm>
            <a:off x="1981080" y="1690560"/>
            <a:ext cx="4351320" cy="4351320"/>
          </a:xfrm>
          <a:prstGeom prst="rect">
            <a:avLst/>
          </a:prstGeom>
          <a:ln w="0">
            <a:noFill/>
          </a:ln>
        </p:spPr>
      </p:pic>
      <p:sp>
        <p:nvSpPr>
          <p:cNvPr id="120" name="Стрелка вниз 7"/>
          <p:cNvSpPr/>
          <p:nvPr/>
        </p:nvSpPr>
        <p:spPr>
          <a:xfrm rot="9300000">
            <a:off x="3793320" y="2922480"/>
            <a:ext cx="304920" cy="84960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трелка вниз 8"/>
          <p:cNvSpPr/>
          <p:nvPr/>
        </p:nvSpPr>
        <p:spPr>
          <a:xfrm rot="20700000">
            <a:off x="4205160" y="3971520"/>
            <a:ext cx="231840" cy="12193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65040"/>
            <a:ext cx="8305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определения времени по часам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560" y="1447560"/>
            <a:ext cx="8210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пределить, какая из стрелок играет роль часов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Определить, какая из стрелок играет роль минут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тметьте для себя, на уровне какого числа, нанесенной на краю циферблата, находится часовая стрел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Обратите внимание теперь, на уровне какого числа находится стрелка минутная. Если на 12, то часы показывают ровный ча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DNS</cp:lastModifiedBy>
  <dcterms:modified xsi:type="dcterms:W3CDTF">2022-11-20T06:22:33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