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48D-8268-4A64-AFF7-3318935C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D63-A708-4B04-8031-54FE4433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754-A1B1-46E9-8FD2-848F94F5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2C6-F967-48FB-8ED9-D7EF1F23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016E-05CB-4A64-AA52-CC9E9B0D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0483-7EBA-4BD6-A162-2891BF45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9E53-1AFE-4D2D-8567-04E8C251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939E-7B8C-44EE-89ED-FDEA0E23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82E0-2B66-4A23-9861-E3A099D8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E0B3-EB81-418C-888B-2EB6B905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92E3-0809-42E9-9AB0-7DE2C2BD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C1E-3542-49E6-8E6E-8DBEC0A4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B471-C9DD-46A6-87FD-F651C9B5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7924-D588-4547-A927-F66CE7A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3AA2-A317-479C-89BE-FB1DBE55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D9EA-3857-4ECA-87E7-74B74BE4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40F4-5704-476F-8B1C-E313CD76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54D-1A94-49C2-ACF1-478C4544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94E-CB75-456C-835B-CE81AEDD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6C5-1993-4F4E-96FF-85027EF7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A47-FC1D-43DD-B0C2-D67924EC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E14-29CF-480A-9E96-CBD566C2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C75-AC3F-4AA4-ADB9-0B47527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8BB-BBE7-4220-A773-7AFC419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9BA6-26ED-40A6-AA65-153D98F10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5643-FDED-410B-8B02-5C848ECBD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Урок окружающего мира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ла и 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лайчиди О.В. 3 класс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1614240" cy="1862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292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едметы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32280" y="549360"/>
            <a:ext cx="4311720" cy="192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2160720" cy="1935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804000" y="4221000"/>
            <a:ext cx="1940040" cy="2149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780000" y="4437000"/>
            <a:ext cx="2232000" cy="16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А это предметы или вещества?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Помогите разобраться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2627280" cy="222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50020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27560" y="3068640"/>
            <a:ext cx="2314440" cy="28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можете ли ответить на                      вопрос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сли всё что нас окружает,- э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едметы, то и мы с вами и рыбки в аквариуме – тоже предмет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такое «тело»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Телам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ауке называют все предметы, которые нас окружают. То,  из чего состоит тело называют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ещество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гадайся, где тело, а где вещество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4670280"/>
            <a:ext cx="2519280" cy="142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243684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635280" y="1844640"/>
            <a:ext cx="2219400" cy="208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516720" y="1844640"/>
            <a:ext cx="2232000" cy="1500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3492360" y="4437000"/>
            <a:ext cx="2808360" cy="2133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6732720" y="4724280"/>
            <a:ext cx="2016000" cy="17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ие бывают тел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634920" y="3789360"/>
            <a:ext cx="158436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38080" y="1905120"/>
            <a:ext cx="8006760" cy="4190040"/>
            <a:chOff x="838080" y="1905120"/>
            <a:chExt cx="8006760" cy="4190040"/>
          </a:xfrm>
        </p:grpSpPr>
        <p:cxnSp>
          <p:nvCxnSpPr>
            <p:cNvPr id="125" name="_s21524"/>
            <p:cNvCxnSpPr>
              <a:stCxn id="126" idx="3"/>
              <a:endCxn id="127" idx="2"/>
            </p:cNvCxnSpPr>
            <p:nvPr/>
          </p:nvCxnSpPr>
          <p:spPr>
            <a:xfrm flipV="1">
              <a:off x="6381000" y="4952160"/>
              <a:ext cx="615960" cy="762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21520"/>
            <p:cNvCxnSpPr>
              <a:stCxn id="127" idx="0"/>
              <a:endCxn id="129" idx="2"/>
            </p:cNvCxnSpPr>
            <p:nvPr/>
          </p:nvCxnSpPr>
          <p:spPr>
            <a:xfrm flipV="1">
              <a:off x="6996960" y="3809520"/>
              <a:ext cx="3960" cy="38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21516"/>
            <p:cNvCxnSpPr>
              <a:stCxn id="129" idx="0"/>
              <a:endCxn id="131" idx="2"/>
            </p:cNvCxnSpPr>
            <p:nvPr/>
          </p:nvCxnSpPr>
          <p:spPr>
            <a:xfrm flipV="1" rot="16200000">
              <a:off x="5727960" y="1778760"/>
              <a:ext cx="381600" cy="2156400"/>
            </a:xfrm>
            <a:prstGeom prst="bentConnector3">
              <a:avLst>
                <a:gd name="adj1" fmla="val 2993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21515"/>
            <p:cNvCxnSpPr>
              <a:stCxn id="133" idx="0"/>
              <a:endCxn id="131" idx="2"/>
            </p:cNvCxnSpPr>
            <p:nvPr/>
          </p:nvCxnSpPr>
          <p:spPr>
            <a:xfrm flipH="1" flipV="1" rot="5400000">
              <a:off x="3572280" y="1779480"/>
              <a:ext cx="381600" cy="2155680"/>
            </a:xfrm>
            <a:prstGeom prst="bentConnector3">
              <a:avLst>
                <a:gd name="adj1" fmla="val 2993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1" name="_s21510"/>
            <p:cNvSpPr/>
            <p:nvPr/>
          </p:nvSpPr>
          <p:spPr>
            <a:xfrm>
              <a:off x="2993040" y="1905120"/>
              <a:ext cx="369540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Окружающие нас те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21512"/>
            <p:cNvSpPr/>
            <p:nvPr/>
          </p:nvSpPr>
          <p:spPr>
            <a:xfrm>
              <a:off x="838080" y="3047760"/>
              <a:ext cx="369540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Искусственны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те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21513"/>
            <p:cNvSpPr/>
            <p:nvPr/>
          </p:nvSpPr>
          <p:spPr>
            <a:xfrm>
              <a:off x="5149440" y="3047760"/>
              <a:ext cx="369540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Природ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те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21519"/>
            <p:cNvSpPr/>
            <p:nvPr/>
          </p:nvSpPr>
          <p:spPr>
            <a:xfrm>
              <a:off x="5149440" y="4190760"/>
              <a:ext cx="369540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Жи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те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21523"/>
            <p:cNvSpPr/>
            <p:nvPr/>
          </p:nvSpPr>
          <p:spPr>
            <a:xfrm>
              <a:off x="2685600" y="5333400"/>
              <a:ext cx="369540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Неживые те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11280" y="0"/>
          <a:ext cx="8233920" cy="6095520"/>
        </p:xfrm>
        <a:graphic>
          <a:graphicData uri="http://schemas.openxmlformats.org/drawingml/2006/table">
            <a:tbl>
              <a:tblPr/>
              <a:tblGrid>
                <a:gridCol w="2058480"/>
                <a:gridCol w="2058840"/>
                <a:gridCol w="2058120"/>
                <a:gridCol w="2058480"/>
              </a:tblGrid>
              <a:tr h="18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ш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стмас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моби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ес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ж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Чтение текста с.10-1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.11 отвечать на вопрос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7T18:33:54Z</dcterms:created>
  <dc:creator>Дмитрий</dc:creator>
  <dc:description/>
  <dc:language>en-US</dc:language>
  <cp:lastModifiedBy>Дмитрий</cp:lastModifiedBy>
  <dcterms:modified xsi:type="dcterms:W3CDTF">2012-06-22T13:05:05Z</dcterms:modified>
  <cp:revision>6</cp:revision>
  <dc:subject/>
  <dc:title>Урок окружающего мира </dc:title>
</cp:coreProperties>
</file>