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1EC-3636-455C-BF86-46BADAA7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591-568D-4B2C-BF40-9F25D408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220-2110-43AD-9235-44614C57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8EE-AAEC-4A93-A9DA-E118B8CD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D982-8571-4EA9-B886-1B141A47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436-922B-4716-AA9F-D0B3DE15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A69-5C11-4256-8A0E-151A4884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B93-14BD-4CF1-85EE-8BFAD4BF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25E-9A16-49A5-9CA1-568FD1E6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1C8-AD2C-4988-B430-34B94648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610-13B5-46B7-98B1-818BDEC8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CE5-8716-4D57-9568-C0F4C702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D2C7-76C0-4F2C-9800-0D0FEE1CD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4:00:57Z</dcterms:created>
  <dc:creator>Цыдендамбаев Ж.Д.</dc:creator>
  <dc:description/>
  <dc:language>en-US</dc:language>
  <cp:lastModifiedBy>Цыдендамбаев Ж.Д.</cp:lastModifiedBy>
  <dcterms:modified xsi:type="dcterms:W3CDTF">2010-04-21T14:00:57Z</dcterms:modified>
  <cp:revision>1</cp:revision>
  <dc:subject/>
  <dc:title>Слайд 1</dc:title>
</cp:coreProperties>
</file>