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483-177B-4D88-B2BC-36833CCE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A5B-A799-4506-B3D9-7D63F56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272-EB66-46E2-A1C6-58AFC37B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0ED-FD91-4241-8990-1E792834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BF7-917B-449A-81FE-CCFEFDB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668-5CC3-46FC-83DB-16BFE482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A7C-550B-4962-B7CF-16071F8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B85-F629-4EB0-BD43-7CFB4EC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D8D-A1CA-4D25-8B6E-00EE3EF7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F46-C330-481E-84A5-28FB352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C56-21F0-419A-8442-DF63B42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F9C-2FE6-43E9-85C7-95452F5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b7e7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AEC-D45A-4862-B391-D0E8CD6D48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Сложение и вычитание смешанных чисел </a:t>
            </a:r>
            <a:br>
              <a:rPr sz="4000"/>
            </a:br>
            <a:br>
              <a:rPr sz="28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урок математики, 5 класс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13840" y="571320"/>
            <a:ext cx="85410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Составьте такой пример на вычитание, чтобы дробная часть уменьшаемого  была меньше  дробной части вычитаемог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285840" y="1500120"/>
                <a:ext cx="10713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500120" y="1428840"/>
                <a:ext cx="736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286000" y="1428840"/>
                <a:ext cx="9208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3286080" y="1428840"/>
                <a:ext cx="1060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4429080" y="1428840"/>
                <a:ext cx="8222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92160" y="3714840"/>
                <a:ext cx="27954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4786200" y="3643200"/>
                <a:ext cx="26434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2505240" y="5281560"/>
                <a:ext cx="26413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6"/>
              <p:cNvSpPr txBox="1"/>
              <p:nvPr/>
            </p:nvSpPr>
            <p:spPr>
              <a:xfrm>
                <a:off x="2786040" y="3714840"/>
                <a:ext cx="979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4"/>
              <p:cNvSpPr txBox="1"/>
              <p:nvPr/>
            </p:nvSpPr>
            <p:spPr>
              <a:xfrm>
                <a:off x="7358040" y="3643200"/>
                <a:ext cx="10717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8"/>
              <p:cNvSpPr txBox="1"/>
              <p:nvPr/>
            </p:nvSpPr>
            <p:spPr>
              <a:xfrm>
                <a:off x="5072040" y="5411880"/>
                <a:ext cx="74628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225000" y="71424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6, № 112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857240" y="2000160"/>
                <a:ext cx="128592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324000" y="2205000"/>
                <a:ext cx="1137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303720" y="2000160"/>
                <a:ext cx="12128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4643280" y="2214720"/>
                <a:ext cx="100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5857920" y="1928880"/>
                <a:ext cx="13939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357120" y="4000680"/>
                <a:ext cx="12859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1739880" y="3714840"/>
                <a:ext cx="1701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639960" y="3714840"/>
                <a:ext cx="15796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549760" y="3714840"/>
                <a:ext cx="1513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25000" y="71424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6, № 112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482760" y="1785960"/>
                <a:ext cx="23936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122400" y="4000680"/>
                <a:ext cx="29718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990960" y="1643040"/>
                <a:ext cx="3457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3686040" y="4143240"/>
                <a:ext cx="55641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01960" y="71424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5, № 111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500040" y="1643040"/>
                <a:ext cx="5234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53960" y="3571920"/>
                <a:ext cx="51832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551560" y="1714680"/>
                <a:ext cx="13064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5500800" y="3643200"/>
                <a:ext cx="1306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96280" y="14292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7, № 113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696960" y="1071720"/>
                <a:ext cx="426888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692280" y="2786040"/>
                <a:ext cx="43704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4929120" y="1143000"/>
                <a:ext cx="979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929120" y="2928960"/>
                <a:ext cx="9810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666720" y="4714920"/>
                <a:ext cx="43704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4929120" y="4786200"/>
                <a:ext cx="12589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3a0a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3708360" y="1989000"/>
                <a:ext cx="1895400" cy="36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4140360" y="2133720"/>
                <a:ext cx="1252440" cy="35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0"/>
              <p:cNvSpPr txBox="1"/>
              <p:nvPr/>
            </p:nvSpPr>
            <p:spPr>
              <a:xfrm>
                <a:off x="3564000" y="2349360"/>
                <a:ext cx="214632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3995640" y="2205000"/>
                <a:ext cx="13669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4"/>
              <p:cNvSpPr txBox="1"/>
              <p:nvPr/>
            </p:nvSpPr>
            <p:spPr>
              <a:xfrm>
                <a:off x="3924360" y="2349360"/>
                <a:ext cx="1282680" cy="33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5"/>
              <p:cNvSpPr txBox="1"/>
              <p:nvPr/>
            </p:nvSpPr>
            <p:spPr>
              <a:xfrm>
                <a:off x="3851280" y="2421000"/>
                <a:ext cx="169848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273600" y="142920"/>
            <a:ext cx="510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5, № 111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324000" y="11253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52"/>
                </a:solidFill>
                <a:latin typeface="Arial"/>
              </a:rPr>
              <a:t>грузовик -                 яб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57120" y="24289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52"/>
                </a:solidFill>
                <a:latin typeface="Arial"/>
              </a:rPr>
              <a:t>грузовик -                 мен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авая фигурная скобка 4"/>
          <p:cNvSpPr/>
          <p:nvPr/>
        </p:nvSpPr>
        <p:spPr>
          <a:xfrm>
            <a:off x="5364000" y="1038240"/>
            <a:ext cx="285840" cy="18572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857240"/>
              <a:gd name="textAreaBottom" fmla="*/ 185004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653440" y="1628640"/>
            <a:ext cx="83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52"/>
                </a:solidFill>
                <a:latin typeface="Arial"/>
              </a:rPr>
              <a:t>?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627280" y="836640"/>
                <a:ext cx="1155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428920" y="2143080"/>
                <a:ext cx="1530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50920" y="3068640"/>
                <a:ext cx="28177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928960" y="3214800"/>
                <a:ext cx="9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246240" y="4429080"/>
                <a:ext cx="297972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3132000" y="4508640"/>
                <a:ext cx="1063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Box 12"/>
          <p:cNvSpPr/>
          <p:nvPr/>
        </p:nvSpPr>
        <p:spPr>
          <a:xfrm>
            <a:off x="503280" y="6066000"/>
            <a:ext cx="72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На базу привезли           яб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5435640" y="5923080"/>
                <a:ext cx="102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1368000" y="142920"/>
            <a:ext cx="51062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Стр. 175, № 1120</a:t>
            </a:r>
            <a:br>
              <a:rPr sz="4800"/>
            </a:br>
            <a:r>
              <a:rPr b="0" lang="ru-RU" sz="4400" spc="-1" strike="noStrike">
                <a:solidFill>
                  <a:srgbClr val="000052"/>
                </a:solidFill>
                <a:latin typeface="Arial"/>
              </a:rPr>
              <a:t>(самостоятельно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446760" y="2500200"/>
            <a:ext cx="781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Продолжительность всей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600" spc="-1" strike="noStrike">
                <a:solidFill>
                  <a:srgbClr val="000052"/>
                </a:solidFill>
                <a:latin typeface="Times New Roman"/>
                <a:ea typeface="Times New Roman"/>
              </a:rPr>
              <a:t>или 195 мину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179280" y="3429000"/>
                <a:ext cx="1500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час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785880" y="1357200"/>
            <a:ext cx="750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2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2"/>
                </a:solidFill>
                <a:latin typeface="Arial"/>
              </a:rPr>
              <a:t>Стр. 178, № 1135 </a:t>
            </a:r>
            <a:br>
              <a:rPr sz="4000"/>
            </a:br>
            <a:r>
              <a:rPr b="1" lang="ru-RU" sz="4000" spc="-1" strike="noStrike">
                <a:solidFill>
                  <a:srgbClr val="000052"/>
                </a:solidFill>
                <a:latin typeface="Arial"/>
              </a:rPr>
              <a:t>(по вариантам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3a0a"/>
                </a:solidFill>
                <a:latin typeface="Arial"/>
              </a:rPr>
              <a:t>Подведение итогов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На чем основано сложение и вычитание смешанных чисе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Может ли при сложении смешанных чисел получится натуральное числ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Угадайт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Первую в школе все изучают.</a:t>
            </a:r>
            <a:br>
              <a:rPr sz="3200"/>
            </a:b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Ну а второй из двустволки стреляют.</a:t>
            </a:r>
            <a:br>
              <a:rPr sz="3200"/>
            </a:b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Третью исполняют нам два барабана</a:t>
            </a:r>
            <a:br>
              <a:rPr sz="3200"/>
            </a:b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Иль каблуки отобьют ее рья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66160" y="4845960"/>
            <a:ext cx="192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43a0a"/>
                </a:solidFill>
                <a:latin typeface="Arial"/>
              </a:rPr>
              <a:t>Дробь</a:t>
            </a:r>
            <a:r>
              <a:rPr b="1" lang="ru-RU" sz="4000" spc="-1" strike="noStrike">
                <a:solidFill>
                  <a:srgbClr val="d43a0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№ </a:t>
            </a: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1138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1139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52"/>
                </a:solidFill>
                <a:latin typeface="Arial"/>
              </a:rPr>
              <a:t>1143 (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Выделите целую часть из дроб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92"/>
              <p:cNvSpPr txBox="1"/>
              <p:nvPr/>
            </p:nvSpPr>
            <p:spPr>
              <a:xfrm>
                <a:off x="0" y="2637000"/>
                <a:ext cx="19414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93"/>
              <p:cNvSpPr txBox="1"/>
              <p:nvPr/>
            </p:nvSpPr>
            <p:spPr>
              <a:xfrm>
                <a:off x="1428840" y="2643120"/>
                <a:ext cx="132084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00"/>
              <p:cNvSpPr txBox="1"/>
              <p:nvPr/>
            </p:nvSpPr>
            <p:spPr>
              <a:xfrm>
                <a:off x="2500200" y="2643120"/>
                <a:ext cx="15019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01"/>
              <p:cNvSpPr txBox="1"/>
              <p:nvPr/>
            </p:nvSpPr>
            <p:spPr>
              <a:xfrm>
                <a:off x="3571920" y="2635200"/>
                <a:ext cx="157176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02"/>
              <p:cNvSpPr txBox="1"/>
              <p:nvPr/>
            </p:nvSpPr>
            <p:spPr>
              <a:xfrm>
                <a:off x="4786200" y="2635200"/>
                <a:ext cx="17892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203"/>
              <p:cNvSpPr txBox="1"/>
              <p:nvPr/>
            </p:nvSpPr>
            <p:spPr>
              <a:xfrm>
                <a:off x="6286680" y="2575080"/>
                <a:ext cx="139212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204"/>
              <p:cNvSpPr txBox="1"/>
              <p:nvPr/>
            </p:nvSpPr>
            <p:spPr>
              <a:xfrm>
                <a:off x="7656480" y="2521080"/>
                <a:ext cx="14875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6"/>
              <p:cNvSpPr txBox="1"/>
              <p:nvPr/>
            </p:nvSpPr>
            <p:spPr>
              <a:xfrm>
                <a:off x="179280" y="4581360"/>
                <a:ext cx="8542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6"/>
              <p:cNvSpPr txBox="1"/>
              <p:nvPr/>
            </p:nvSpPr>
            <p:spPr>
              <a:xfrm>
                <a:off x="7812000" y="4724280"/>
                <a:ext cx="860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7"/>
              <p:cNvSpPr txBox="1"/>
              <p:nvPr/>
            </p:nvSpPr>
            <p:spPr>
              <a:xfrm>
                <a:off x="6300720" y="4581360"/>
                <a:ext cx="10144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8"/>
              <p:cNvSpPr txBox="1"/>
              <p:nvPr/>
            </p:nvSpPr>
            <p:spPr>
              <a:xfrm>
                <a:off x="4932360" y="4581360"/>
                <a:ext cx="839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9"/>
              <p:cNvSpPr txBox="1"/>
              <p:nvPr/>
            </p:nvSpPr>
            <p:spPr>
              <a:xfrm>
                <a:off x="3851280" y="5013360"/>
                <a:ext cx="473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0"/>
              <p:cNvSpPr txBox="1"/>
              <p:nvPr/>
            </p:nvSpPr>
            <p:spPr>
              <a:xfrm>
                <a:off x="1258920" y="4581360"/>
                <a:ext cx="8776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1"/>
              <p:cNvSpPr txBox="1"/>
              <p:nvPr/>
            </p:nvSpPr>
            <p:spPr>
              <a:xfrm>
                <a:off x="2411280" y="4653000"/>
                <a:ext cx="9208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3360" y="18864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2. Представьте в виде неправильной дроби чис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11280" y="1628640"/>
                <a:ext cx="118908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5"/>
              <p:cNvSpPr txBox="1"/>
              <p:nvPr/>
            </p:nvSpPr>
            <p:spPr>
              <a:xfrm>
                <a:off x="2268360" y="1700280"/>
                <a:ext cx="11271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"/>
              <p:cNvSpPr txBox="1"/>
              <p:nvPr/>
            </p:nvSpPr>
            <p:spPr>
              <a:xfrm>
                <a:off x="3780000" y="1844640"/>
                <a:ext cx="11905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7"/>
              <p:cNvSpPr txBox="1"/>
              <p:nvPr/>
            </p:nvSpPr>
            <p:spPr>
              <a:xfrm>
                <a:off x="5435640" y="1844640"/>
                <a:ext cx="10652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8"/>
              <p:cNvSpPr txBox="1"/>
              <p:nvPr/>
            </p:nvSpPr>
            <p:spPr>
              <a:xfrm>
                <a:off x="7020000" y="1844640"/>
                <a:ext cx="11890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Rectangle 11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7451640" y="4508640"/>
                <a:ext cx="97164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826920" y="4437000"/>
                <a:ext cx="909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2411280" y="4437000"/>
                <a:ext cx="8906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4211640" y="4437000"/>
                <a:ext cx="63036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940360" y="4437000"/>
                <a:ext cx="6620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85840" y="785880"/>
            <a:ext cx="854064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3. Вычисл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363600" y="1500120"/>
                <a:ext cx="25653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325440" y="3786120"/>
                <a:ext cx="27464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643280" y="1285920"/>
                <a:ext cx="31924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4929120" y="3714840"/>
                <a:ext cx="2817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786040" y="1428840"/>
                <a:ext cx="12193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3000240" y="4071960"/>
                <a:ext cx="8510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7643880" y="1357200"/>
                <a:ext cx="12715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7632720" y="4219560"/>
                <a:ext cx="7812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85840" y="785880"/>
            <a:ext cx="854064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4. Вычисли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555480" y="1500120"/>
                <a:ext cx="217980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655560" y="3786120"/>
                <a:ext cx="20844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81760" y="1285920"/>
                <a:ext cx="23158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4708440" y="3714840"/>
                <a:ext cx="32576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2643120" y="1500120"/>
                <a:ext cx="8478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7643880" y="1357200"/>
                <a:ext cx="12715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7715160" y="4273560"/>
                <a:ext cx="7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2556000" y="3716280"/>
                <a:ext cx="143820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Классная работа                          </a:t>
            </a:r>
            <a:fld id="{C8FB46F8-7573-4198-BBDC-CFD8B54F0361}" type="datetime">
              <a:rPr b="0" lang="ru-RU" sz="3200" spc="-1" strike="noStrike">
                <a:solidFill>
                  <a:srgbClr val="4d4d4d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Сложение и вычитание </a:t>
            </a:r>
            <a:br>
              <a:rPr sz="4400"/>
            </a:b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смешанных чисел</a:t>
            </a: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85840" y="7855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Из данных чисел составьте такое выражение, чтобы его значением было натуральное числ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28760" y="2286000"/>
                <a:ext cx="143820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214720" y="2357280"/>
                <a:ext cx="1001520" cy="194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46440" y="2492280"/>
                <a:ext cx="13161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5105520" y="2492280"/>
                <a:ext cx="14414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6939000" y="2492280"/>
                <a:ext cx="10634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99880" y="4572000"/>
                <a:ext cx="279576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000240" y="5000760"/>
                <a:ext cx="7192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4648320" y="4572000"/>
                <a:ext cx="26938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7215120" y="4929120"/>
                <a:ext cx="719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3840" y="571320"/>
            <a:ext cx="85410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Из данных чисел составьте такой пример, чтобы  в дробной части была неправильная дроб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285840" y="1500120"/>
                <a:ext cx="143820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286000" y="1500120"/>
                <a:ext cx="10018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3357720" y="1571760"/>
                <a:ext cx="131580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4929120" y="1571760"/>
                <a:ext cx="14414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6786720" y="1500120"/>
                <a:ext cx="106344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42920" y="3714840"/>
                <a:ext cx="26938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5214960" y="3714840"/>
                <a:ext cx="269388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2428920" y="5281560"/>
                <a:ext cx="27954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3"/>
              <p:cNvSpPr txBox="1"/>
              <p:nvPr/>
            </p:nvSpPr>
            <p:spPr>
              <a:xfrm>
                <a:off x="2714760" y="3786120"/>
                <a:ext cx="9190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4"/>
              <p:cNvSpPr txBox="1"/>
              <p:nvPr/>
            </p:nvSpPr>
            <p:spPr>
              <a:xfrm>
                <a:off x="7715160" y="3786120"/>
                <a:ext cx="8701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5"/>
              <p:cNvSpPr txBox="1"/>
              <p:nvPr/>
            </p:nvSpPr>
            <p:spPr>
              <a:xfrm>
                <a:off x="5119560" y="5357880"/>
                <a:ext cx="9176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6"/>
              <p:cNvSpPr txBox="1"/>
              <p:nvPr/>
            </p:nvSpPr>
            <p:spPr>
              <a:xfrm>
                <a:off x="2714760" y="3857760"/>
                <a:ext cx="107136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7643880" y="3857760"/>
                <a:ext cx="107136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8"/>
              <p:cNvSpPr txBox="1"/>
              <p:nvPr/>
            </p:nvSpPr>
            <p:spPr>
              <a:xfrm>
                <a:off x="5375160" y="5762520"/>
                <a:ext cx="6066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58:26Z</dcterms:created>
  <dc:creator>8</dc:creator>
  <dc:description/>
  <dc:language>en-US</dc:language>
  <cp:lastModifiedBy>Анфиса</cp:lastModifiedBy>
  <dcterms:modified xsi:type="dcterms:W3CDTF">2022-11-19T12:19:44Z</dcterms:modified>
  <cp:revision>28</cp:revision>
  <dc:subject/>
  <dc:title>Открытый урок</dc:title>
</cp:coreProperties>
</file>