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3343-5393-4CB5-988B-6AEF4A5D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8C9B-1AA2-4BBE-BE1D-1A5644EE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C63-0A1C-4187-9097-E5849922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DDAA-386E-42FE-83AB-EABA6D5F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92FF-5049-48B1-99E4-CC250475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CFFE-02B4-4275-B0ED-67907DD9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D343-7AB7-46AD-AAB2-4EAB8827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72C3-AEBC-42BF-B7CC-254F49F0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2412-A080-4B21-B166-7051FEDB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FE2F-5769-43C6-B084-2436CA54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8404-E72D-4CD5-9AFE-A1238B3F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4B21-0997-491F-A35D-FA26E813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501B-A7E7-4031-9029-AB417437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5F53-2DD6-4B72-B550-FD202D9E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9D82-2B0E-4280-B775-0BD564AB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C3DC-47AA-4C9F-9963-F012A51B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F1D0-6770-4879-B523-B6AB999E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BAD15-2F23-469A-82C7-D430C954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D0AF8-B59C-47EE-AF79-3746B30B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D897B-E76E-4D46-9ADE-CA454558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F899E-B6E4-4F94-A240-022337DB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B52D0-C661-4661-8FD7-370EC876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C206-B5A5-41DB-AA7D-5994E6D8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0E13C-B3A0-4E8F-B923-B32FA632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7992B-AF68-40A1-B779-DCCA215A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07F78-755C-4251-9547-440FB59D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8165E-9F6F-4D44-B0F8-7C8A6819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9D2B1-43F3-43FC-91C3-B03E81DD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7C581-A3E3-4803-A211-38715D8E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69B2D-36A8-4E77-AE9D-D2F72BFF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4F5F3-9075-48FD-9AFD-176E3207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40687-ACC8-4BF1-9360-5CA02C24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9603C-A1AA-4477-BBD4-63155777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E15B-83EB-4931-9975-7E6C4C20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B7719-382F-4836-A867-DEC4A9B9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0E6EF-775E-408E-8FAD-AA0B276A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6783B-A278-44BC-9DC3-AC91F2AF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7A585-B01E-41F6-B6F0-BD3F291A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E1F99-3855-45E5-9376-1C636F1F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252AE-37A0-49BD-BD9A-44CABB53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89E93-E1CD-481E-BCF5-C7A8A6F6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026AB-6FF1-4678-B73F-07DF5014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9296F-F231-46FB-9FCE-042D630B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C31F7-FBFD-43AF-917F-80770ED4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23B0-087C-469F-907A-7F75FF3E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399AB-720D-4621-9BDF-0BB0F114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DDBC8-34E1-41FA-87D3-3A7E1D7C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BBA7F-D7EB-4053-9ACA-0C7E946E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AF112-232D-449B-946C-E24641F0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3038E-FF50-491E-B2E0-8C28DB64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AAA62-02C6-4E8D-858B-EA6CC02D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E2255-F194-4C19-BB30-5F674F72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EAED5-A4EF-4760-989F-0BE4801B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085C8-483F-4D1F-A8EB-E93295B0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F3A8A-27E2-42DB-B411-BEDC6D8E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6469-14B8-42E4-802B-4CDA78DB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C0647-A2DC-4866-BBF2-43F641D6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0F9DE-5E02-40A3-B03B-59D12FD1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3FA6F-98E0-4F7F-9A88-DCF702CE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FE240-A3CD-4C89-AD6D-53EDB018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1ACD7-1D63-41B3-98CA-674D1B20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55C2C-1D1E-4D9E-8432-4A5C6848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A317B-10D4-443A-BD5A-E9BBF62D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30392-7E05-479F-8D9B-AC6F98FE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9827B-D395-4D79-8F58-E9083BF6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A5D79-0B49-4A02-B16B-189832DC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A8DE-43BE-4E67-A17A-4D6E5239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45638-134A-4B65-9EC2-4342D367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AE2EF-BB36-4290-8ECA-FB2593A5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AD8F1-3F5F-4CA4-A3BC-6C0F67EE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EBD1D-7926-45C3-84E6-3B1B822E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0269E-D593-4A60-BF81-0CAE3F1E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E6365-679D-425E-8CFC-24C7CB8E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24257-71FE-4885-AEF4-A8A3865D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E78C0-295C-4DD2-9799-1F071699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44E4B-2D72-4CA5-8B63-598C339E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2BF67-A4FF-426C-AC90-993349B4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B78-1A3F-48B8-BF39-3A4C8869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F9801-5FC6-42BA-8AE9-7DAF1544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CE306-FC16-4605-90D6-92DCF137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8AD50-4931-4E90-AD38-2D00680F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A6FE4-C82A-4E37-8FBC-2A11F45C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9963E-5A6C-41D8-88F1-7F43FDDD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67AC-851D-4FE7-B5FB-9AC9F099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F5F1-85D0-44A5-9ED4-37C7600F174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440E-B1DE-4554-8967-7830CE43DF3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AB60-CE62-483A-A729-F78783157F0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A643-819F-4BD1-BDB5-04B3DE2C23A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5A7E-179F-4ACF-B650-5A2D1F25CCE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72E9-E32B-4B19-B501-07242EAF73D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52F1-22B9-4E68-AB12-6C9842F46BB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Найди лишнюю величину: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а) км, дм, ч, мм, см;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б) мин, с, сут, век, ч, см;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) кг, т, ц, ч, г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3132000" y="1700280"/>
            <a:ext cx="576360" cy="433440"/>
          </a:xfrm>
          <a:prstGeom prst="rect">
            <a:avLst/>
          </a:prstGeom>
          <a:solidFill>
            <a:srgbClr val="0293e0"/>
          </a:solidFill>
          <a:ln w="15840">
            <a:solidFill>
              <a:srgbClr val="0293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7" name="Прямоугольник 4"/>
          <p:cNvSpPr/>
          <p:nvPr/>
        </p:nvSpPr>
        <p:spPr>
          <a:xfrm>
            <a:off x="5796000" y="2349360"/>
            <a:ext cx="647640" cy="358920"/>
          </a:xfrm>
          <a:prstGeom prst="rect">
            <a:avLst/>
          </a:prstGeom>
          <a:solidFill>
            <a:srgbClr val="0293e0"/>
          </a:solidFill>
          <a:ln w="15840">
            <a:solidFill>
              <a:srgbClr val="0293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8" name="Прямоугольник 5"/>
          <p:cNvSpPr/>
          <p:nvPr/>
        </p:nvSpPr>
        <p:spPr>
          <a:xfrm>
            <a:off x="3106800" y="3043080"/>
            <a:ext cx="576360" cy="432000"/>
          </a:xfrm>
          <a:prstGeom prst="rect">
            <a:avLst/>
          </a:prstGeom>
          <a:solidFill>
            <a:srgbClr val="0293e0"/>
          </a:solidFill>
          <a:ln w="15840">
            <a:solidFill>
              <a:srgbClr val="0293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9" name="TextBox 6"/>
          <p:cNvSpPr/>
          <p:nvPr/>
        </p:nvSpPr>
        <p:spPr>
          <a:xfrm>
            <a:off x="468360" y="357336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Единицы длины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1339920" y="41720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Единицы времени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1" name="TextBox 8"/>
          <p:cNvSpPr/>
          <p:nvPr/>
        </p:nvSpPr>
        <p:spPr>
          <a:xfrm>
            <a:off x="4284720" y="472428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Единицы массы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Сравни величины: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7т 29 кг      729кг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401ц      4т 1ц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3сут       80ч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9ч 9мин      990мин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322520" y="2903040"/>
            <a:ext cx="4633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ndara"/>
              </a:rPr>
              <a:t>&lt;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Подзаголовок 2"/>
          <p:cNvSpPr/>
          <p:nvPr/>
        </p:nvSpPr>
        <p:spPr>
          <a:xfrm>
            <a:off x="4516560" y="1641600"/>
            <a:ext cx="4651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ndara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5" name="Подзаголовок 2"/>
          <p:cNvSpPr/>
          <p:nvPr/>
        </p:nvSpPr>
        <p:spPr>
          <a:xfrm>
            <a:off x="4356000" y="2260440"/>
            <a:ext cx="4636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ndara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6" name="Подзаголовок 2"/>
          <p:cNvSpPr/>
          <p:nvPr/>
        </p:nvSpPr>
        <p:spPr>
          <a:xfrm>
            <a:off x="4356000" y="3497400"/>
            <a:ext cx="463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ndara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046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о дороге в школу мальчик считал свои шаги. Сначала он считал шаги парами и насчитал 55 пар, потом – тройками и насчитал 30 троек. Сколько шагов он насчитал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371600" y="404352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ndara"/>
              </a:rPr>
              <a:t>55 . 2 + 30 . 3 = 200 (ш.)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4920" y="1196640"/>
            <a:ext cx="84978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Самолёт за 5 минут пролетает 75 км. Сколько километров он пролетает за 1 минуту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75 : 5 = 15 (км)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Сокол за 3 с пролетает 69 м. Сколько он пролетит за 1 секунду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3212640"/>
            <a:ext cx="640080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69 : 3 = 23 (м)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02:12:37Z</dcterms:created>
  <dc:creator>Homo Ignavus</dc:creator>
  <dc:description/>
  <dc:language>en-US</dc:language>
  <cp:lastModifiedBy>Homo Ignavus</cp:lastModifiedBy>
  <dcterms:modified xsi:type="dcterms:W3CDTF">2014-02-27T03:02:54Z</dcterms:modified>
  <cp:revision>5</cp:revision>
  <dc:subject/>
  <dc:title>Найди лишнюю величину: а) км, дм, ч, мм, см; б) мин, с, сут, век, ч, см; в) кг, т, ц, ч, г.</dc:title>
</cp:coreProperties>
</file>