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386-28C1-47A8-9251-206D1AE9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31BB-4017-44C9-80B3-72D26ABC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5690-A35E-4162-8507-320814E2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B078-6AA9-4DB0-BF72-33BA3AE8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5822-BBC1-4E2C-95B9-F012C003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2B6C-D23B-46F2-BBAC-1FABD540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AD81-FB16-4D9C-8B56-F7D74794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F69C-1527-446E-88F6-E2CA62AD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2DBB-2FD9-4481-982D-628E0323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09EE-5D55-4B64-8A18-226729EF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9A61-ABBE-41F3-A5BA-30968417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C196-BA3A-4D72-B4BE-102AC3F1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B4DB-AD53-41F8-99F8-C7392B8DB713}" type="datetime">
              <a:rPr b="0" lang="ru-RU" sz="2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4EAE-9EA6-4A65-8EA6-EE8953CB4C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Дата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709F-CB35-429B-BF13-38D24B28F8AE}" type="datetime">
              <a:rPr b="0" lang="ru-RU" sz="2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C5EA-5766-4114-92FC-685B943A7E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Pushkin-portret"/>
          <p:cNvPicPr/>
          <p:nvPr/>
        </p:nvPicPr>
        <p:blipFill>
          <a:blip r:embed="rId1"/>
          <a:stretch/>
        </p:blipFill>
        <p:spPr>
          <a:xfrm>
            <a:off x="2124000" y="260280"/>
            <a:ext cx="4711680" cy="5545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2"/>
          <p:cNvSpPr/>
          <p:nvPr/>
        </p:nvSpPr>
        <p:spPr>
          <a:xfrm>
            <a:off x="2954160" y="5734080"/>
            <a:ext cx="344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А.С. Пушк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Дата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B3E0-99A2-4B88-9321-9EB13108877E}" type="datetime">
              <a:rPr b="0" lang="ru-RU" sz="2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35D8-73B6-405B-959B-912D362E04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1827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7024680" y="443700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http://im0-tub-ru.yandex.net/i?id=398593902-30-72"/>
          <p:cNvPicPr/>
          <p:nvPr/>
        </p:nvPicPr>
        <p:blipFill>
          <a:blip r:embed="rId2"/>
          <a:stretch/>
        </p:blipFill>
        <p:spPr>
          <a:xfrm>
            <a:off x="6762600" y="4145040"/>
            <a:ext cx="10796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CB13-798E-48C7-B225-1059C588B90C}" type="datetime">
              <a:rPr b="0" lang="ru-RU" sz="2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FD30-D119-480D-9B1C-7FF6B6315E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0" t="46855" r="0" b="0"/>
          <a:stretch/>
        </p:blipFill>
        <p:spPr>
          <a:xfrm>
            <a:off x="44280" y="765000"/>
            <a:ext cx="8893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Дата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5B4A-D543-475F-9326-97E9379D6AC2}" type="datetime">
              <a:rPr b="0" lang="ru-RU" sz="2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6796-2646-4679-A29A-8D6BD4B28C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rcRect l="0" t="0" r="0" b="80200"/>
          <a:stretch/>
        </p:blipFill>
        <p:spPr>
          <a:xfrm>
            <a:off x="0" y="0"/>
            <a:ext cx="9144000" cy="789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3823920" y="5445000"/>
            <a:ext cx="221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СКАЗ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rcRect l="0" t="25678" r="0" b="0"/>
          <a:stretch/>
        </p:blipFill>
        <p:spPr>
          <a:xfrm>
            <a:off x="-1440" y="1700280"/>
            <a:ext cx="9144000" cy="2960640"/>
          </a:xfrm>
          <a:prstGeom prst="rect">
            <a:avLst/>
          </a:prstGeom>
          <a:ln w="0">
            <a:noFill/>
          </a:ln>
        </p:spPr>
      </p:pic>
      <p:sp>
        <p:nvSpPr>
          <p:cNvPr id="56" name="Овал 1"/>
          <p:cNvSpPr/>
          <p:nvPr/>
        </p:nvSpPr>
        <p:spPr>
          <a:xfrm>
            <a:off x="468360" y="2349360"/>
            <a:ext cx="790560" cy="554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8"/>
          <p:cNvSpPr/>
          <p:nvPr/>
        </p:nvSpPr>
        <p:spPr>
          <a:xfrm>
            <a:off x="6372360" y="1770120"/>
            <a:ext cx="792000" cy="554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9"/>
          <p:cNvSpPr/>
          <p:nvPr/>
        </p:nvSpPr>
        <p:spPr>
          <a:xfrm>
            <a:off x="6381720" y="2351160"/>
            <a:ext cx="792360" cy="554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541800" y="801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0"/>
          <p:cNvSpPr/>
          <p:nvPr/>
        </p:nvSpPr>
        <p:spPr>
          <a:xfrm>
            <a:off x="468360" y="3429000"/>
            <a:ext cx="790560" cy="5540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1"/>
          <p:cNvSpPr/>
          <p:nvPr/>
        </p:nvSpPr>
        <p:spPr>
          <a:xfrm>
            <a:off x="4932360" y="1700280"/>
            <a:ext cx="792000" cy="5540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12"/>
          <p:cNvSpPr/>
          <p:nvPr/>
        </p:nvSpPr>
        <p:spPr>
          <a:xfrm>
            <a:off x="4932360" y="3429000"/>
            <a:ext cx="792000" cy="5540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3"/>
          <p:cNvSpPr/>
          <p:nvPr/>
        </p:nvSpPr>
        <p:spPr>
          <a:xfrm>
            <a:off x="2054520" y="8017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Дата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FA02-17E2-4C98-946E-57F48AD46B70}" type="datetime">
              <a:rPr b="0" lang="ru-RU" sz="2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83F0-5751-488C-BC6C-3E073C13DB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rcRect l="0" t="88135" r="0" b="0"/>
          <a:stretch/>
        </p:blipFill>
        <p:spPr>
          <a:xfrm>
            <a:off x="324000" y="333360"/>
            <a:ext cx="8599320" cy="719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rcRect l="0" t="4214" r="0" b="54445"/>
          <a:stretch/>
        </p:blipFill>
        <p:spPr>
          <a:xfrm>
            <a:off x="306360" y="1484280"/>
            <a:ext cx="8570880" cy="3071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rcRect l="0" t="4356" r="0" b="55184"/>
          <a:stretch/>
        </p:blipFill>
        <p:spPr>
          <a:xfrm>
            <a:off x="306360" y="1268280"/>
            <a:ext cx="8561520" cy="3673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4"/>
          <a:srcRect l="0" t="50001" r="0" b="0"/>
          <a:stretch/>
        </p:blipFill>
        <p:spPr>
          <a:xfrm>
            <a:off x="198360" y="1238400"/>
            <a:ext cx="885024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Дата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884A-3D01-4391-9146-5445D8E7BFEB}" type="datetime">
              <a:rPr b="0" lang="ru-RU" sz="2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3F29-3B1C-4541-8144-CECBBD92FE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cfadcd733e"/>
          <p:cNvPicPr/>
          <p:nvPr/>
        </p:nvPicPr>
        <p:blipFill>
          <a:blip r:embed="rId1"/>
          <a:stretch/>
        </p:blipFill>
        <p:spPr>
          <a:xfrm>
            <a:off x="250920" y="189000"/>
            <a:ext cx="3960720" cy="3039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4211640" y="692280"/>
            <a:ext cx="4716360" cy="174600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10"/>
          <p:cNvGrpSpPr/>
          <p:nvPr/>
        </p:nvGrpSpPr>
        <p:grpSpPr>
          <a:xfrm>
            <a:off x="0" y="3284640"/>
            <a:ext cx="9144000" cy="2448000"/>
            <a:chOff x="0" y="3284640"/>
            <a:chExt cx="9144000" cy="2448000"/>
          </a:xfrm>
        </p:grpSpPr>
        <p:pic>
          <p:nvPicPr>
            <p:cNvPr id="75" name="Picture 7" descr=""/>
            <p:cNvPicPr/>
            <p:nvPr/>
          </p:nvPicPr>
          <p:blipFill>
            <a:blip r:embed="rId3"/>
            <a:stretch/>
          </p:blipFill>
          <p:spPr>
            <a:xfrm>
              <a:off x="0" y="3284640"/>
              <a:ext cx="9144000" cy="22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ectangle 8"/>
            <p:cNvSpPr/>
            <p:nvPr/>
          </p:nvSpPr>
          <p:spPr>
            <a:xfrm>
              <a:off x="5867280" y="4941720"/>
              <a:ext cx="302580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9"/>
            <p:cNvSpPr/>
            <p:nvPr/>
          </p:nvSpPr>
          <p:spPr>
            <a:xfrm>
              <a:off x="468360" y="5229360"/>
              <a:ext cx="302580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8" name="Объект 1"/>
              <p:cNvSpPr txBox="1"/>
              <p:nvPr/>
            </p:nvSpPr>
            <p:spPr>
              <a:xfrm>
                <a:off x="7020000" y="5445000"/>
                <a:ext cx="8985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9" name="Picture 11" descr="http://im0-tub-ru.yandex.net/i?id=398593902-30-72"/>
          <p:cNvPicPr/>
          <p:nvPr/>
        </p:nvPicPr>
        <p:blipFill>
          <a:blip r:embed="rId4"/>
          <a:stretch/>
        </p:blipFill>
        <p:spPr>
          <a:xfrm>
            <a:off x="6948360" y="5389560"/>
            <a:ext cx="10796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Дата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1E4B-6575-4BFD-B1A8-CF0A1D6F389E}" type="datetime">
              <a:rPr b="0" lang="ru-RU" sz="2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1FE0-B410-4004-A7E6-3874951FD8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986680" cy="1581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1343670861_skazka-o-rybake-i-rybke1"/>
          <p:cNvPicPr/>
          <p:nvPr/>
        </p:nvPicPr>
        <p:blipFill>
          <a:blip r:embed="rId2"/>
          <a:stretch/>
        </p:blipFill>
        <p:spPr>
          <a:xfrm>
            <a:off x="324000" y="2781360"/>
            <a:ext cx="7200720" cy="3672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8391240" y="537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http://im0-tub-ru.yandex.net/i?id=398593902-30-72"/>
          <p:cNvPicPr/>
          <p:nvPr/>
        </p:nvPicPr>
        <p:blipFill>
          <a:blip r:embed="rId3"/>
          <a:stretch/>
        </p:blipFill>
        <p:spPr>
          <a:xfrm>
            <a:off x="7920000" y="5081760"/>
            <a:ext cx="10810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Дата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1432-82A6-4E13-8A86-F98C47487826}" type="datetime">
              <a:rPr b="0" lang="ru-RU" sz="2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377F-8F2B-4F5C-B04E-5460D53016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%D1%81%D0%BA%D0%B0%D0%B7%D0%BA%D0%B0-%D0%BE-%D0%BC%D1%91%D1%80%D1%82%D0%B2%D0%BE%D0%B9-%D1%86%D0%B0%D1%80%D0%B5%D0%B2%D0%BD%D0%B5-%D0%B8-%D1%81%D0%B5%D0%BC%D0%B8-%D0%B1%D0%BE%D0%B3%D0%B0%D1%82%D1%8B%D1%80%D1%8F%D1%85"/>
          <p:cNvPicPr/>
          <p:nvPr/>
        </p:nvPicPr>
        <p:blipFill>
          <a:blip r:embed="rId1"/>
          <a:stretch/>
        </p:blipFill>
        <p:spPr>
          <a:xfrm>
            <a:off x="250920" y="260280"/>
            <a:ext cx="4184640" cy="5689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4700520" y="260280"/>
            <a:ext cx="44434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Дата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0A5D-C42B-4BE4-B8E7-7F618DD80635}" type="datetime">
              <a:rPr b="0" lang="ru-RU" sz="2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EA90-3881-4BE7-8C5D-7F70314550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532720" cy="4983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ANd9GcTr8KnlN3llOj15oEyrCLEHHRb8C-lZlOHdVnw7OwrMIktkZdCe1w"/>
          <p:cNvPicPr/>
          <p:nvPr/>
        </p:nvPicPr>
        <p:blipFill>
          <a:blip r:embed="rId2"/>
          <a:stretch/>
        </p:blipFill>
        <p:spPr>
          <a:xfrm>
            <a:off x="6227640" y="4724280"/>
            <a:ext cx="2772000" cy="1919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" name="Объект 1"/>
              <p:cNvSpPr txBox="1"/>
              <p:nvPr/>
            </p:nvSpPr>
            <p:spPr>
              <a:xfrm>
                <a:off x="1476360" y="1700280"/>
                <a:ext cx="3952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Объект 2"/>
              <p:cNvSpPr txBox="1"/>
              <p:nvPr/>
            </p:nvSpPr>
            <p:spPr>
              <a:xfrm>
                <a:off x="6804000" y="1752480"/>
                <a:ext cx="3952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Объект 5"/>
              <p:cNvSpPr txBox="1"/>
              <p:nvPr/>
            </p:nvSpPr>
            <p:spPr>
              <a:xfrm>
                <a:off x="4140360" y="1770120"/>
                <a:ext cx="3952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TextBox 6"/>
          <p:cNvSpPr/>
          <p:nvPr/>
        </p:nvSpPr>
        <p:spPr>
          <a:xfrm>
            <a:off x="976680" y="5684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http://im0-tub-ru.yandex.net/i?id=398593902-30-72"/>
          <p:cNvPicPr/>
          <p:nvPr/>
        </p:nvPicPr>
        <p:blipFill>
          <a:blip r:embed="rId3"/>
          <a:stretch/>
        </p:blipFill>
        <p:spPr>
          <a:xfrm>
            <a:off x="611280" y="5392800"/>
            <a:ext cx="10810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BA79-0676-45E9-8925-5F361F562074}" type="datetime">
              <a:rPr b="0" lang="ru-RU" sz="2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3D35-3FE7-472B-AE5E-30B145DCB9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140360" y="189000"/>
            <a:ext cx="4716360" cy="177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8424720" cy="1363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18image_small_SKAZKA%20O%20ZOLOTOM%20PETUSHKE"/>
          <p:cNvPicPr/>
          <p:nvPr/>
        </p:nvPicPr>
        <p:blipFill>
          <a:blip r:embed="rId3"/>
          <a:stretch/>
        </p:blipFill>
        <p:spPr>
          <a:xfrm>
            <a:off x="4643280" y="3429000"/>
            <a:ext cx="3745080" cy="31510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475200" y="4046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звали цар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0:29:13Z</dcterms:created>
  <dc:creator>MAMA</dc:creator>
  <dc:description/>
  <dc:language>en-US</dc:language>
  <cp:lastModifiedBy>Windows User</cp:lastModifiedBy>
  <dcterms:modified xsi:type="dcterms:W3CDTF">2020-04-16T06:32:34Z</dcterms:modified>
  <cp:revision>22</cp:revision>
  <dc:subject/>
  <dc:title>Слайд 1</dc:title>
</cp:coreProperties>
</file>