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5F9A-435D-402E-9F91-BBB62D85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FB4F-EC24-420B-8784-5CBFC41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A272-37B9-4A57-AF9F-741EF137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8780-2E1E-4C59-8B1E-53C8EDF9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9C12-0548-4E54-9F76-5D3F205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B4BF-6981-4919-ADA6-F7CAE5A1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89F0-B940-4E9D-B117-EB9215A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FD1A-D554-423F-BD95-49DB54A0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5DB-907D-49A6-818B-B4F4E61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E7B9-A776-4C48-AF49-47CAEE23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898-D333-4803-8357-927D2CB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6EA7-CA05-4F9A-9D51-7BBE7A0E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4162-E1B6-4979-9975-7D22EA1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7206-1279-46CB-8AA0-582E9B6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4ACA-9852-45BA-AD4C-04D0831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B76-C83A-48F5-830E-A192344B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403-7287-49EB-BE27-BDAAB954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C405-2375-4D6F-B109-B8AA705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1789-381C-43D1-AC1D-BC15E83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0E96-96DB-4489-AFCB-702304F0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6EB0-1EBB-47E7-899B-A6C2205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CB2C-DEE9-42D5-BCAC-FD30DF2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87A7-DC99-492F-A4C8-13931AA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4C22-EE4F-47DA-8416-8E3B44D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E068-8D12-4829-AAE7-36658ED883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B48-4FE3-42A6-A76A-D8206F6A1C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Фильм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22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иентирующая функци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ается в получении информации о степени достижения цели обучения отдельным учеником и группе в целом - насколько усвоен и как глубоко изучен учебный материал. Контроль ориентирует учащихся в их затруднениях и достиж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ывающая функци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в воспитании у учащихся ответственного отношения к учению, дисциплины, аккуратности, честности. Проверка побуждает учащихся более серьезно и регулярно контролировать себя при выполнении заданий. Она является условием воспитания твердой воли, настойчивости, привычки к регулярному тру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Organization Chart 4"/>
          <p:cNvGrpSpPr/>
          <p:nvPr/>
        </p:nvGrpSpPr>
        <p:grpSpPr>
          <a:xfrm>
            <a:off x="1825920" y="1413000"/>
            <a:ext cx="5441400" cy="3874680"/>
            <a:chOff x="1825920" y="1413000"/>
            <a:chExt cx="5441400" cy="3874680"/>
          </a:xfrm>
        </p:grpSpPr>
        <p:cxnSp>
          <p:nvCxnSpPr>
            <p:cNvPr id="141" name="_s2052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4345920" y="2803680"/>
              <a:ext cx="1912320" cy="1426680"/>
            </a:xfrm>
            <a:prstGeom prst="bentConnector3">
              <a:avLst>
                <a:gd name="adj1" fmla="val 596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4" name="_s2053"/>
            <p:cNvCxnSpPr/>
            <p:nvPr/>
          </p:nvCxnSpPr>
          <p:spPr>
            <a:xfrm flipV="1" rot="16200000">
              <a:off x="4973760" y="2170440"/>
              <a:ext cx="644760" cy="1425240"/>
            </a:xfrm>
            <a:prstGeom prst="bentConnector3">
              <a:avLst>
                <a:gd name="adj1" fmla="val 1770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5" name="_s2054"/>
            <p:cNvCxnSpPr>
              <a:stCxn id="146" idx="0"/>
              <a:endCxn id="143" idx="2"/>
            </p:cNvCxnSpPr>
            <p:nvPr/>
          </p:nvCxnSpPr>
          <p:spPr>
            <a:xfrm flipH="1" flipV="1" rot="5400000">
              <a:off x="3528000" y="2179080"/>
              <a:ext cx="680040" cy="1443600"/>
            </a:xfrm>
            <a:prstGeom prst="bentConnector3">
              <a:avLst>
                <a:gd name="adj1" fmla="val 1673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7" name="_s2055"/>
            <p:cNvCxnSpPr>
              <a:stCxn id="148" idx="0"/>
              <a:endCxn id="143" idx="2"/>
            </p:cNvCxnSpPr>
            <p:nvPr/>
          </p:nvCxnSpPr>
          <p:spPr>
            <a:xfrm flipH="1" flipV="1" rot="5400000">
              <a:off x="2895120" y="2779200"/>
              <a:ext cx="1912320" cy="1475640"/>
            </a:xfrm>
            <a:prstGeom prst="bentConnector3">
              <a:avLst>
                <a:gd name="adj1" fmla="val 5968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43" name="_s2056"/>
            <p:cNvSpPr/>
            <p:nvPr/>
          </p:nvSpPr>
          <p:spPr>
            <a:xfrm>
              <a:off x="3185280" y="1413000"/>
              <a:ext cx="2807640" cy="114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инципы контро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7"/>
            <p:cNvSpPr/>
            <p:nvPr/>
          </p:nvSpPr>
          <p:spPr>
            <a:xfrm>
              <a:off x="1825920" y="4473360"/>
              <a:ext cx="257616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агляд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8"/>
            <p:cNvSpPr/>
            <p:nvPr/>
          </p:nvSpPr>
          <p:spPr>
            <a:xfrm>
              <a:off x="1825920" y="3241080"/>
              <a:ext cx="264024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бъектив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9"/>
            <p:cNvSpPr/>
            <p:nvPr/>
          </p:nvSpPr>
          <p:spPr>
            <a:xfrm>
              <a:off x="4760640" y="3205800"/>
              <a:ext cx="2506680" cy="84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сесторон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60"/>
            <p:cNvSpPr/>
            <p:nvPr/>
          </p:nvSpPr>
          <p:spPr>
            <a:xfrm>
              <a:off x="4760640" y="4473360"/>
              <a:ext cx="2506680" cy="81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истематич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контр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Diagram 5"/>
          <p:cNvGrpSpPr/>
          <p:nvPr/>
        </p:nvGrpSpPr>
        <p:grpSpPr>
          <a:xfrm>
            <a:off x="1547640" y="1638000"/>
            <a:ext cx="6264360" cy="4680000"/>
            <a:chOff x="1547640" y="1638000"/>
            <a:chExt cx="6264360" cy="4680000"/>
          </a:xfrm>
        </p:grpSpPr>
        <p:sp>
          <p:nvSpPr>
            <p:cNvPr id="152" name="_s3076"/>
            <p:cNvSpPr/>
            <p:nvPr/>
          </p:nvSpPr>
          <p:spPr>
            <a:xfrm flipH="1">
              <a:off x="3600360" y="39783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77"/>
            <p:cNvSpPr/>
            <p:nvPr/>
          </p:nvSpPr>
          <p:spPr>
            <a:xfrm>
              <a:off x="1547640" y="3393000"/>
              <a:ext cx="2052720" cy="1170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тогов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078"/>
            <p:cNvSpPr/>
            <p:nvPr/>
          </p:nvSpPr>
          <p:spPr>
            <a:xfrm>
              <a:off x="4572000" y="4563000"/>
              <a:ext cx="0" cy="5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79"/>
            <p:cNvSpPr/>
            <p:nvPr/>
          </p:nvSpPr>
          <p:spPr>
            <a:xfrm>
              <a:off x="3348000" y="5148000"/>
              <a:ext cx="2448000" cy="1170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ма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080"/>
            <p:cNvSpPr/>
            <p:nvPr/>
          </p:nvSpPr>
          <p:spPr>
            <a:xfrm>
              <a:off x="5057640" y="39783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3081"/>
            <p:cNvSpPr/>
            <p:nvPr/>
          </p:nvSpPr>
          <p:spPr>
            <a:xfrm>
              <a:off x="5543640" y="3393000"/>
              <a:ext cx="2268360" cy="1170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кущ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3082"/>
            <p:cNvSpPr/>
            <p:nvPr/>
          </p:nvSpPr>
          <p:spPr>
            <a:xfrm flipV="1">
              <a:off x="4572000" y="2808000"/>
              <a:ext cx="0" cy="5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3083"/>
            <p:cNvSpPr/>
            <p:nvPr/>
          </p:nvSpPr>
          <p:spPr>
            <a:xfrm>
              <a:off x="3276720" y="1638000"/>
              <a:ext cx="2590560" cy="1170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едварите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3084"/>
            <p:cNvSpPr/>
            <p:nvPr/>
          </p:nvSpPr>
          <p:spPr>
            <a:xfrm>
              <a:off x="3851280" y="3393000"/>
              <a:ext cx="1512720" cy="1170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онтрол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ормы контр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тная проверка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абота с кар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исьменная проверка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Кратковременная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актическая или лаборатор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Тестовые за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539640" y="1484280"/>
          <a:ext cx="8147160" cy="4810320"/>
        </p:xfrm>
        <a:graphic>
          <a:graphicData uri="http://schemas.openxmlformats.org/drawingml/2006/table">
            <a:tbl>
              <a:tblPr/>
              <a:tblGrid>
                <a:gridCol w="2232000"/>
                <a:gridCol w="5915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контро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ный 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карточ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провер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овые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конт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или лабораторн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овые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ПРИМЕНЕНИЯ РАЗЛИЧНЫХ ФОРМ КОНТРОЛЯ В ОПРЕДЕЛЕННЫХ ЕГО ВИ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контроля учебно-познавательной деятельности учащихся выражаются в её оце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– это характеристика ценности, уровня или значения каких либо объектов или процессов (словарь 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в образовании представляет собой установление качества приобретенных знаний,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Organization Chart 4"/>
          <p:cNvGrpSpPr/>
          <p:nvPr/>
        </p:nvGrpSpPr>
        <p:grpSpPr>
          <a:xfrm>
            <a:off x="1691640" y="549360"/>
            <a:ext cx="5457960" cy="1306800"/>
            <a:chOff x="1691640" y="549360"/>
            <a:chExt cx="5457960" cy="1306800"/>
          </a:xfrm>
        </p:grpSpPr>
        <p:cxnSp>
          <p:nvCxnSpPr>
            <p:cNvPr id="167" name="_s4100"/>
            <p:cNvCxnSpPr/>
            <p:nvPr/>
          </p:nvCxnSpPr>
          <p:spPr>
            <a:xfrm flipV="1" rot="16200000">
              <a:off x="5047920" y="680760"/>
              <a:ext cx="302040" cy="1397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68" name="_s4101"/>
            <p:cNvCxnSpPr>
              <a:stCxn id="169" idx="0"/>
              <a:endCxn id="170" idx="2"/>
            </p:cNvCxnSpPr>
            <p:nvPr/>
          </p:nvCxnSpPr>
          <p:spPr>
            <a:xfrm flipH="1" flipV="1" rot="5400000">
              <a:off x="3501360" y="363960"/>
              <a:ext cx="526320" cy="150372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70" name="_s4102"/>
            <p:cNvSpPr/>
            <p:nvPr/>
          </p:nvSpPr>
          <p:spPr>
            <a:xfrm>
              <a:off x="3112200" y="549360"/>
              <a:ext cx="2807640" cy="30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инципы оцен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103"/>
            <p:cNvSpPr/>
            <p:nvPr/>
          </p:nvSpPr>
          <p:spPr>
            <a:xfrm>
              <a:off x="1691640" y="1378800"/>
              <a:ext cx="2641680" cy="47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бъектив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104"/>
            <p:cNvSpPr/>
            <p:nvPr/>
          </p:nvSpPr>
          <p:spPr>
            <a:xfrm>
              <a:off x="4642920" y="1378800"/>
              <a:ext cx="2506680" cy="47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Глас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установленная и выраженная оценка учебной деятельности учащихся служит важным стимулом формирования познавательных интересов, положительных качест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ка в оценке вызывает обычно серьёзные осложнения в обучении, воспитании и развитии учащихся, отрицательно влияя на результативность учебно-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выражения оце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енные (отмет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708360" y="1484280"/>
            <a:ext cx="3888000" cy="1297080"/>
          </a:xfrm>
          <a:prstGeom prst="wedgeEllipseCallout">
            <a:avLst>
              <a:gd name="adj1" fmla="val -65638"/>
              <a:gd name="adj2" fmla="val 62731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одец, хорошо, можешь лучше и т.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5796000" y="3933720"/>
            <a:ext cx="3097080" cy="1150920"/>
          </a:xfrm>
          <a:prstGeom prst="wedgeEllipseCallout">
            <a:avLst>
              <a:gd name="adj1" fmla="val -45027"/>
              <a:gd name="adj2" fmla="val 629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, 2, 3, 4, 5 и т.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Diagram 5"/>
          <p:cNvGrpSpPr/>
          <p:nvPr/>
        </p:nvGrpSpPr>
        <p:grpSpPr>
          <a:xfrm>
            <a:off x="1978920" y="907920"/>
            <a:ext cx="5185800" cy="5039640"/>
            <a:chOff x="1978920" y="907920"/>
            <a:chExt cx="5185800" cy="5039640"/>
          </a:xfrm>
        </p:grpSpPr>
        <p:sp>
          <p:nvSpPr>
            <p:cNvPr id="178" name="_s5124"/>
            <p:cNvSpPr/>
            <p:nvPr/>
          </p:nvSpPr>
          <p:spPr>
            <a:xfrm flipH="1" flipV="1">
              <a:off x="3636720" y="2796480"/>
              <a:ext cx="466920" cy="31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5125"/>
            <p:cNvSpPr/>
            <p:nvPr/>
          </p:nvSpPr>
          <p:spPr>
            <a:xfrm>
              <a:off x="1978920" y="2028240"/>
              <a:ext cx="1728360" cy="12582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РРЕКТ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5126"/>
            <p:cNvSpPr/>
            <p:nvPr/>
          </p:nvSpPr>
          <p:spPr>
            <a:xfrm flipH="1">
              <a:off x="3636720" y="3741840"/>
              <a:ext cx="466920" cy="31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5127"/>
            <p:cNvSpPr/>
            <p:nvPr/>
          </p:nvSpPr>
          <p:spPr>
            <a:xfrm>
              <a:off x="1978920" y="3548160"/>
              <a:ext cx="1655640" cy="12621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ИМУЛ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5128"/>
            <p:cNvSpPr/>
            <p:nvPr/>
          </p:nvSpPr>
          <p:spPr>
            <a:xfrm>
              <a:off x="4571640" y="4056840"/>
              <a:ext cx="0" cy="6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129"/>
            <p:cNvSpPr/>
            <p:nvPr/>
          </p:nvSpPr>
          <p:spPr>
            <a:xfrm>
              <a:off x="3707280" y="4687200"/>
              <a:ext cx="1801080" cy="12603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ОСПИТЫВА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130"/>
            <p:cNvSpPr/>
            <p:nvPr/>
          </p:nvSpPr>
          <p:spPr>
            <a:xfrm>
              <a:off x="5039280" y="3741840"/>
              <a:ext cx="466920" cy="31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131"/>
            <p:cNvSpPr/>
            <p:nvPr/>
          </p:nvSpPr>
          <p:spPr>
            <a:xfrm>
              <a:off x="5436360" y="3630600"/>
              <a:ext cx="1728360" cy="1260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ЗВИВА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132"/>
            <p:cNvSpPr/>
            <p:nvPr/>
          </p:nvSpPr>
          <p:spPr>
            <a:xfrm flipV="1">
              <a:off x="5039280" y="2796480"/>
              <a:ext cx="466920" cy="31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133"/>
            <p:cNvSpPr/>
            <p:nvPr/>
          </p:nvSpPr>
          <p:spPr>
            <a:xfrm>
              <a:off x="5436360" y="2133360"/>
              <a:ext cx="1728360" cy="12603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УЧА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134"/>
            <p:cNvSpPr/>
            <p:nvPr/>
          </p:nvSpPr>
          <p:spPr>
            <a:xfrm flipV="1">
              <a:off x="4571640" y="2168280"/>
              <a:ext cx="0" cy="63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135"/>
            <p:cNvSpPr/>
            <p:nvPr/>
          </p:nvSpPr>
          <p:spPr>
            <a:xfrm>
              <a:off x="3634920" y="907920"/>
              <a:ext cx="1801080" cy="12603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ИАГНОСТ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136"/>
            <p:cNvSpPr/>
            <p:nvPr/>
          </p:nvSpPr>
          <p:spPr>
            <a:xfrm>
              <a:off x="3779640" y="2798280"/>
              <a:ext cx="1583640" cy="12603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ФУН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ЦЕ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едсове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ктивные формы контроля и оценки знаний учащих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5"/>
          <p:cNvSpPr/>
          <p:nvPr/>
        </p:nvSpPr>
        <p:spPr>
          <a:xfrm>
            <a:off x="179280" y="1197000"/>
            <a:ext cx="3672000" cy="2160720"/>
          </a:xfrm>
          <a:prstGeom prst="rightArrowCallout">
            <a:avLst>
              <a:gd name="adj1" fmla="val 25002"/>
              <a:gd name="adj2" fmla="val 25000"/>
              <a:gd name="adj3" fmla="val 28324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23763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ностическ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851280" y="1197000"/>
            <a:ext cx="4824360" cy="22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усвоения учащим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го материала, 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ов усвоения материал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ы по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4859280" y="3429000"/>
            <a:ext cx="3097440" cy="1152360"/>
          </a:xfrm>
          <a:prstGeom prst="downArrowCallout">
            <a:avLst>
              <a:gd name="adj1" fmla="val 67204"/>
              <a:gd name="adj2" fmla="val 68405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4581360"/>
            <a:ext cx="8229600" cy="187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азличных форм контроля: тесты, к.р., самооценка, оценивание другими учащимис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отметку и словесную оценку: отметка измеряет результаты обучения, словесная оценка измеряет старательность, вселяя в ученика уве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250920" y="119700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2303280" cy="100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4859280" y="3357720"/>
            <a:ext cx="3097440" cy="1223640"/>
          </a:xfrm>
          <a:prstGeom prst="downArrowCallout">
            <a:avLst>
              <a:gd name="adj1" fmla="val 63289"/>
              <a:gd name="adj2" fmla="val 64420"/>
              <a:gd name="adj3" fmla="val 16667"/>
              <a:gd name="adj4" fmla="val 6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4581360"/>
            <a:ext cx="8229600" cy="1872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быстрой обратной связи: показать, что сделано правильно, а где есть нето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азличных приёмов проверки З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51280" y="1125360"/>
            <a:ext cx="5041800" cy="2232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при контроле прироста знаний, умений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250920" y="119700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2303280" cy="100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щ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859280" y="3357720"/>
            <a:ext cx="3097440" cy="1223640"/>
          </a:xfrm>
          <a:prstGeom prst="downArrowCallout">
            <a:avLst>
              <a:gd name="adj1" fmla="val 63289"/>
              <a:gd name="adj2" fmla="val 64420"/>
              <a:gd name="adj3" fmla="val 16667"/>
              <a:gd name="adj4" fmla="val 6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4581360"/>
            <a:ext cx="8229600" cy="187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опроса должно быть развитие речи, памяти, мышления: логического, креативного, интуитив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851280" y="1125360"/>
            <a:ext cx="5041800" cy="223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прироста психических операций в определённых психических процес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/>
          <p:cNvSpPr/>
          <p:nvPr/>
        </p:nvSpPr>
        <p:spPr>
          <a:xfrm>
            <a:off x="250920" y="119700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237636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ывающ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59280" y="3357720"/>
            <a:ext cx="3097440" cy="1223640"/>
          </a:xfrm>
          <a:prstGeom prst="downArrowCallout">
            <a:avLst>
              <a:gd name="adj1" fmla="val 63289"/>
              <a:gd name="adj2" fmla="val 64420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4581360"/>
            <a:ext cx="8229600" cy="187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ремя контроля у учащихся должны развиваться сотрудничество, законопослушание, старательность, ответственность, позитивная Я – концеп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851280" y="1125360"/>
            <a:ext cx="5041800" cy="223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, на сколько реализуется процесс принятия, стабилизации, устойчивости изучаемого учебного материала, норм проведения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250920" y="547560"/>
            <a:ext cx="3600360" cy="2160720"/>
          </a:xfrm>
          <a:prstGeom prst="rightArrowCallout">
            <a:avLst>
              <a:gd name="adj1" fmla="val 25002"/>
              <a:gd name="adj2" fmla="val 25000"/>
              <a:gd name="adj3" fmla="val 27771"/>
              <a:gd name="adj4" fmla="val 6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2376360" cy="100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мулирующ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4788000" y="2708280"/>
            <a:ext cx="3097080" cy="1008000"/>
          </a:xfrm>
          <a:prstGeom prst="downArrowCallout">
            <a:avLst>
              <a:gd name="adj1" fmla="val 76820"/>
              <a:gd name="adj2" fmla="val 78192"/>
              <a:gd name="adj3" fmla="val 16667"/>
              <a:gd name="adj4" fmla="val 6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3716280"/>
            <a:ext cx="8229600" cy="2881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роль должен стимулировать желание ребёнка заниматься данным предм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этого необходи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яснение критериев оце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умные треб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нцип открытых перспекти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ление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от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есное одоб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851280" y="476280"/>
            <a:ext cx="5041800" cy="22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, насколько ученики готовятся к уроку, насколько они активны во время опроса, насколько формируется мотивация для занятий данным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179280" y="1197000"/>
            <a:ext cx="3672000" cy="2160720"/>
          </a:xfrm>
          <a:prstGeom prst="rightArrowCallout">
            <a:avLst>
              <a:gd name="adj1" fmla="val 25002"/>
              <a:gd name="adj2" fmla="val 25000"/>
              <a:gd name="adj3" fmla="val 28324"/>
              <a:gd name="adj4" fmla="val 6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2448000" cy="1008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тирующ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859280" y="3357720"/>
            <a:ext cx="3097440" cy="1223640"/>
          </a:xfrm>
          <a:prstGeom prst="downArrowCallout">
            <a:avLst>
              <a:gd name="adj1" fmla="val 63289"/>
              <a:gd name="adj2" fmla="val 64420"/>
              <a:gd name="adj3" fmla="val 16667"/>
              <a:gd name="adj4" fmla="val 6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4581000"/>
            <a:ext cx="8229600" cy="2016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ос должен стимулировать учащихся к изменению своего стиля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ая информация об успеваемост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результатов опроса педагог корректирует сво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851280" y="1125360"/>
            <a:ext cx="5041800" cy="2232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оценивания должен исправлять, поправлять поведение ученика и преподавателя, если их поведение не соответствует требованиям учеб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 входного контро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средний бал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ализ входного контро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качество образова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аемые преподаватели и масте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явления стиля, применяемого при оценивании знаний учащихся, просим вас ответить на предложенную анк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тите ряд суждений. После каждой фразы даны 3 суждения о правомерности заключенной в ней мысли. Пожалуйста, подчеркните те суждения, с которыми вы согласны. Постарайтесь выполнить эту работу за 5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24000" y="667080"/>
            <a:ext cx="81374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Отметка выражает мнение преподавателя (мастера) о знаниях уче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только мнение преподавателя (мастер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может отражать и мнение груп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Если ученик долго не успевает по какому-нибудь предмету, преподаватель (мастер) уже, к сожалению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 состоянии ему помо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обязатель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Учащемуся нужно объяснить, продвинулся ли он в своих знаниях по сравнению с его предыдущими результа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обязатель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Похвала по ходу выполнения задания приносит больше пользы, чем отметки за всю сделанную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Достигается нужный воспитательный эффект, если сравнивать учеников, имеющих разную успеваем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 и функции контроля и оценки знаний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использования различных видов контроля на уроках теории и производстве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входного контроля первого года обучения по общеобразовательным предм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текущего контроля за деятельностью преподавателей и маст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Во время опроса преподаватель (мастер) ориентируется на мнение ученика, следит за ходом его рассуждений и старается развить его мыс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этом нет необход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Отметка должна быть «заработана» учеником, она не может даваться аван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 Невыученный урок должен соответственно оцениваться, ученик не имеет права отказываться от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это справедли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это не вер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спорный вопр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 Можно использовать умение учащихся оценивать свою работу и работу товари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р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ре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на это никогда не остается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 Оцениваться должен результат выполненного учеником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это достижение результата – объективный критерий оце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важно учесть и нестандартные способы реш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24000" y="461520"/>
            <a:ext cx="8351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 Во время урока положительные и отрицательные оценки действий ученика должны уравновешивать друг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не следует увлекаться чем-то одним – похвалами или замеча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положительных оценок должно быть боль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полезнее преобладание отрицательных оц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. Когда ученик отвечает не очень уверенно, ему следует вовремя помо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обязатель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ть во время опроса не 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. Активность учащихся на уроке – еще не показатель продуктивност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это взаимосвязанные мо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поэтому видимую активность не стоит высоко оценив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активность и продуктивность работы не всегда совпад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. Оценивая работу ученика, нужно учитывать не только имеющийся результат, но и старания, труд, вложенный в эту раб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нужно делать только в шк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ой учет необходим вез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, нужно ли это делать вооб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. В условиях современного образования щадящие отметки исключ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это проявление процентома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это гуманно по отношению к дет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но с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24000" y="562680"/>
            <a:ext cx="8569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. Если из-за отметки возник конфликт, авторитет преподавателя (мастера) предполагает сохранение выставленной отметки, хотя настаивать на ней нужно выдержанно и аргументирова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7. Полезно противопоставлять учебные результаты учащихся, имеющих одинаковые способности и разное отношение к уч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. Если на уроке обсуждается спорный вопрос, спокойное и четкое объяснение преподавателя (мастера) предпочтительнее, чем шумная дискуссия в груп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сег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. Выставляя отметку, следует объяснить ученику, за что она поставл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всег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, иног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это ученик должен понимать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. Преподаватель (мастер) находит время, чтобы поговорить с каждым учеником о его успеваемости, успехах и недоработ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ре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г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ктически это недостиж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блица перевода ответов в бал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2852640"/>
          <a:ext cx="8424720" cy="1368360"/>
        </p:xfrm>
        <a:graphic>
          <a:graphicData uri="http://schemas.openxmlformats.org/drawingml/2006/table">
            <a:tbl>
              <a:tblPr/>
              <a:tblGrid>
                <a:gridCol w="401760"/>
                <a:gridCol w="399960"/>
                <a:gridCol w="401760"/>
                <a:gridCol w="401400"/>
                <a:gridCol w="401760"/>
                <a:gridCol w="399960"/>
                <a:gridCol w="401760"/>
                <a:gridCol w="401400"/>
                <a:gridCol w="400320"/>
                <a:gridCol w="401400"/>
                <a:gridCol w="401760"/>
                <a:gridCol w="401760"/>
                <a:gridCol w="399960"/>
                <a:gridCol w="401760"/>
                <a:gridCol w="401400"/>
                <a:gridCol w="400320"/>
                <a:gridCol w="401400"/>
                <a:gridCol w="401760"/>
                <a:gridCol w="401760"/>
                <a:gridCol w="399960"/>
                <a:gridCol w="4014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а баллов является количественным показателем оценочных ситуаций и стиля общения преподавателя (мастера) и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мма мене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балл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общения оценивается ка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итар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чителя этого типа создают оценочные ситуации, имеющие отрицательный эмоциональный фон, и редко используют содержательную оценку. Этот стиль нуждается в корр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мм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8 – 3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балл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общения квалифицируется ка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кратиче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риентация преподавателя (мастера) на результативность обучения сочетается с ориентацией на личное развитие учащихся. Есть основания считать такой стиль общения с учащимися оптимальным в условиях современного образования, что, безусловно, не гарантирует от ошибок преподавателя (мастера) в отдельных оценоч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умм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4 – 4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балл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общения счит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ераль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 преподавателя (мастера) преобладает стремление к созданию благоприятной психологической атмосферы в классе. Однако следует иметь в виду, что стиль дает прекрасные результаты только при высоком уровне профессионального мастерства педагога. Если же этот уровень не является максимально высоким, существует реальная опасность потери возможностей управления ходом урока в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- проверка, а также постоянное наблюдение в целях проверки или надзора (толковый словарь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в системе образования представляет собой систему проверки знаний и умений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Organization Chart 5"/>
          <p:cNvGrpSpPr/>
          <p:nvPr/>
        </p:nvGrpSpPr>
        <p:grpSpPr>
          <a:xfrm>
            <a:off x="1508760" y="620640"/>
            <a:ext cx="6045840" cy="5470920"/>
            <a:chOff x="1508760" y="620640"/>
            <a:chExt cx="6045840" cy="5470920"/>
          </a:xfrm>
        </p:grpSpPr>
        <p:cxnSp>
          <p:nvCxnSpPr>
            <p:cNvPr id="115" name="_s102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4379040" y="2081520"/>
              <a:ext cx="1983960" cy="1582560"/>
            </a:xfrm>
            <a:prstGeom prst="bentConnector3">
              <a:avLst>
                <a:gd name="adj1" fmla="val 5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9"/>
            <p:cNvCxnSpPr>
              <a:stCxn id="119" idx="0"/>
              <a:endCxn id="117" idx="2"/>
            </p:cNvCxnSpPr>
            <p:nvPr/>
          </p:nvCxnSpPr>
          <p:spPr>
            <a:xfrm flipV="1" rot="16200000">
              <a:off x="3740760" y="2720160"/>
              <a:ext cx="3260880" cy="1582560"/>
            </a:xfrm>
            <a:prstGeom prst="bentConnector3">
              <a:avLst>
                <a:gd name="adj1" fmla="val 3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0"/>
            <p:cNvCxnSpPr>
              <a:stCxn id="121" idx="0"/>
              <a:endCxn id="117" idx="2"/>
            </p:cNvCxnSpPr>
            <p:nvPr/>
          </p:nvCxnSpPr>
          <p:spPr>
            <a:xfrm flipV="1" rot="16200000">
              <a:off x="5059080" y="1401840"/>
              <a:ext cx="624240" cy="1582560"/>
            </a:xfrm>
            <a:prstGeom prst="bentConnector3">
              <a:avLst>
                <a:gd name="adj1" fmla="val 183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31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3447000" y="1410480"/>
              <a:ext cx="662400" cy="160380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32"/>
            <p:cNvCxnSpPr>
              <a:stCxn id="125" idx="0"/>
              <a:endCxn id="117" idx="2"/>
            </p:cNvCxnSpPr>
            <p:nvPr/>
          </p:nvCxnSpPr>
          <p:spPr>
            <a:xfrm flipH="1" flipV="1" rot="5400000">
              <a:off x="2129400" y="2691360"/>
              <a:ext cx="3260880" cy="1640880"/>
            </a:xfrm>
            <a:prstGeom prst="bentConnector3">
              <a:avLst>
                <a:gd name="adj1" fmla="val 3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3"/>
            <p:cNvCxnSpPr>
              <a:stCxn id="127" idx="0"/>
              <a:endCxn id="117" idx="2"/>
            </p:cNvCxnSpPr>
            <p:nvPr/>
          </p:nvCxnSpPr>
          <p:spPr>
            <a:xfrm flipH="1" flipV="1" rot="5400000">
              <a:off x="2768040" y="2052720"/>
              <a:ext cx="1983960" cy="1640880"/>
            </a:xfrm>
            <a:prstGeom prst="bentConnector3">
              <a:avLst>
                <a:gd name="adj1" fmla="val 5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34"/>
            <p:cNvSpPr/>
            <p:nvPr/>
          </p:nvSpPr>
          <p:spPr>
            <a:xfrm>
              <a:off x="3020400" y="620640"/>
              <a:ext cx="3117960" cy="1223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ункции контро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5"/>
            <p:cNvSpPr/>
            <p:nvPr/>
          </p:nvSpPr>
          <p:spPr>
            <a:xfrm>
              <a:off x="1508760" y="3903120"/>
              <a:ext cx="2862360" cy="873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ст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6"/>
            <p:cNvSpPr/>
            <p:nvPr/>
          </p:nvSpPr>
          <p:spPr>
            <a:xfrm>
              <a:off x="1508760" y="5180040"/>
              <a:ext cx="2862360" cy="911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иентирующ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7"/>
            <p:cNvSpPr/>
            <p:nvPr/>
          </p:nvSpPr>
          <p:spPr>
            <a:xfrm>
              <a:off x="1508760" y="2581560"/>
              <a:ext cx="2933640" cy="873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учающ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8"/>
            <p:cNvSpPr/>
            <p:nvPr/>
          </p:nvSpPr>
          <p:spPr>
            <a:xfrm>
              <a:off x="4769280" y="2543400"/>
              <a:ext cx="2785320" cy="911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агност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9"/>
            <p:cNvSpPr/>
            <p:nvPr/>
          </p:nvSpPr>
          <p:spPr>
            <a:xfrm>
              <a:off x="4769280" y="5180040"/>
              <a:ext cx="2785320" cy="911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спитывающ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0"/>
            <p:cNvSpPr/>
            <p:nvPr/>
          </p:nvSpPr>
          <p:spPr>
            <a:xfrm>
              <a:off x="4769280" y="3903120"/>
              <a:ext cx="2785320" cy="873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звивающ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учающая функция контр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ается в совершенствовании знаний и умений, их систематизации. В процессе проверки учащиеся повторяют и закрепляют изученный материал. Они не только воспроизводят ранее изученное, но и применяют знания и умения в нов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агностическая функци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ается в получении информации об ошибках, недочетах и пробелах в знаниях и умениях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выявить причину и выбрать наиболее интенсивную методику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ностическая функци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жит получению опережающей информации об учебно-воспитательном процессе. В результате проверки получают основания для прогноза о ходе определенного отрезка учебного процесса: достаточно ли сформированы конкретные знания, умения и навыки для усвоения последующей порции учебного материала (раздела, тем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ющая функци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в стимулировании познавательной активности учащихся, в развитии их творческих способностей. Контроль обладает исключительными возможностями в развитии учащихся. В процессе контроля развиваются речь, память, внимание, воображение, воля и мышление учащихся, формируются мотивы познавательной деятельности. Контроль оказывает большое влияние на развитие и проявление таких качеств личности, как способности, склонности, интересы, потреб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6:30:46Z</dcterms:created>
  <dc:creator>Фамилия И.О.</dc:creator>
  <dc:description/>
  <dc:language>en-US</dc:language>
  <cp:lastModifiedBy>Дом</cp:lastModifiedBy>
  <dcterms:modified xsi:type="dcterms:W3CDTF">2012-10-14T18:42:15Z</dcterms:modified>
  <cp:revision>15</cp:revision>
  <dc:subject/>
  <dc:title>Педсовет</dc:title>
</cp:coreProperties>
</file>