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47.gif" ContentType="image/gif"/>
  <Override PartName="/ppt/media/image32.jpeg" ContentType="image/jpeg"/>
  <Override PartName="/ppt/media/image5.jpeg" ContentType="image/jpeg"/>
  <Override PartName="/ppt/media/image31.jpeg" ContentType="image/jpeg"/>
  <Override PartName="/ppt/media/image41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6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B2D-5A91-449E-84C2-BFC2E891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4C7-C11A-40D4-BC71-9C823B5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58E-8250-4906-9CCE-A8747A7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AB0-243C-499F-9A74-707F84A1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61D9-105A-4F53-811E-9AE8C3C4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EC05-EE23-4B21-92BB-E7ABD24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2AC-C199-4A81-A7A9-EEB4D67C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B8A1-BADC-4308-8CC2-4F54241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5C0-2B1F-4DD0-891D-7CBED670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C37-7A53-499C-876E-B9EC740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9EA-7A6B-4DF5-A810-988397E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EF2-289B-47F2-900C-C2DC2B1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1BE7-CDB7-4264-83E6-F930706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ACE-C48F-4EDC-A2D5-EA64320A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B68-3FAC-4C1C-A94F-6C15A3C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1BB-926E-4EA2-87C5-015E73B4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A564-5EE2-43DC-8B1C-7A7D1072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C795-DF13-42CF-BBBF-E527727F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38C3-BA4D-4DA6-B2FF-4EF5C68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16A5-88FD-4D3E-8D40-3EF4A40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6422-1B24-4E8F-B72C-B0391B5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E8AA-4BD9-477E-B1E0-315352B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0DF-8B09-4947-BB44-7040915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99A0-0F05-463C-849B-5FB1E304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ABDD-E526-4504-9C5A-6D6D2E2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7535-6E1A-403F-BEF6-1E673A7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377F-404D-4E6E-8D06-CDF31FF9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2A3B-1F2D-4942-A511-833F5BA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58E6-6174-4EFD-A5D3-304F63E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F73B4-BEF7-4B94-9F8D-B6BD32EE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7A8D-79B3-4153-8E5A-1CD872E0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D592-D91E-408D-8439-B9C0BD92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B6CE-21D8-4624-A12D-BF47F90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CFF-38AE-444C-A632-89741C14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DEB2-4425-4C3C-AC3B-E5C7F15E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54D6-D9DC-4CC6-A67F-39FED868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AFB8-0A2C-4775-ADC7-5C11C322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9ACD-CB9D-4038-B799-02B4C4C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DF67-BF0F-4D65-A0E3-71D3764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3ED0-FA4D-4D95-ADC5-AFC3E86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BEFF-512C-4FF6-84B1-5CA0B0F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168A-E30E-4F6D-87B2-E60D6E8E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F563-FB73-4D06-8B60-C69B0F9C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0CC-3B0F-4711-A2BF-10A8877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EEE-0D73-40AB-90E6-C8ACEC9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94A-3BB3-44BB-A13C-1DBBCC0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815-808D-49CE-B80C-9C28ED38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06F-7599-4DD0-88FC-0A5B8E58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AEC-13C8-4471-A088-68B0DAF225F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858B-9249-4479-8A3F-D7E54976DE74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FCB-A9B0-4A21-923C-198E6CE3322F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6604-0CD0-4ECF-98FD-34B871D03FE5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7.png"/><Relationship Id="rId6" Type="http://schemas.openxmlformats.org/officeDocument/2006/relationships/image" Target="../media/image43.jpeg"/><Relationship Id="rId7" Type="http://schemas.openxmlformats.org/officeDocument/2006/relationships/image" Target="../media/image7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7.gif"/><Relationship Id="rId16" Type="http://schemas.openxmlformats.org/officeDocument/2006/relationships/image" Target="../media/image47.gif"/><Relationship Id="rId17" Type="http://schemas.openxmlformats.org/officeDocument/2006/relationships/image" Target="../media/image47.gif"/><Relationship Id="rId18" Type="http://schemas.openxmlformats.org/officeDocument/2006/relationships/image" Target="../media/image47.gif"/><Relationship Id="rId19" Type="http://schemas.openxmlformats.org/officeDocument/2006/relationships/image" Target="../media/image47.gif"/><Relationship Id="rId20" Type="http://schemas.openxmlformats.org/officeDocument/2006/relationships/image" Target="../media/image47.gif"/><Relationship Id="rId21" Type="http://schemas.openxmlformats.org/officeDocument/2006/relationships/image" Target="../media/image47.gif"/><Relationship Id="rId22" Type="http://schemas.openxmlformats.org/officeDocument/2006/relationships/image" Target="../media/image47.gif"/><Relationship Id="rId23" Type="http://schemas.openxmlformats.org/officeDocument/2006/relationships/image" Target="../media/image47.gif"/><Relationship Id="rId24" Type="http://schemas.openxmlformats.org/officeDocument/2006/relationships/image" Target="../media/image47.gif"/><Relationship Id="rId25" Type="http://schemas.openxmlformats.org/officeDocument/2006/relationships/image" Target="../media/image48.png"/><Relationship Id="rId26" Type="http://schemas.openxmlformats.org/officeDocument/2006/relationships/image" Target="../media/image49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rebuchet MS"/>
              </a:rPr>
              <a:t>Птицы </a:t>
            </a:r>
            <a:br>
              <a:rPr sz="8800"/>
            </a:br>
            <a:r>
              <a:rPr b="0" lang="ru-RU" sz="8800" spc="-1" strike="noStrike">
                <a:solidFill>
                  <a:srgbClr val="002060"/>
                </a:solidFill>
                <a:latin typeface="Trebuchet MS"/>
              </a:rPr>
              <a:t>Сибири</a:t>
            </a:r>
            <a:endParaRPr b="0" lang="en-US" sz="8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4572000" y="443700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ыполнил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оспитатель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Нестерова Ксения Борисов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2050920" y="476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виристел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250920" y="1197000"/>
            <a:ext cx="446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vi-VN" sz="2800" spc="-1" strike="noStrike">
                <a:solidFill>
                  <a:srgbClr val="002060"/>
                </a:solidFill>
                <a:latin typeface="Times New Roman"/>
              </a:rPr>
              <a:t>виристе́ль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 или </a:t>
            </a:r>
            <a:r>
              <a:rPr b="1" lang="vi-VN" sz="2800" spc="-1" strike="noStrike">
                <a:solidFill>
                  <a:srgbClr val="002060"/>
                </a:solidFill>
                <a:latin typeface="Times New Roman"/>
              </a:rPr>
              <a:t>обыкнове́нный свиристе́ль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певчая птица отря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оробьиных</a:t>
            </a:r>
            <a:r>
              <a:rPr b="0" lang="vi-VN" sz="2800" spc="-1" strike="noStrike">
                <a:solidFill>
                  <a:srgbClr val="00206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В зимнее время часто встречаются в городах средней полосы Росси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де питаются преимущественно  рябино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Bombycilla garrulus 1 (Martin Mecnarowski).jpg"/>
          <p:cNvPicPr/>
          <p:nvPr/>
        </p:nvPicPr>
        <p:blipFill>
          <a:blip r:embed="rId1"/>
          <a:stretch/>
        </p:blipFill>
        <p:spPr>
          <a:xfrm>
            <a:off x="4716360" y="1197000"/>
            <a:ext cx="4032360" cy="2697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img-e.photosight.ru/e8f/3784296_large.jpg"/>
          <p:cNvPicPr/>
          <p:nvPr/>
        </p:nvPicPr>
        <p:blipFill>
          <a:blip r:embed="rId2"/>
          <a:stretch/>
        </p:blipFill>
        <p:spPr>
          <a:xfrm>
            <a:off x="4859280" y="4091040"/>
            <a:ext cx="39607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Картинка 2 из 1000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Сорока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14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Сорока 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или европейская сорока, или обыкновенная сорока,</a:t>
            </a:r>
            <a:r>
              <a:rPr b="0" i="1" lang="ru-RU" sz="3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 — птица семейства врановых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         </a:t>
            </a: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из рода сорок</a:t>
            </a:r>
            <a:r>
              <a:rPr b="0" lang="ru-RU" sz="2800" spc="-1" strike="noStrike">
                <a:solidFill>
                  <a:srgbClr val="00206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9" descr="Картинки по запросу сорока"/>
          <p:cNvPicPr/>
          <p:nvPr/>
        </p:nvPicPr>
        <p:blipFill>
          <a:blip r:embed="rId1"/>
          <a:stretch/>
        </p:blipFill>
        <p:spPr>
          <a:xfrm>
            <a:off x="5003640" y="98100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Картинки по запросу сорока"/>
          <p:cNvPicPr/>
          <p:nvPr/>
        </p:nvPicPr>
        <p:blipFill>
          <a:blip r:embed="rId2"/>
          <a:stretch/>
        </p:blipFill>
        <p:spPr>
          <a:xfrm>
            <a:off x="5076720" y="3645000"/>
            <a:ext cx="3888000" cy="229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1187160696_f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45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:\Users\ДОМ\Desktop\dac6e5d48c76.jpg"/>
          <p:cNvPicPr/>
          <p:nvPr/>
        </p:nvPicPr>
        <p:blipFill>
          <a:blip r:embed="rId1"/>
          <a:stretch/>
        </p:blipFill>
        <p:spPr>
          <a:xfrm>
            <a:off x="395280" y="260280"/>
            <a:ext cx="8578800" cy="640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C:\Users\ДОМ\Desktop\Elster_wikipedia2.jpg"/>
          <p:cNvPicPr/>
          <p:nvPr/>
        </p:nvPicPr>
        <p:blipFill>
          <a:blip r:embed="rId1"/>
          <a:stretch/>
        </p:blipFill>
        <p:spPr>
          <a:xfrm>
            <a:off x="324000" y="351000"/>
            <a:ext cx="8569080" cy="624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Чёрная ворон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39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rebuchet MS"/>
              </a:rPr>
              <a:t>Ворона — общее название для нескольких видов птиц из рода Ворон.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rebuchet MS"/>
              </a:rPr>
              <a:t>Чёрная ворона — птица из рода ворон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9" descr="Картинки по запросу ворона зимой"/>
          <p:cNvPicPr/>
          <p:nvPr/>
        </p:nvPicPr>
        <p:blipFill>
          <a:blip r:embed="rId1"/>
          <a:stretch/>
        </p:blipFill>
        <p:spPr>
          <a:xfrm>
            <a:off x="4788000" y="1413000"/>
            <a:ext cx="40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Картинки по запросу ворона зимой"/>
          <p:cNvPicPr/>
          <p:nvPr/>
        </p:nvPicPr>
        <p:blipFill>
          <a:blip r:embed="rId2"/>
          <a:stretch/>
        </p:blipFill>
        <p:spPr>
          <a:xfrm>
            <a:off x="4788000" y="4149720"/>
            <a:ext cx="4032000" cy="235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60716_195236_DSC_0879web"/>
          <p:cNvPicPr/>
          <p:nvPr/>
        </p:nvPicPr>
        <p:blipFill>
          <a:blip r:embed="rId1"/>
          <a:stretch/>
        </p:blipFill>
        <p:spPr>
          <a:xfrm>
            <a:off x="250920" y="26028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79200" y="285840"/>
            <a:ext cx="5343840" cy="3790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467240" y="2863800"/>
            <a:ext cx="4676760" cy="399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Щегол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788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Щеглы — род птиц из семейства вьюрковых. Обитает на открытых участках и опушках. Как правило щегол не перелетная птиц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1"/>
          <p:cNvSpPr/>
          <p:nvPr/>
        </p:nvSpPr>
        <p:spPr>
          <a:xfrm flipH="1" flipV="1">
            <a:off x="0" y="-109440"/>
            <a:ext cx="155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Картинки по запросу щегол"/>
          <p:cNvPicPr/>
          <p:nvPr/>
        </p:nvPicPr>
        <p:blipFill>
          <a:blip r:embed="rId1"/>
          <a:stretch/>
        </p:blipFill>
        <p:spPr>
          <a:xfrm>
            <a:off x="5148360" y="1413000"/>
            <a:ext cx="3816360" cy="223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Картинки по запросу щегол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48360" y="4076640"/>
            <a:ext cx="374328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оробей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3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Воробей   — семейство небольших оседлых, реже кочевых, птиц из отряда воробьинообразных. 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Представители семейства имеют короткие ног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1" descr="Картинки по запросу воробей"/>
          <p:cNvPicPr/>
          <p:nvPr/>
        </p:nvPicPr>
        <p:blipFill>
          <a:blip r:embed="rId1"/>
          <a:stretch/>
        </p:blipFill>
        <p:spPr>
          <a:xfrm>
            <a:off x="5076720" y="1125360"/>
            <a:ext cx="3851280" cy="230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Картинки по запросу воробей"/>
          <p:cNvPicPr/>
          <p:nvPr/>
        </p:nvPicPr>
        <p:blipFill>
          <a:blip r:embed="rId2"/>
          <a:stretch/>
        </p:blipFill>
        <p:spPr>
          <a:xfrm>
            <a:off x="5076720" y="3933720"/>
            <a:ext cx="3888000" cy="22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302"/>
          <p:cNvPicPr/>
          <p:nvPr/>
        </p:nvPicPr>
        <p:blipFill>
          <a:blip r:embed="rId3"/>
          <a:stretch/>
        </p:blipFill>
        <p:spPr>
          <a:xfrm>
            <a:off x="-2286000" y="5572080"/>
            <a:ext cx="1957320" cy="151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32674 -0.79815 E">
                                      <p:cBhvr>
                                        <p:cTn id="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Loxia curvirostra curvirostra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4334040" cy="6143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62360" cy="3137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4284720" y="3456000"/>
            <a:ext cx="4479840" cy="340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одержимое 6" descr="0_8ae4_7e101cd0_-1-L.jpeg"/>
          <p:cNvPicPr/>
          <p:nvPr/>
        </p:nvPicPr>
        <p:blipFill>
          <a:blip r:embed="rId1"/>
          <a:stretch/>
        </p:blipFill>
        <p:spPr>
          <a:xfrm>
            <a:off x="395280" y="549360"/>
            <a:ext cx="8358120" cy="6000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1763640" y="544500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Голуб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Картинка 29 из 578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995640" y="33336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ползен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Картинка 70 из 484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4138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301"/>
          <p:cNvPicPr/>
          <p:nvPr/>
        </p:nvPicPr>
        <p:blipFill>
          <a:blip r:embed="rId2"/>
          <a:stretch/>
        </p:blipFill>
        <p:spPr>
          <a:xfrm>
            <a:off x="900000" y="333360"/>
            <a:ext cx="1657440" cy="1293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302"/>
          <p:cNvPicPr/>
          <p:nvPr/>
        </p:nvPicPr>
        <p:blipFill>
          <a:blip r:embed="rId3"/>
          <a:stretch/>
        </p:blipFill>
        <p:spPr>
          <a:xfrm rot="385200">
            <a:off x="468000" y="501300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302"/>
          <p:cNvPicPr/>
          <p:nvPr/>
        </p:nvPicPr>
        <p:blipFill>
          <a:blip r:embed="rId4"/>
          <a:stretch/>
        </p:blipFill>
        <p:spPr>
          <a:xfrm rot="385200">
            <a:off x="2193480" y="5455800"/>
            <a:ext cx="1656000" cy="118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301"/>
          <p:cNvPicPr/>
          <p:nvPr/>
        </p:nvPicPr>
        <p:blipFill>
          <a:blip r:embed="rId5"/>
          <a:stretch/>
        </p:blipFill>
        <p:spPr>
          <a:xfrm>
            <a:off x="2050920" y="414972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6"/>
          <a:stretch/>
        </p:blipFill>
        <p:spPr>
          <a:xfrm>
            <a:off x="4286160" y="1714680"/>
            <a:ext cx="44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301"/>
          <p:cNvPicPr/>
          <p:nvPr/>
        </p:nvPicPr>
        <p:blipFill>
          <a:blip r:embed="rId7"/>
          <a:stretch/>
        </p:blipFill>
        <p:spPr>
          <a:xfrm rot="21433200">
            <a:off x="7164000" y="530028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301"/>
          <p:cNvPicPr/>
          <p:nvPr/>
        </p:nvPicPr>
        <p:blipFill>
          <a:blip r:embed="rId8"/>
          <a:stretch/>
        </p:blipFill>
        <p:spPr>
          <a:xfrm>
            <a:off x="5796000" y="5676840"/>
            <a:ext cx="1440000" cy="11811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20" descr=""/>
          <p:cNvPicPr/>
          <p:nvPr/>
        </p:nvPicPr>
        <p:blipFill>
          <a:blip r:embed="rId9"/>
          <a:stretch/>
        </p:blipFill>
        <p:spPr>
          <a:xfrm>
            <a:off x="3121200" y="-79200"/>
            <a:ext cx="6022800" cy="1779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D:\Лена\Мои рисунки\Смайлики на разные случаи\Погода\94eaad9d7cce53c9d73652c8f7f832e8.gif"/>
          <p:cNvPicPr/>
          <p:nvPr/>
        </p:nvPicPr>
        <p:blipFill>
          <a:blip r:embed="rId10"/>
          <a:stretch/>
        </p:blipFill>
        <p:spPr>
          <a:xfrm>
            <a:off x="792972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D:\Лена\Мои рисунки\Смайлики на разные случаи\Погода\94eaad9d7cce53c9d73652c8f7f832e8.gif"/>
          <p:cNvPicPr/>
          <p:nvPr/>
        </p:nvPicPr>
        <p:blipFill>
          <a:blip r:embed="rId11"/>
          <a:stretch/>
        </p:blipFill>
        <p:spPr>
          <a:xfrm>
            <a:off x="700092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5" descr="D:\Лена\Мои рисунки\Смайлики на разные случаи\Погода\94eaad9d7cce53c9d73652c8f7f832e8.gif"/>
          <p:cNvPicPr/>
          <p:nvPr/>
        </p:nvPicPr>
        <p:blipFill>
          <a:blip r:embed="rId12"/>
          <a:stretch/>
        </p:blipFill>
        <p:spPr>
          <a:xfrm>
            <a:off x="2143080" y="3857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6" descr="D:\Лена\Мои рисунки\Смайлики на разные случаи\Погода\94eaad9d7cce53c9d73652c8f7f832e8.gif"/>
          <p:cNvPicPr/>
          <p:nvPr/>
        </p:nvPicPr>
        <p:blipFill>
          <a:blip r:embed="rId13"/>
          <a:stretch/>
        </p:blipFill>
        <p:spPr>
          <a:xfrm>
            <a:off x="4786200" y="19288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7" descr="D:\Лена\Мои рисунки\Смайлики на разные случаи\Погода\94eaad9d7cce53c9d73652c8f7f832e8.gif"/>
          <p:cNvPicPr/>
          <p:nvPr/>
        </p:nvPicPr>
        <p:blipFill>
          <a:blip r:embed="rId14"/>
          <a:stretch/>
        </p:blipFill>
        <p:spPr>
          <a:xfrm>
            <a:off x="857160" y="2428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8" descr="D:\Лена\Мои рисунки\Смайлики на разные случаи\Погода\90dfec9b25235f851d906a83ccc9ab43.gif"/>
          <p:cNvPicPr/>
          <p:nvPr/>
        </p:nvPicPr>
        <p:blipFill>
          <a:blip r:embed="rId15"/>
          <a:stretch/>
        </p:blipFill>
        <p:spPr>
          <a:xfrm>
            <a:off x="4500720" y="2000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9" descr="D:\Лена\Мои рисунки\Смайлики на разные случаи\Погода\90dfec9b25235f851d906a83ccc9ab43.gif"/>
          <p:cNvPicPr/>
          <p:nvPr/>
        </p:nvPicPr>
        <p:blipFill>
          <a:blip r:embed="rId16"/>
          <a:stretch/>
        </p:blipFill>
        <p:spPr>
          <a:xfrm>
            <a:off x="2786040" y="3357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9" descr="D:\Лена\Мои рисунки\Смайлики на разные случаи\Погода\90dfec9b25235f851d906a83ccc9ab43.gif"/>
          <p:cNvPicPr/>
          <p:nvPr/>
        </p:nvPicPr>
        <p:blipFill>
          <a:blip r:embed="rId17"/>
          <a:stretch/>
        </p:blipFill>
        <p:spPr>
          <a:xfrm>
            <a:off x="428760" y="285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D:\Лена\Мои рисунки\Смайлики на разные случаи\Погода\90dfec9b25235f851d906a83ccc9ab43.gif"/>
          <p:cNvPicPr/>
          <p:nvPr/>
        </p:nvPicPr>
        <p:blipFill>
          <a:blip r:embed="rId18"/>
          <a:stretch/>
        </p:blipFill>
        <p:spPr>
          <a:xfrm>
            <a:off x="6929280" y="292896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9" descr="D:\Лена\Мои рисунки\Смайлики на разные случаи\Погода\90dfec9b25235f851d906a83ccc9ab43.gif"/>
          <p:cNvPicPr/>
          <p:nvPr/>
        </p:nvPicPr>
        <p:blipFill>
          <a:blip r:embed="rId19"/>
          <a:stretch/>
        </p:blipFill>
        <p:spPr>
          <a:xfrm>
            <a:off x="7643880" y="785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9" descr="D:\Лена\Мои рисунки\Смайлики на разные случаи\Погода\90dfec9b25235f851d906a83ccc9ab43.gif"/>
          <p:cNvPicPr/>
          <p:nvPr/>
        </p:nvPicPr>
        <p:blipFill>
          <a:blip r:embed="rId20"/>
          <a:stretch/>
        </p:blipFill>
        <p:spPr>
          <a:xfrm>
            <a:off x="435600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D:\Лена\Мои рисунки\Смайлики на разные случаи\Погода\90dfec9b25235f851d906a83ccc9ab43.gif"/>
          <p:cNvPicPr/>
          <p:nvPr/>
        </p:nvPicPr>
        <p:blipFill>
          <a:blip r:embed="rId21"/>
          <a:stretch/>
        </p:blipFill>
        <p:spPr>
          <a:xfrm>
            <a:off x="378612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9" descr="D:\Лена\Мои рисунки\Смайлики на разные случаи\Погода\90dfec9b25235f851d906a83ccc9ab43.gif"/>
          <p:cNvPicPr/>
          <p:nvPr/>
        </p:nvPicPr>
        <p:blipFill>
          <a:blip r:embed="rId22"/>
          <a:stretch/>
        </p:blipFill>
        <p:spPr>
          <a:xfrm>
            <a:off x="0" y="4000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9" descr="D:\Лена\Мои рисунки\Смайлики на разные случаи\Погода\90dfec9b25235f851d906a83ccc9ab43.gif"/>
          <p:cNvPicPr/>
          <p:nvPr/>
        </p:nvPicPr>
        <p:blipFill>
          <a:blip r:embed="rId23"/>
          <a:stretch/>
        </p:blipFill>
        <p:spPr>
          <a:xfrm>
            <a:off x="135720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9" descr="D:\Лена\Мои рисунки\Смайлики на разные случаи\Погода\90dfec9b25235f851d906a83ccc9ab43.gif"/>
          <p:cNvPicPr/>
          <p:nvPr/>
        </p:nvPicPr>
        <p:blipFill>
          <a:blip r:embed="rId24"/>
          <a:stretch/>
        </p:blipFill>
        <p:spPr>
          <a:xfrm>
            <a:off x="764388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Картинка 65 из 484"/>
          <p:cNvPicPr/>
          <p:nvPr/>
        </p:nvPicPr>
        <p:blipFill>
          <a:blip r:embed="rId25">
            <a:lum contrast="40000"/>
          </a:blip>
          <a:stretch/>
        </p:blipFill>
        <p:spPr>
          <a:xfrm>
            <a:off x="6143760" y="3600360"/>
            <a:ext cx="2786040" cy="222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"/>
          <p:cNvPicPr/>
          <p:nvPr/>
        </p:nvPicPr>
        <p:blipFill>
          <a:blip r:embed="rId26"/>
          <a:stretch/>
        </p:blipFill>
        <p:spPr>
          <a:xfrm>
            <a:off x="210960" y="857160"/>
            <a:ext cx="195264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Картинка 10 из 192"/>
          <p:cNvPicPr/>
          <p:nvPr/>
        </p:nvPicPr>
        <p:blipFill>
          <a:blip r:embed="rId1"/>
          <a:stretch/>
        </p:blipFill>
        <p:spPr>
          <a:xfrm>
            <a:off x="0" y="404640"/>
            <a:ext cx="8572680" cy="619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Синица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0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Синицы </a:t>
            </a: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 — род птиц семейства синицевых . Обычный представитель рода — большая синица широко распространена на территории России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12" descr="Картинки по запросу"/>
          <p:cNvPicPr/>
          <p:nvPr/>
        </p:nvPicPr>
        <p:blipFill>
          <a:blip r:embed="rId1"/>
          <a:stretch/>
        </p:blipFill>
        <p:spPr>
          <a:xfrm>
            <a:off x="5292720" y="1413000"/>
            <a:ext cx="3670200" cy="2303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Картинки по запросу синица"/>
          <p:cNvPicPr/>
          <p:nvPr/>
        </p:nvPicPr>
        <p:blipFill>
          <a:blip r:embed="rId2"/>
          <a:stretch/>
        </p:blipFill>
        <p:spPr>
          <a:xfrm>
            <a:off x="5292720" y="407664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301"/>
          <p:cNvPicPr/>
          <p:nvPr/>
        </p:nvPicPr>
        <p:blipFill>
          <a:blip r:embed="rId3"/>
          <a:stretch/>
        </p:blipFill>
        <p:spPr>
          <a:xfrm>
            <a:off x="3492360" y="4292640"/>
            <a:ext cx="1575000" cy="1181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301"/>
          <p:cNvPicPr/>
          <p:nvPr/>
        </p:nvPicPr>
        <p:blipFill>
          <a:blip r:embed="rId4"/>
          <a:stretch/>
        </p:blipFill>
        <p:spPr>
          <a:xfrm>
            <a:off x="2127240" y="5425920"/>
            <a:ext cx="1706400" cy="135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301"/>
          <p:cNvPicPr/>
          <p:nvPr/>
        </p:nvPicPr>
        <p:blipFill>
          <a:blip r:embed="rId5"/>
          <a:stretch/>
        </p:blipFill>
        <p:spPr>
          <a:xfrm>
            <a:off x="324000" y="4508640"/>
            <a:ext cx="1574640" cy="118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Картинка 13 из 1252"/>
          <p:cNvPicPr/>
          <p:nvPr/>
        </p:nvPicPr>
        <p:blipFill>
          <a:blip r:embed="rId1"/>
          <a:stretch/>
        </p:blipFill>
        <p:spPr>
          <a:xfrm>
            <a:off x="250920" y="297000"/>
            <a:ext cx="8642160" cy="63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5"/>
          <p:cNvSpPr/>
          <p:nvPr/>
        </p:nvSpPr>
        <p:spPr>
          <a:xfrm>
            <a:off x="250920" y="1628640"/>
            <a:ext cx="39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негирь или обыкновенный снегирь — певчая птица рода снегирей семейства вьюрковых. Птица мелких размеров, чуть больше воробь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17636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негир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1" descr="Картинки по запросу снегирь"/>
          <p:cNvPicPr/>
          <p:nvPr/>
        </p:nvPicPr>
        <p:blipFill>
          <a:blip r:embed="rId1"/>
          <a:stretch/>
        </p:blipFill>
        <p:spPr>
          <a:xfrm>
            <a:off x="4572000" y="1341360"/>
            <a:ext cx="4176720" cy="230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Картинки по запросу снегирь"/>
          <p:cNvPicPr/>
          <p:nvPr/>
        </p:nvPicPr>
        <p:blipFill>
          <a:blip r:embed="rId2"/>
          <a:stretch/>
        </p:blipFill>
        <p:spPr>
          <a:xfrm>
            <a:off x="4643280" y="4221000"/>
            <a:ext cx="4176720" cy="22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Картинка 4 из 191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354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Картинка 674 из 5322"/>
          <p:cNvPicPr/>
          <p:nvPr/>
        </p:nvPicPr>
        <p:blipFill>
          <a:blip r:embed="rId2"/>
          <a:stretch/>
        </p:blipFill>
        <p:spPr>
          <a:xfrm>
            <a:off x="1979640" y="1268280"/>
            <a:ext cx="5484960" cy="39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2556000" y="189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яте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179280" y="981000"/>
            <a:ext cx="403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ятел - эта птица относится к отряду дятл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на преимущественно небольшого размера. Внешний вид и особенности окраса зависят от вида. На территории Сибири  главным образом встречается большой пестрый и  малый пестрый дятл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Дятел"/>
          <p:cNvPicPr/>
          <p:nvPr/>
        </p:nvPicPr>
        <p:blipFill>
          <a:blip r:embed="rId1"/>
          <a:stretch/>
        </p:blipFill>
        <p:spPr>
          <a:xfrm>
            <a:off x="4643280" y="1125360"/>
            <a:ext cx="4038840" cy="274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Дятел"/>
          <p:cNvPicPr/>
          <p:nvPr/>
        </p:nvPicPr>
        <p:blipFill>
          <a:blip r:embed="rId2"/>
          <a:stretch/>
        </p:blipFill>
        <p:spPr>
          <a:xfrm>
            <a:off x="4643280" y="4221000"/>
            <a:ext cx="411012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1T00:47:28Z</dcterms:created>
  <dc:creator>Оля</dc:creator>
  <dc:description/>
  <dc:language>en-US</dc:language>
  <cp:lastModifiedBy>User Windows</cp:lastModifiedBy>
  <dcterms:modified xsi:type="dcterms:W3CDTF">2022-11-21T09:38:46Z</dcterms:modified>
  <cp:revision>19</cp:revision>
  <dc:subject/>
  <dc:title>Птицы Сиби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5c0000000000010243100207f6000400038000</vt:lpwstr>
  </property>
</Properties>
</file>