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4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0.png" ContentType="image/png"/>
  <Override PartName="/ppt/media/image50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5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03F-A7A2-4229-9683-3F29E09C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C5B-457D-452B-97F1-B585833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0B9-1A56-4BD7-8487-044BE782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EF7-2B26-465A-9124-891D1B32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B83-AEE7-4579-8244-7B9617D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809-10CD-4BBE-9FB7-18F0DFB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54E-4C8A-436F-BFC1-8BA4FB7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6E8-9F34-4345-9274-6083E8BC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5CE-BA14-488E-BA2C-ECC6FCA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668-A799-4A97-A256-089FECF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8A8-0D9A-4A4F-A351-652888B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886-EDF6-4AE6-9DD3-EDCEB16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D93-878D-479B-AD2E-EF20D78C60A5}" type="slidenum">
              <a:rPr b="0" lang="ru-RU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375840"/>
            <a:ext cx="5832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ЗДОРОВЫЙ КЛАСС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ЭТО ПРО НАС!!!»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2" name="Picture 2" descr="C:\Users\Днс\Desktop\1к карантин\IMG-20200305-WA0010.jpg"/>
          <p:cNvPicPr/>
          <p:nvPr/>
        </p:nvPicPr>
        <p:blipFill>
          <a:blip r:embed="rId1"/>
          <a:stretch/>
        </p:blipFill>
        <p:spPr>
          <a:xfrm>
            <a:off x="1011240" y="1341360"/>
            <a:ext cx="7162920" cy="417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24560" y="5713560"/>
            <a:ext cx="339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МБОУ «Нижнесортымская СОШ»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3 «К» класс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Кл.руководитель: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Сакаева Алия Альбертовна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3" name="Picture 2" descr="C:\Users\Днс\Desktop\1к карантин\c45bfaec-a3bd-428a-a66a-3b24c971492e.jpg"/>
          <p:cNvPicPr/>
          <p:nvPr/>
        </p:nvPicPr>
        <p:blipFill>
          <a:blip r:embed="rId1"/>
          <a:stretch/>
        </p:blipFill>
        <p:spPr>
          <a:xfrm>
            <a:off x="-1440" y="0"/>
            <a:ext cx="4084560" cy="5516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2"/>
          <a:stretch/>
        </p:blipFill>
        <p:spPr>
          <a:xfrm>
            <a:off x="-12600" y="5492880"/>
            <a:ext cx="938196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Днс\Desktop\e7a5d73b-033f-46b3-b358-fd86a7885e84.jpg"/>
          <p:cNvPicPr/>
          <p:nvPr/>
        </p:nvPicPr>
        <p:blipFill>
          <a:blip r:embed="rId3"/>
          <a:stretch/>
        </p:blipFill>
        <p:spPr>
          <a:xfrm>
            <a:off x="4092480" y="0"/>
            <a:ext cx="5060880" cy="34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Днс\Desktop\f3ec1143-cc9b-4473-b641-aa46e10c3c8d.jpg"/>
          <p:cNvPicPr/>
          <p:nvPr/>
        </p:nvPicPr>
        <p:blipFill>
          <a:blip r:embed="rId4"/>
          <a:stretch/>
        </p:blipFill>
        <p:spPr>
          <a:xfrm>
            <a:off x="4083120" y="2924280"/>
            <a:ext cx="509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8" name="Picture 4" descr="C:\Users\Днс\Desktop\eb791169-7504-4315-8ee4-468aee07d6f1.jpg"/>
          <p:cNvPicPr/>
          <p:nvPr/>
        </p:nvPicPr>
        <p:blipFill>
          <a:blip r:embed="rId1"/>
          <a:stretch/>
        </p:blipFill>
        <p:spPr>
          <a:xfrm>
            <a:off x="0" y="3357720"/>
            <a:ext cx="4734000" cy="35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Днс\Desktop\f3ec1143-cc9b-4473-b641-aa46e10c3c8d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Днс\Desktop\a887c57f-007c-4daa-8121-b96544266514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Днс\Desktop\40656db7-93a0-468a-b349-60992bf2a191.jpg"/>
          <p:cNvPicPr/>
          <p:nvPr/>
        </p:nvPicPr>
        <p:blipFill>
          <a:blip r:embed="rId4"/>
          <a:stretch/>
        </p:blipFill>
        <p:spPr>
          <a:xfrm>
            <a:off x="4500720" y="3483000"/>
            <a:ext cx="4654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нс\Desktop\c610562e-8f0f-40f9-83bf-e447c551981f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Днс\Desktop\87c47703-a3db-4e06-900d-4f98f2cb924c.jpg"/>
          <p:cNvPicPr/>
          <p:nvPr/>
        </p:nvPicPr>
        <p:blipFill>
          <a:blip r:embed="rId3"/>
          <a:stretch/>
        </p:blipFill>
        <p:spPr>
          <a:xfrm>
            <a:off x="4667400" y="0"/>
            <a:ext cx="4476600" cy="369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Днс\Desktop\dd4af25a-e24f-4e0f-9764-f0a5f3f09ac0.jpg"/>
          <p:cNvPicPr/>
          <p:nvPr/>
        </p:nvPicPr>
        <p:blipFill>
          <a:blip r:embed="rId4"/>
          <a:stretch/>
        </p:blipFill>
        <p:spPr>
          <a:xfrm>
            <a:off x="0" y="3341520"/>
            <a:ext cx="4667400" cy="350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Днс\Desktop\cf002864-ec7d-4352-8bff-62fb22c887d6.jpg"/>
          <p:cNvPicPr/>
          <p:nvPr/>
        </p:nvPicPr>
        <p:blipFill>
          <a:blip r:embed="rId5"/>
          <a:stretch/>
        </p:blipFill>
        <p:spPr>
          <a:xfrm>
            <a:off x="4667400" y="3213000"/>
            <a:ext cx="4476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2071440" cy="20415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628560" y="3078000"/>
            <a:ext cx="2054160" cy="2024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4"/>
          <a:stretch/>
        </p:blipFill>
        <p:spPr>
          <a:xfrm>
            <a:off x="6388200" y="3121200"/>
            <a:ext cx="200664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8" descr=""/>
          <p:cNvPicPr/>
          <p:nvPr/>
        </p:nvPicPr>
        <p:blipFill>
          <a:blip r:embed="rId5"/>
          <a:stretch/>
        </p:blipFill>
        <p:spPr>
          <a:xfrm>
            <a:off x="6407280" y="1371600"/>
            <a:ext cx="1950840" cy="19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55880" y="500040"/>
            <a:ext cx="569592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Ж – это круто!!!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2193840"/>
            <a:ext cx="82296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079640" y="1311120"/>
            <a:ext cx="1742760" cy="1901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079640" y="2981160"/>
            <a:ext cx="171900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6132600" y="2908440"/>
            <a:ext cx="167004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5"/>
          <a:stretch/>
        </p:blipFill>
        <p:spPr>
          <a:xfrm>
            <a:off x="6156360" y="1298520"/>
            <a:ext cx="1596960" cy="1816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27680" y="500040"/>
            <a:ext cx="477108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ЗОЖ?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Днс\Desktop\1к карантин\урок\20191009_093850.jpg"/>
          <p:cNvPicPr/>
          <p:nvPr/>
        </p:nvPicPr>
        <p:blipFill>
          <a:blip r:embed="rId1"/>
          <a:stretch/>
        </p:blipFill>
        <p:spPr>
          <a:xfrm>
            <a:off x="0" y="3213000"/>
            <a:ext cx="565164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Днс\Desktop\1к карантин\4897fca3-4acc-4051-8637-9c722ce15418.jpg"/>
          <p:cNvPicPr/>
          <p:nvPr/>
        </p:nvPicPr>
        <p:blipFill>
          <a:blip r:embed="rId2"/>
          <a:stretch/>
        </p:blipFill>
        <p:spPr>
          <a:xfrm>
            <a:off x="0" y="0"/>
            <a:ext cx="28256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нс\Desktop\1к карантин\19fb74f2-2470-4fff-ad81-39b34ebdb780.jpg"/>
          <p:cNvPicPr/>
          <p:nvPr/>
        </p:nvPicPr>
        <p:blipFill>
          <a:blip r:embed="rId3"/>
          <a:stretch/>
        </p:blipFill>
        <p:spPr>
          <a:xfrm>
            <a:off x="5567400" y="2560680"/>
            <a:ext cx="3576600" cy="429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нс\Desktop\1к карантин\20191009_091834.jpg"/>
          <p:cNvPicPr/>
          <p:nvPr/>
        </p:nvPicPr>
        <p:blipFill>
          <a:blip r:embed="rId4"/>
          <a:stretch/>
        </p:blipFill>
        <p:spPr>
          <a:xfrm>
            <a:off x="4780080" y="0"/>
            <a:ext cx="436392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12" descr="C:\Users\Днс\Desktop\1к карантин\1321fae2-09ec-4ac1-8686-3c668c95e2a0.jpg"/>
          <p:cNvPicPr/>
          <p:nvPr/>
        </p:nvPicPr>
        <p:blipFill>
          <a:blip r:embed="rId5"/>
          <a:stretch/>
        </p:blipFill>
        <p:spPr>
          <a:xfrm>
            <a:off x="2795760" y="0"/>
            <a:ext cx="2269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Users\Днс\Desktop\1к карантин\режим дня\6d4773c8-4d67-432c-8703-39527c27166e.jpg"/>
          <p:cNvPicPr/>
          <p:nvPr/>
        </p:nvPicPr>
        <p:blipFill>
          <a:blip r:embed="rId1"/>
          <a:stretch/>
        </p:blipFill>
        <p:spPr>
          <a:xfrm>
            <a:off x="6885000" y="0"/>
            <a:ext cx="232416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Днс\Desktop\1к карантин\режим дня\eac71af0-44ee-426a-b4ae-315716bd6d19.jpg"/>
          <p:cNvPicPr/>
          <p:nvPr/>
        </p:nvPicPr>
        <p:blipFill>
          <a:blip r:embed="rId2"/>
          <a:stretch/>
        </p:blipFill>
        <p:spPr>
          <a:xfrm>
            <a:off x="5008680" y="0"/>
            <a:ext cx="1876320" cy="258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Днс\Desktop\1к карантин\20191111_113423.jpg"/>
          <p:cNvPicPr/>
          <p:nvPr/>
        </p:nvPicPr>
        <p:blipFill>
          <a:blip r:embed="rId3"/>
          <a:stretch/>
        </p:blipFill>
        <p:spPr>
          <a:xfrm>
            <a:off x="5756400" y="2095560"/>
            <a:ext cx="3421080" cy="24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нс\Desktop\1к карантин\5fa1369c-92c7-43ac-ac7f-4d39f17d34e8.jpg"/>
          <p:cNvPicPr/>
          <p:nvPr/>
        </p:nvPicPr>
        <p:blipFill>
          <a:blip r:embed="rId4"/>
          <a:stretch/>
        </p:blipFill>
        <p:spPr>
          <a:xfrm>
            <a:off x="0" y="0"/>
            <a:ext cx="308916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нс\Desktop\1к карантин\режим дня\78acadcc-f16c-4c1b-8212-a5babd1b507b.jpg"/>
          <p:cNvPicPr/>
          <p:nvPr/>
        </p:nvPicPr>
        <p:blipFill>
          <a:blip r:embed="rId5"/>
          <a:stretch/>
        </p:blipFill>
        <p:spPr>
          <a:xfrm>
            <a:off x="3089160" y="-42840"/>
            <a:ext cx="19782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Днс\Desktop\1к карантин\20191003_083228.jpg"/>
          <p:cNvPicPr/>
          <p:nvPr/>
        </p:nvPicPr>
        <p:blipFill>
          <a:blip r:embed="rId6"/>
          <a:stretch/>
        </p:blipFill>
        <p:spPr>
          <a:xfrm>
            <a:off x="-22320" y="1944720"/>
            <a:ext cx="5938920" cy="246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Днс\Desktop\1к карантин\43840b14-e85c-453d-be28-1693e1ade5bf.jpg"/>
          <p:cNvPicPr/>
          <p:nvPr/>
        </p:nvPicPr>
        <p:blipFill>
          <a:blip r:embed="rId7"/>
          <a:stretch/>
        </p:blipFill>
        <p:spPr>
          <a:xfrm>
            <a:off x="0" y="4387680"/>
            <a:ext cx="2266920" cy="247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Днс\Desktop\1к карантин\a5188f29-1e09-4283-b875-c20098fe9961.jpg"/>
          <p:cNvPicPr/>
          <p:nvPr/>
        </p:nvPicPr>
        <p:blipFill>
          <a:blip r:embed="rId8"/>
          <a:stretch/>
        </p:blipFill>
        <p:spPr>
          <a:xfrm>
            <a:off x="2266920" y="4346640"/>
            <a:ext cx="1968480" cy="251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Днс\Desktop\1к карантин\96635c7f-b304-4813-bcfe-bd83749c66b9.jpg"/>
          <p:cNvPicPr/>
          <p:nvPr/>
        </p:nvPicPr>
        <p:blipFill>
          <a:blip r:embed="rId9"/>
          <a:stretch/>
        </p:blipFill>
        <p:spPr>
          <a:xfrm>
            <a:off x="4235400" y="4387680"/>
            <a:ext cx="2441520" cy="24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Днс\Desktop\1к карантин\лев спит.jpg"/>
          <p:cNvPicPr/>
          <p:nvPr/>
        </p:nvPicPr>
        <p:blipFill>
          <a:blip r:embed="rId10"/>
          <a:stretch/>
        </p:blipFill>
        <p:spPr>
          <a:xfrm>
            <a:off x="6676920" y="4405320"/>
            <a:ext cx="246708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Днс\Desktop\1к карантин\194202d8-5b13-4ed0-b14e-175609e988d5.jpg"/>
          <p:cNvPicPr/>
          <p:nvPr/>
        </p:nvPicPr>
        <p:blipFill>
          <a:blip r:embed="rId1"/>
          <a:stretch/>
        </p:blipFill>
        <p:spPr>
          <a:xfrm>
            <a:off x="3448080" y="0"/>
            <a:ext cx="2778120" cy="382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Днс\Desktop\1к карантин\0713e231-727c-4e54-abfa-d5e6a14fd4f3.jpg"/>
          <p:cNvPicPr/>
          <p:nvPr/>
        </p:nvPicPr>
        <p:blipFill>
          <a:blip r:embed="rId2"/>
          <a:stretch/>
        </p:blipFill>
        <p:spPr>
          <a:xfrm>
            <a:off x="0" y="0"/>
            <a:ext cx="3443400" cy="34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Днс\Desktop\1к карантин\99f73648-6b12-4043-bc05-76a03ec4725c.jpg"/>
          <p:cNvPicPr/>
          <p:nvPr/>
        </p:nvPicPr>
        <p:blipFill>
          <a:blip r:embed="rId3"/>
          <a:stretch/>
        </p:blipFill>
        <p:spPr>
          <a:xfrm>
            <a:off x="6562800" y="3433680"/>
            <a:ext cx="2581200" cy="33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Днс\Desktop\1к карантин\20191111_095707.jpg"/>
          <p:cNvPicPr/>
          <p:nvPr/>
        </p:nvPicPr>
        <p:blipFill>
          <a:blip r:embed="rId4"/>
          <a:stretch/>
        </p:blipFill>
        <p:spPr>
          <a:xfrm>
            <a:off x="0" y="3438360"/>
            <a:ext cx="6588000" cy="338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Днс\Desktop\1к спорт фото\69b9a180-b2dc-48da-8e2a-75cb622fbe60.jpg"/>
          <p:cNvPicPr/>
          <p:nvPr/>
        </p:nvPicPr>
        <p:blipFill>
          <a:blip r:embed="rId5"/>
          <a:stretch/>
        </p:blipFill>
        <p:spPr>
          <a:xfrm>
            <a:off x="6226200" y="0"/>
            <a:ext cx="29178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Днс\Desktop\1к карантин\режим дня\3e48636f-7929-4fdf-9fce-0b1fbf87cb1a.jpg"/>
          <p:cNvPicPr/>
          <p:nvPr/>
        </p:nvPicPr>
        <p:blipFill>
          <a:blip r:embed="rId1"/>
          <a:stretch/>
        </p:blipFill>
        <p:spPr>
          <a:xfrm>
            <a:off x="6137280" y="0"/>
            <a:ext cx="3006720" cy="32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Днс\Desktop\1к карантин\режим дня\883ab5c0-aa07-4848-bc1f-b89f88fb9bdb.jpg"/>
          <p:cNvPicPr/>
          <p:nvPr/>
        </p:nvPicPr>
        <p:blipFill>
          <a:blip r:embed="rId2"/>
          <a:stretch/>
        </p:blipFill>
        <p:spPr>
          <a:xfrm>
            <a:off x="0" y="0"/>
            <a:ext cx="3138480" cy="38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Днс\Desktop\1к карантин\режим дня\8a159f92-62c0-4ec2-ad46-d209feed541a.jpg"/>
          <p:cNvPicPr/>
          <p:nvPr/>
        </p:nvPicPr>
        <p:blipFill>
          <a:blip r:embed="rId3"/>
          <a:stretch/>
        </p:blipFill>
        <p:spPr>
          <a:xfrm>
            <a:off x="3138480" y="0"/>
            <a:ext cx="2998800" cy="38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Днс\Desktop\1к карантин\режим дня\4a9af06b-1f07-458d-87df-80f7b1dc4f0c.jpg"/>
          <p:cNvPicPr/>
          <p:nvPr/>
        </p:nvPicPr>
        <p:blipFill>
          <a:blip r:embed="rId4"/>
          <a:stretch/>
        </p:blipFill>
        <p:spPr>
          <a:xfrm>
            <a:off x="-58680" y="3292560"/>
            <a:ext cx="3406680" cy="356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Днс\Desktop\1к карантин\режим дня\d0c5ee4b-60a2-4fe5-bca1-40fe0c09c400.jpg"/>
          <p:cNvPicPr/>
          <p:nvPr/>
        </p:nvPicPr>
        <p:blipFill>
          <a:blip r:embed="rId5"/>
          <a:stretch/>
        </p:blipFill>
        <p:spPr>
          <a:xfrm>
            <a:off x="3346560" y="3292560"/>
            <a:ext cx="2790720" cy="356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Днс\Desktop\1к карантин\режим дня\4d3b9e45-adeb-4ad0-9e44-3a3776a3c2e2.jpg"/>
          <p:cNvPicPr/>
          <p:nvPr/>
        </p:nvPicPr>
        <p:blipFill>
          <a:blip r:embed="rId6"/>
          <a:stretch/>
        </p:blipFill>
        <p:spPr>
          <a:xfrm>
            <a:off x="6137280" y="3292560"/>
            <a:ext cx="300672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Днс\Desktop\1к карантин\7070b21a-ddd8-4a16-a401-f5e265dba5f1.jpg"/>
          <p:cNvPicPr/>
          <p:nvPr/>
        </p:nvPicPr>
        <p:blipFill>
          <a:blip r:embed="rId1"/>
          <a:stretch/>
        </p:blipFill>
        <p:spPr>
          <a:xfrm>
            <a:off x="0" y="0"/>
            <a:ext cx="330516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Днс\Desktop\1к карантин\20191009_093228.jpg"/>
          <p:cNvPicPr/>
          <p:nvPr/>
        </p:nvPicPr>
        <p:blipFill>
          <a:blip r:embed="rId2"/>
          <a:stretch/>
        </p:blipFill>
        <p:spPr>
          <a:xfrm>
            <a:off x="3244680" y="-15840"/>
            <a:ext cx="3086280" cy="397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0" y="3781440"/>
            <a:ext cx="4788000" cy="307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Днс\Desktop\1к карантин\20191213_121454.jpg"/>
          <p:cNvPicPr/>
          <p:nvPr/>
        </p:nvPicPr>
        <p:blipFill>
          <a:blip r:embed="rId4"/>
          <a:stretch/>
        </p:blipFill>
        <p:spPr>
          <a:xfrm>
            <a:off x="4788000" y="3763800"/>
            <a:ext cx="4356000" cy="309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:\Users\Днс\Desktop\1к карантин\ae99dc82-34c5-4863-b590-e23c4375e3a5.jpg"/>
          <p:cNvPicPr/>
          <p:nvPr/>
        </p:nvPicPr>
        <p:blipFill>
          <a:blip r:embed="rId5"/>
          <a:stretch/>
        </p:blipFill>
        <p:spPr>
          <a:xfrm>
            <a:off x="6330960" y="-15840"/>
            <a:ext cx="281304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Днс\Desktop\1к карантин\IMG-20200305-WA0014.jpg"/>
          <p:cNvPicPr/>
          <p:nvPr/>
        </p:nvPicPr>
        <p:blipFill>
          <a:blip r:embed="rId1"/>
          <a:stretch/>
        </p:blipFill>
        <p:spPr>
          <a:xfrm>
            <a:off x="-3168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Днс\Desktop\1к карантин\флешмоб.JPG"/>
          <p:cNvPicPr/>
          <p:nvPr/>
        </p:nvPicPr>
        <p:blipFill>
          <a:blip r:embed="rId2"/>
          <a:stretch/>
        </p:blipFill>
        <p:spPr>
          <a:xfrm>
            <a:off x="-31680" y="0"/>
            <a:ext cx="46767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Днс\Desktop\1к карантин\IMG_20190825_110316.jpg"/>
          <p:cNvPicPr/>
          <p:nvPr/>
        </p:nvPicPr>
        <p:blipFill>
          <a:blip r:embed="rId3"/>
          <a:stretch/>
        </p:blipFill>
        <p:spPr>
          <a:xfrm>
            <a:off x="452592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Днс\Desktop\1к карантин\IMG-20200305-WA0010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148360" y="-100080"/>
            <a:ext cx="3995640" cy="695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-4680" y="3379680"/>
            <a:ext cx="5153040" cy="34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Днс\Desktop\1к спорт фото\адилавов.jpg"/>
          <p:cNvPicPr/>
          <p:nvPr/>
        </p:nvPicPr>
        <p:blipFill>
          <a:blip r:embed="rId4"/>
          <a:stretch/>
        </p:blipFill>
        <p:spPr>
          <a:xfrm>
            <a:off x="-17640" y="0"/>
            <a:ext cx="5166000" cy="337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8:24:02Z</dcterms:created>
  <dc:creator>Днс</dc:creator>
  <dc:description/>
  <dc:language>en-US</dc:language>
  <cp:lastModifiedBy>Фазылов  Далер\</cp:lastModifiedBy>
  <dcterms:modified xsi:type="dcterms:W3CDTF">2022-11-21T17:27:43Z</dcterms:modified>
  <cp:revision>27</cp:revision>
  <dc:subject/>
  <dc:title>Презентация PowerPoint</dc:title>
</cp:coreProperties>
</file>