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1EB-5351-4FC0-A08A-9B201D82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4A9-C11E-4EED-8004-9E566BC2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36F-A93F-42DD-87C9-2BB08A20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745-87BD-48FC-AC70-CB5FACCA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054-E660-4B1F-93B9-042EB91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655-917F-4F8A-A77A-30EFF8F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112-D4E1-417C-9930-BDD2801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5F2-87D2-4176-A7B2-EC073307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74D-F32D-401A-AE12-017BBF3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B79-308C-4B0F-9C74-AAAFBA4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742-AFF8-4DAA-80E8-B85CEF1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CD2-B0EF-482B-B050-F4CCA90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2F7-2470-4B6D-964D-0DE0173AF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9800"/>
            <a:ext cx="9163080" cy="32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p.foto.radikal.ru/0702/0ad44876b09a.png"/>
          <p:cNvPicPr/>
          <p:nvPr/>
        </p:nvPicPr>
        <p:blipFill>
          <a:blip r:embed="rId3"/>
          <a:stretch/>
        </p:blipFill>
        <p:spPr>
          <a:xfrm>
            <a:off x="4572000" y="1835280"/>
            <a:ext cx="399564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чка на елочке скачет, вверх и вн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2133720" y="792000"/>
            <a:ext cx="4886280" cy="4953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68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единить кончики пальцев обеих рук, поднять ладони вверх и опуст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чка за елочку лапками держис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-2376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зко сжать кулачки, затем раз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1916280" y="792000"/>
            <a:ext cx="5175000" cy="5388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6"/>
          <p:cNvSpPr/>
          <p:nvPr/>
        </p:nvSpPr>
        <p:spPr>
          <a:xfrm>
            <a:off x="108000" y="14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ыг-скок на сучок, лапками держис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учать пальчиками о стол, снова резко сжать кула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C:\Users\наташа\Desktop\сделать игры\Igry\122_Страница_07.jpg"/>
          <p:cNvPicPr/>
          <p:nvPr/>
        </p:nvPicPr>
        <p:blipFill>
          <a:blip r:embed="rId2"/>
          <a:stretch/>
        </p:blipFill>
        <p:spPr>
          <a:xfrm>
            <a:off x="231840" y="1471680"/>
            <a:ext cx="4340160" cy="42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наташа\Desktop\сделать игры\Igry\122_Страница_07.jpg"/>
          <p:cNvPicPr/>
          <p:nvPr/>
        </p:nvPicPr>
        <p:blipFill>
          <a:blip r:embed="rId3"/>
          <a:stretch/>
        </p:blipFill>
        <p:spPr>
          <a:xfrm>
            <a:off x="4702320" y="1459080"/>
            <a:ext cx="4152600" cy="422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7:24:36Z</dcterms:modified>
  <cp:revision>11</cp:revision>
  <dc:subject/>
  <dc:title>Презентация PowerPoint</dc:title>
</cp:coreProperties>
</file>