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0BE4-31CC-4317-A42C-66D7C8511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A6A4-F474-4E4C-A905-66D66702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88AE-6D4C-4AEC-A6C4-6EE728EB2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9F3F-AFD3-4104-84C8-5AFC4F021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B5A9-03E5-4327-AA00-543E1A74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3E02-8514-4A34-A235-70228A18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C7EF-07B7-483A-831C-C75B757C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6773-525E-4C23-99A9-B593168D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BAFA-E943-40DE-BA9B-3469633E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A607-2639-4A60-A26E-53A46B01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4197-81A9-41D1-9136-E49E5522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65BE-74B5-4A65-B0E0-2A11C948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F7AB-E82D-4A43-8BE9-B1350C1951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42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" name="Прямоугольник 1" descr=""/>
          <p:cNvPicPr/>
          <p:nvPr/>
        </p:nvPicPr>
        <p:blipFill>
          <a:blip r:embed="rId2"/>
          <a:stretch/>
        </p:blipFill>
        <p:spPr>
          <a:xfrm>
            <a:off x="-19080" y="-469800"/>
            <a:ext cx="9163080" cy="3213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http://p.foto.radikal.ru/0702/0ad44876b09a.png"/>
          <p:cNvPicPr/>
          <p:nvPr/>
        </p:nvPicPr>
        <p:blipFill>
          <a:blip r:embed="rId3"/>
          <a:stretch/>
        </p:blipFill>
        <p:spPr>
          <a:xfrm>
            <a:off x="4572000" y="1835280"/>
            <a:ext cx="3995640" cy="4906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47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TextBox 6"/>
          <p:cNvSpPr/>
          <p:nvPr/>
        </p:nvSpPr>
        <p:spPr>
          <a:xfrm>
            <a:off x="108000" y="146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елочка на елочке скачет, вверх и вниз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C:\Users\наташа\Desktop\сделать игры\Igry\122_Страница_07.jpg"/>
          <p:cNvPicPr/>
          <p:nvPr/>
        </p:nvPicPr>
        <p:blipFill>
          <a:blip r:embed="rId2"/>
          <a:stretch/>
        </p:blipFill>
        <p:spPr>
          <a:xfrm>
            <a:off x="2133720" y="792000"/>
            <a:ext cx="4886280" cy="495324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4680" y="5904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оединить кончики пальцев обеих рук, поднять ладони вверх и опусти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53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TextBox 6"/>
          <p:cNvSpPr/>
          <p:nvPr/>
        </p:nvSpPr>
        <p:spPr>
          <a:xfrm>
            <a:off x="108000" y="146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елочка за елочку лапками держис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-23760" y="6180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езко сжать кулачки, затем разжа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C:\Users\наташа\Desktop\сделать игры\Igry\122_Страница_07.jpg"/>
          <p:cNvPicPr/>
          <p:nvPr/>
        </p:nvPicPr>
        <p:blipFill>
          <a:blip r:embed="rId2"/>
          <a:stretch/>
        </p:blipFill>
        <p:spPr>
          <a:xfrm>
            <a:off x="1916280" y="792000"/>
            <a:ext cx="5175000" cy="5388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59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TextBox 6"/>
          <p:cNvSpPr/>
          <p:nvPr/>
        </p:nvSpPr>
        <p:spPr>
          <a:xfrm>
            <a:off x="108000" y="146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ыг-скок на сучок, лапками держись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0" y="5904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стучать пальчиками о стол, снова резко сжать кулач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C:\Users\наташа\Desktop\сделать игры\Igry\122_Страница_07.jpg"/>
          <p:cNvPicPr/>
          <p:nvPr/>
        </p:nvPicPr>
        <p:blipFill>
          <a:blip r:embed="rId2"/>
          <a:stretch/>
        </p:blipFill>
        <p:spPr>
          <a:xfrm>
            <a:off x="231840" y="1471680"/>
            <a:ext cx="4340160" cy="4227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C:\Users\наташа\Desktop\сделать игры\Igry\122_Страница_07.jpg"/>
          <p:cNvPicPr/>
          <p:nvPr/>
        </p:nvPicPr>
        <p:blipFill>
          <a:blip r:embed="rId3"/>
          <a:stretch/>
        </p:blipFill>
        <p:spPr>
          <a:xfrm>
            <a:off x="4702320" y="1459080"/>
            <a:ext cx="4152600" cy="4227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66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8" name="Прямоугольник 4" descr=""/>
          <p:cNvPicPr/>
          <p:nvPr/>
        </p:nvPicPr>
        <p:blipFill>
          <a:blip r:embed="rId2"/>
          <a:stretch/>
        </p:blipFill>
        <p:spPr>
          <a:xfrm>
            <a:off x="-353880" y="1566720"/>
            <a:ext cx="9845640" cy="3846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70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Прямоугольник 1"/>
          <p:cNvSpPr/>
          <p:nvPr/>
        </p:nvSpPr>
        <p:spPr>
          <a:xfrm>
            <a:off x="-1440" y="1916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 презентации использованы материалы книги Юлии Соколов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«Игры с пальчикам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1"/>
          <p:cNvSpPr/>
          <p:nvPr/>
        </p:nvSpPr>
        <p:spPr>
          <a:xfrm>
            <a:off x="-1440" y="530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втор презентации: Бунецкая Н.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4T15:35:27Z</dcterms:created>
  <dc:creator>.</dc:creator>
  <dc:description/>
  <dc:language>en-US</dc:language>
  <cp:lastModifiedBy>.</cp:lastModifiedBy>
  <dcterms:modified xsi:type="dcterms:W3CDTF">2014-01-04T17:24:36Z</dcterms:modified>
  <cp:revision>11</cp:revision>
  <dc:subject/>
  <dc:title>Презентация PowerPoint</dc:title>
</cp:coreProperties>
</file>