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29.jpeg" ContentType="image/jpe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6.png" ContentType="image/png"/>
  <Override PartName="/ppt/media/image18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B0F-66F3-47A8-90F8-816647AA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129-24EC-4414-8683-F5A47E35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68E-C709-4B3C-BE96-130D14F8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94D-1FCD-41A1-841E-898B370B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FC4-0F8A-44E3-99D6-C1DCBF7B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FDF-0782-4784-B63D-C1AFB78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F8B-2C72-4031-BEC2-B492FD5B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1D8-A6F0-4D7C-AA9B-E84577EE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34D-7FCE-47A7-9B1D-0D7084B0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697-2CD4-48D4-8920-450B8256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88A-4FC6-4F1A-8FE9-2E6C15F7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E4E-A73A-486D-ACEA-EA0C020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5BA3FF-EACA-4266-BB0C-4FE46AD06B5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3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549360" y="438120"/>
            <a:ext cx="6454440" cy="3657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39640" y="5224320"/>
            <a:ext cx="36000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Сиско Еле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4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5" name="TextBox 4"/>
          <p:cNvSpPr/>
          <p:nvPr/>
        </p:nvSpPr>
        <p:spPr>
          <a:xfrm>
            <a:off x="912960" y="378000"/>
            <a:ext cx="741636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Как избежать отравлений препаратами бытовой хими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611280" y="1301760"/>
            <a:ext cx="7992720" cy="277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икогда не пользуйся незнакомыми препаратами бытовой     хим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е пей жидкости из незнакомых бутылок и бан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е пользуйся спичками и открытым огнем рядом с банками или бутылками с резким запах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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Не распыляй их содержимое вблизи открытого огн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Про бытовую химию"/>
          <p:cNvPicPr/>
          <p:nvPr/>
        </p:nvPicPr>
        <p:blipFill>
          <a:blip r:embed="rId2"/>
          <a:stretch/>
        </p:blipFill>
        <p:spPr>
          <a:xfrm>
            <a:off x="2555640" y="3645000"/>
            <a:ext cx="3801600" cy="24350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3636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1" name="TextBox 4"/>
          <p:cNvSpPr/>
          <p:nvPr/>
        </p:nvSpPr>
        <p:spPr>
          <a:xfrm>
            <a:off x="611280" y="404640"/>
            <a:ext cx="799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иборы, содержащие рту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68360" y="1052640"/>
            <a:ext cx="813564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75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лампы дневного света (это газоразрядные трубки, в которых находятся инертные газы и пары ртути). Все такие лампы содержат ртуть - от 40 до 70 мг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ртутные термомет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приборы для измерения давления (манометр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ru.all.biz/img/ru/service_catalog/266356.jpeg"/>
          <p:cNvPicPr/>
          <p:nvPr/>
        </p:nvPicPr>
        <p:blipFill>
          <a:blip r:embed="rId2"/>
          <a:stretch/>
        </p:blipFill>
        <p:spPr>
          <a:xfrm>
            <a:off x="878040" y="2517840"/>
            <a:ext cx="2815920" cy="21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yk-news.kz/sites/default/files/imagecache/v_nodu/photo_in_news/1303208733_8591a88ad879a0b8abe9983b0b288332_0.jpg"/>
          <p:cNvPicPr/>
          <p:nvPr/>
        </p:nvPicPr>
        <p:blipFill>
          <a:blip r:embed="rId3"/>
          <a:stretch/>
        </p:blipFill>
        <p:spPr>
          <a:xfrm>
            <a:off x="878040" y="4614840"/>
            <a:ext cx="2815920" cy="196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ekotek.net.ua/uploads/pics/Rtut.jpg"/>
          <p:cNvPicPr/>
          <p:nvPr/>
        </p:nvPicPr>
        <p:blipFill>
          <a:blip r:embed="rId4"/>
          <a:stretch/>
        </p:blipFill>
        <p:spPr>
          <a:xfrm>
            <a:off x="5645160" y="2511360"/>
            <a:ext cx="2918880" cy="218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www.sibhg.ru/images/foto_temometr.jpg"/>
          <p:cNvPicPr/>
          <p:nvPr/>
        </p:nvPicPr>
        <p:blipFill>
          <a:blip r:embed="rId5"/>
          <a:stretch/>
        </p:blipFill>
        <p:spPr>
          <a:xfrm>
            <a:off x="5645160" y="4572000"/>
            <a:ext cx="2918880" cy="193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www.3dnews.ru/_imgdata/img/2011/01/20/605469/spy-thermometer.jpg"/>
          <p:cNvPicPr/>
          <p:nvPr/>
        </p:nvPicPr>
        <p:blipFill>
          <a:blip r:embed="rId6"/>
          <a:stretch/>
        </p:blipFill>
        <p:spPr>
          <a:xfrm>
            <a:off x="3821040" y="2905200"/>
            <a:ext cx="1687320" cy="230328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3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4"/>
          <p:cNvSpPr/>
          <p:nvPr/>
        </p:nvSpPr>
        <p:spPr>
          <a:xfrm>
            <a:off x="1015920" y="1484280"/>
            <a:ext cx="7343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Все острые, колющие и режущие предметы обязательно надо класть на свои места. Порядок в доме не только для красоты, но и для безопасност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627200" y="404640"/>
            <a:ext cx="61210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Чем опасны острые, колющие и режущие предмет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spasti-sebya.ru/wp-content/uploads/2012/12/%D0%BE%D1%81%D1%82%D1%80%D1%8B%D0%B5-%D0%BF%D1%80%D0%B5%D0%B4%D0%BC%D0%B5%D1%82%D1%8B.png"/>
          <p:cNvPicPr/>
          <p:nvPr/>
        </p:nvPicPr>
        <p:blipFill>
          <a:blip r:embed="rId2"/>
          <a:stretch/>
        </p:blipFill>
        <p:spPr>
          <a:xfrm>
            <a:off x="250920" y="4900680"/>
            <a:ext cx="2196720" cy="1698120"/>
          </a:xfrm>
          <a:prstGeom prst="rect">
            <a:avLst/>
          </a:prstGeom>
          <a:ln w="9525">
            <a:noFill/>
          </a:ln>
        </p:spPr>
      </p:pic>
      <p:pic>
        <p:nvPicPr>
          <p:cNvPr id="134" name="Picture 4" descr="http://img-fotki.yandex.ru/get/4600/prcont.2/0_3ef83_f9a8ff18_XXL"/>
          <p:cNvPicPr/>
          <p:nvPr/>
        </p:nvPicPr>
        <p:blipFill>
          <a:blip r:embed="rId3"/>
          <a:stretch/>
        </p:blipFill>
        <p:spPr>
          <a:xfrm>
            <a:off x="324000" y="2846520"/>
            <a:ext cx="2839680" cy="211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i615.photobucket.com/albums/tt238/adventh1313/scissors1brgb.jpg"/>
          <p:cNvPicPr/>
          <p:nvPr/>
        </p:nvPicPr>
        <p:blipFill>
          <a:blip r:embed="rId4"/>
          <a:stretch/>
        </p:blipFill>
        <p:spPr>
          <a:xfrm>
            <a:off x="6269040" y="3855960"/>
            <a:ext cx="2090520" cy="209052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8" descr="http://pk-sm.ru/new/wp-content/uploads/2010/10/gvozdi-277x300.jpg"/>
          <p:cNvPicPr/>
          <p:nvPr/>
        </p:nvPicPr>
        <p:blipFill>
          <a:blip r:embed="rId5"/>
          <a:stretch/>
        </p:blipFill>
        <p:spPr>
          <a:xfrm>
            <a:off x="3171960" y="3471840"/>
            <a:ext cx="2638080" cy="285732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39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-144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0" name="TextBox 6"/>
          <p:cNvSpPr/>
          <p:nvPr/>
        </p:nvSpPr>
        <p:spPr>
          <a:xfrm>
            <a:off x="896760" y="476280"/>
            <a:ext cx="7345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Будь осторожен при встрече с незнакомыми людьми, не открывай дверь дома незнакомым людям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незнакомец это не друг"/>
          <p:cNvPicPr/>
          <p:nvPr/>
        </p:nvPicPr>
        <p:blipFill>
          <a:blip r:embed="rId2"/>
          <a:stretch/>
        </p:blipFill>
        <p:spPr>
          <a:xfrm>
            <a:off x="684360" y="1913040"/>
            <a:ext cx="7848360" cy="468432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44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45" name="Прямоугольник 7" descr=""/>
          <p:cNvPicPr/>
          <p:nvPr/>
        </p:nvPicPr>
        <p:blipFill>
          <a:blip r:embed="rId2"/>
          <a:stretch/>
        </p:blipFill>
        <p:spPr>
          <a:xfrm>
            <a:off x="1468440" y="2798640"/>
            <a:ext cx="6797160" cy="93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8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9" name="TextBox 5"/>
          <p:cNvSpPr/>
          <p:nvPr/>
        </p:nvSpPr>
        <p:spPr>
          <a:xfrm>
            <a:off x="1042920" y="404640"/>
            <a:ext cx="669744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безопасного поведения в жизни и бы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23000438_pb15"/>
          <p:cNvPicPr/>
          <p:nvPr/>
        </p:nvPicPr>
        <p:blipFill>
          <a:blip r:embed="rId2"/>
          <a:stretch/>
        </p:blipFill>
        <p:spPr>
          <a:xfrm>
            <a:off x="2333520" y="3294360"/>
            <a:ext cx="3534120" cy="2363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684360" y="1484280"/>
            <a:ext cx="791964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ый человек должен знать и выполнять общие правила в повседневной жизни, чтобы чрезвычайные ситуации не застали враспло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аждая опасная и чрезвычайная ситуация имеет свою специфику и требует конкретных действий человека с учетом складывающейся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56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57" name="TextBox 5"/>
          <p:cNvSpPr/>
          <p:nvPr/>
        </p:nvSpPr>
        <p:spPr>
          <a:xfrm>
            <a:off x="1116000" y="549360"/>
            <a:ext cx="7056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Чем опасны электроприбо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39640" y="1413000"/>
            <a:ext cx="5616360" cy="39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определенных условиях при использовании хорошо знакомого оборудования и приборов могут возникнуть опасные ситуации для вас, для ваших близких и для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первом случае вы сами можете создать опасную ситуацию, нарушив правила использования оборудования и бытовых приб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другом случае независимо от вас может возникнуть опасная ситуация: резко возросло электронапряжение в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lit-dety.ru/wp-content/uploads/2013/01/bez%D0%BEp%D0%B0sn%D0%BEst-d%D0%BEm%D0%B0.jpg"/>
          <p:cNvPicPr/>
          <p:nvPr/>
        </p:nvPicPr>
        <p:blipFill>
          <a:blip r:embed="rId2"/>
          <a:stretch/>
        </p:blipFill>
        <p:spPr>
          <a:xfrm>
            <a:off x="6012000" y="4406760"/>
            <a:ext cx="2398680" cy="20761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62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3" name="TextBox 5"/>
          <p:cNvSpPr/>
          <p:nvPr/>
        </p:nvSpPr>
        <p:spPr>
          <a:xfrm>
            <a:off x="971640" y="404640"/>
            <a:ext cx="748800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Общие правила безопасного обращения с электрич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33520" y="1413000"/>
            <a:ext cx="590976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ключение прибора производится в обратном поря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прикасайтесь к включенному электроприбору мокрыми ру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мните: нельзя пользоваться электрическими устройствами, находясь в в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 обнаруженных неисправностях в электроприборах, об оголенных и плохо изолированных проводах немедленно сообщайте родителям или стар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Не тяни вилку из розетки за провод"/>
          <p:cNvPicPr/>
          <p:nvPr/>
        </p:nvPicPr>
        <p:blipFill>
          <a:blip r:embed="rId2"/>
          <a:stretch/>
        </p:blipFill>
        <p:spPr>
          <a:xfrm>
            <a:off x="6351480" y="3121200"/>
            <a:ext cx="2279160" cy="314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Не берись мокрыми руками к проводам электроприборов"/>
          <p:cNvPicPr/>
          <p:nvPr/>
        </p:nvPicPr>
        <p:blipFill>
          <a:blip r:embed="rId3"/>
          <a:stretch/>
        </p:blipFill>
        <p:spPr>
          <a:xfrm>
            <a:off x="6531840" y="1189080"/>
            <a:ext cx="2167200" cy="331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Не включай все электроприборы одновременно"/>
          <p:cNvPicPr/>
          <p:nvPr/>
        </p:nvPicPr>
        <p:blipFill>
          <a:blip r:embed="rId4"/>
          <a:stretch/>
        </p:blipFill>
        <p:spPr>
          <a:xfrm>
            <a:off x="6732360" y="4791240"/>
            <a:ext cx="175248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71" name="Прямоугольник 7" descr=""/>
          <p:cNvPicPr/>
          <p:nvPr/>
        </p:nvPicPr>
        <p:blipFill>
          <a:blip r:embed="rId2"/>
          <a:stretch/>
        </p:blipFill>
        <p:spPr>
          <a:xfrm>
            <a:off x="1054080" y="225360"/>
            <a:ext cx="7327440" cy="126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PM440"/>
          <p:cNvPicPr/>
          <p:nvPr/>
        </p:nvPicPr>
        <p:blipFill>
          <a:blip r:embed="rId3"/>
          <a:stretch/>
        </p:blipFill>
        <p:spPr>
          <a:xfrm>
            <a:off x="860400" y="1341360"/>
            <a:ext cx="7489440" cy="524484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2" descr="http://armour.3dn.ru/_pu/1/91990455.jpg"/>
          <p:cNvPicPr/>
          <p:nvPr/>
        </p:nvPicPr>
        <p:blipFill>
          <a:blip r:embed="rId4"/>
          <a:stretch/>
        </p:blipFill>
        <p:spPr>
          <a:xfrm>
            <a:off x="522360" y="549360"/>
            <a:ext cx="8098920" cy="5758920"/>
          </a:xfrm>
          <a:prstGeom prst="rect">
            <a:avLst/>
          </a:prstGeom>
          <a:ln w="9525">
            <a:noFill/>
          </a:ln>
        </p:spPr>
      </p:pic>
      <p:pic>
        <p:nvPicPr>
          <p:cNvPr id="74" name="Picture 6" descr="product_add_pic_47"/>
          <p:cNvPicPr/>
          <p:nvPr/>
        </p:nvPicPr>
        <p:blipFill>
          <a:blip r:embed="rId5"/>
          <a:stretch/>
        </p:blipFill>
        <p:spPr>
          <a:xfrm>
            <a:off x="755640" y="2997000"/>
            <a:ext cx="1692720" cy="2380680"/>
          </a:xfrm>
          <a:prstGeom prst="rect">
            <a:avLst/>
          </a:prstGeom>
          <a:ln cap="sq" w="38100">
            <a:solidFill>
              <a:srgbClr val="ff0000"/>
            </a:solidFill>
            <a:miter/>
          </a:ln>
          <a:effectLst>
            <a:outerShdw algn="tl" dir="2700000" dist="37674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77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8" name="TextBox 4"/>
          <p:cNvSpPr/>
          <p:nvPr/>
        </p:nvSpPr>
        <p:spPr>
          <a:xfrm>
            <a:off x="684360" y="260280"/>
            <a:ext cx="7991280" cy="127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безопасного обращения с газовыми приборами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23720" y="1279440"/>
            <a:ext cx="831024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течка газа может привести к отравлению человека и взрыву помещения. Чтобы предотвратить это, необходимо соблюдать правила безопасности при пользовании бытовым газ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Основны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бы зажечь газовую горелку, сначала поднесите зажженную спичку, а затем плавно и осторожно откройте газовый к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оставляйте включенные газовые горелки без присмот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ледите за тем, чтобы нагреваемая на газовой плите жидкость не залила пламя горел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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метив потухшую горелку, не пытайтесь ее зажечь вновь - это может привести к взрыву. Перекройте кран подачи газа, распахните окна и как следует проветрите кухню. Сообщите о случившемся взрос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static4.aif.ru/pictures/201303/0505.jpg"/>
          <p:cNvPicPr/>
          <p:nvPr/>
        </p:nvPicPr>
        <p:blipFill>
          <a:blip r:embed="rId2"/>
          <a:stretch/>
        </p:blipFill>
        <p:spPr>
          <a:xfrm>
            <a:off x="5004000" y="4725000"/>
            <a:ext cx="2772000" cy="180000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3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4" name="TextBox 4"/>
          <p:cNvSpPr/>
          <p:nvPr/>
        </p:nvSpPr>
        <p:spPr>
          <a:xfrm>
            <a:off x="1258920" y="458640"/>
            <a:ext cx="705600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Что нужно делать при появлении запаха газ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900000" y="1773360"/>
            <a:ext cx="4319280" cy="36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628351"/>
          <p:cNvPicPr/>
          <p:nvPr/>
        </p:nvPicPr>
        <p:blipFill>
          <a:blip r:embed="rId2"/>
          <a:stretch/>
        </p:blipFill>
        <p:spPr>
          <a:xfrm>
            <a:off x="2050920" y="1573200"/>
            <a:ext cx="5495400" cy="528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628375"/>
          <p:cNvPicPr/>
          <p:nvPr/>
        </p:nvPicPr>
        <p:blipFill>
          <a:blip r:embed="rId3"/>
          <a:stretch/>
        </p:blipFill>
        <p:spPr>
          <a:xfrm>
            <a:off x="614520" y="1636560"/>
            <a:ext cx="7914960" cy="4676400"/>
          </a:xfrm>
          <a:prstGeom prst="rect">
            <a:avLst/>
          </a:prstGeom>
          <a:ln cap="sq" w="38100">
            <a:solidFill>
              <a:srgbClr val="ff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88" name="Picture 10" descr="http://www.dddmarket.ru/image/new/new.7.1.jpg"/>
          <p:cNvPicPr/>
          <p:nvPr/>
        </p:nvPicPr>
        <p:blipFill>
          <a:blip r:embed="rId4"/>
          <a:stretch/>
        </p:blipFill>
        <p:spPr>
          <a:xfrm>
            <a:off x="3000240" y="1450800"/>
            <a:ext cx="3214440" cy="4641480"/>
          </a:xfrm>
          <a:prstGeom prst="rect">
            <a:avLst/>
          </a:prstGeom>
          <a:ln cap="sq" w="38100">
            <a:solidFill>
              <a:srgbClr val="f79646">
                <a:lumMod val="7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91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1291999687_fire_meaney"/>
          <p:cNvPicPr/>
          <p:nvPr/>
        </p:nvPicPr>
        <p:blipFill>
          <a:blip r:embed="rId2"/>
          <a:stretch/>
        </p:blipFill>
        <p:spPr>
          <a:xfrm>
            <a:off x="254160" y="295200"/>
            <a:ext cx="1004400" cy="1112400"/>
          </a:xfrm>
          <a:prstGeom prst="rect">
            <a:avLst/>
          </a:prstGeom>
          <a:ln w="9525">
            <a:noFill/>
          </a:ln>
        </p:spPr>
      </p:pic>
      <p:sp>
        <p:nvSpPr>
          <p:cNvPr id="93" name="TextBox 5"/>
          <p:cNvSpPr/>
          <p:nvPr/>
        </p:nvSpPr>
        <p:spPr>
          <a:xfrm>
            <a:off x="1603440" y="353880"/>
            <a:ext cx="667656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и обнаружении источника возгора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258920" y="1187280"/>
            <a:ext cx="7345080" cy="277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Не бойся позвать на помощь взрослых, даже если ты являешься виновником пож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Немедленно покидай горящее помещение, проверив, не остались ли в квартире те, кто не сможет выбраться сам (маленькие дети, больные стар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. Позвони в пожарную аварийно-спасательную службу МЧС  по телефону « 01». При этом сообщи точный адрес, что и где горит, свою фамилию и номер телеф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06469_pojar_rebenok"/>
          <p:cNvPicPr/>
          <p:nvPr/>
        </p:nvPicPr>
        <p:blipFill>
          <a:blip r:embed="rId3"/>
          <a:stretch/>
        </p:blipFill>
        <p:spPr>
          <a:xfrm>
            <a:off x="4788000" y="3860640"/>
            <a:ext cx="3492000" cy="275724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5" descr="0017-022-Pravila-bezopasnogo-povedenija-v-zone-lesnogo-pozhara-i-ego-tushenie"/>
          <p:cNvPicPr/>
          <p:nvPr/>
        </p:nvPicPr>
        <p:blipFill>
          <a:blip r:embed="rId4"/>
          <a:srcRect l="-266" t="0" r="0" b="39340"/>
          <a:stretch/>
        </p:blipFill>
        <p:spPr>
          <a:xfrm>
            <a:off x="1187280" y="3981600"/>
            <a:ext cx="2982600" cy="287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xn--72-xlclcmc5acae7irb.xn--80atdkbji0d.xn--p1ai/uploads/f1/s/34/954/image/649/37/medium_smotr.jpg"/>
          <p:cNvPicPr/>
          <p:nvPr/>
        </p:nvPicPr>
        <p:blipFill>
          <a:blip r:embed="rId5"/>
          <a:stretch/>
        </p:blipFill>
        <p:spPr>
          <a:xfrm>
            <a:off x="2682720" y="1187280"/>
            <a:ext cx="3952440" cy="45716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00" name="Picture 6" descr="http://pedsovet.su/_ld/328/5484795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1" name="TextBox 4"/>
          <p:cNvSpPr/>
          <p:nvPr/>
        </p:nvSpPr>
        <p:spPr>
          <a:xfrm>
            <a:off x="971640" y="549360"/>
            <a:ext cx="7416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071720" y="409680"/>
            <a:ext cx="7416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ff0000"/>
                </a:solidFill>
                <a:latin typeface="Arial Black"/>
              </a:rPr>
              <a:t>Правила работы с компьютер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9640" y="1471680"/>
            <a:ext cx="62640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сполагайтесь за компьютером так, чтобы расстояние до дисплея было не менее 50 с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ледите за осанкой: не сутультесь и сильно не наклоняйтесь к экрану, клавиату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должительность работы школьника за компьютером не должна превышать 25мин;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dancingchair.ru/upload/medialibrary/c90/c909099bfc7455cfc72648b8735f2830.JPG"/>
          <p:cNvPicPr/>
          <p:nvPr/>
        </p:nvPicPr>
        <p:blipFill>
          <a:blip r:embed="rId2"/>
          <a:stretch/>
        </p:blipFill>
        <p:spPr>
          <a:xfrm>
            <a:off x="6165720" y="1173240"/>
            <a:ext cx="2455560" cy="243504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  <p:cxnSp>
        <p:nvCxnSpPr>
          <p:cNvPr id="105" name="Прямая соединительная линия 8"/>
          <p:cNvCxnSpPr/>
          <p:nvPr/>
        </p:nvCxnSpPr>
        <p:spPr>
          <a:xfrm>
            <a:off x="6227640" y="1150920"/>
            <a:ext cx="2456280" cy="243684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06" name="Прямая соединительная линия 12"/>
          <p:cNvCxnSpPr/>
          <p:nvPr/>
        </p:nvCxnSpPr>
        <p:spPr>
          <a:xfrm flipH="1">
            <a:off x="6057720" y="1195200"/>
            <a:ext cx="2672280" cy="251964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pic>
        <p:nvPicPr>
          <p:cNvPr id="107" name="Picture 4" descr="http://krasnoyarsk.lubino.omskedu.ru/wp-content/uploads/igrok2.jpg"/>
          <p:cNvPicPr/>
          <p:nvPr/>
        </p:nvPicPr>
        <p:blipFill>
          <a:blip r:embed="rId3"/>
          <a:stretch/>
        </p:blipFill>
        <p:spPr>
          <a:xfrm>
            <a:off x="5292720" y="4000680"/>
            <a:ext cx="2808000" cy="2298240"/>
          </a:xfrm>
          <a:prstGeom prst="rect">
            <a:avLst/>
          </a:prstGeom>
          <a:ln w="9525">
            <a:noFill/>
          </a:ln>
        </p:spPr>
      </p:pic>
      <p:cxnSp>
        <p:nvCxnSpPr>
          <p:cNvPr id="108" name="Прямая соединительная линия 18"/>
          <p:cNvCxnSpPr/>
          <p:nvPr/>
        </p:nvCxnSpPr>
        <p:spPr>
          <a:xfrm flipH="1">
            <a:off x="5580000" y="4000320"/>
            <a:ext cx="2543400" cy="247068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09" name="Прямая соединительная линия 20"/>
          <p:cNvCxnSpPr/>
          <p:nvPr/>
        </p:nvCxnSpPr>
        <p:spPr>
          <a:xfrm>
            <a:off x="5292720" y="3970080"/>
            <a:ext cx="2951280" cy="250092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pic>
        <p:nvPicPr>
          <p:cNvPr id="110" name="Picture 9" descr="http://www.edu.cap.ru/home/5503/tehnika%20bezopasnosti.jpg"/>
          <p:cNvPicPr/>
          <p:nvPr/>
        </p:nvPicPr>
        <p:blipFill>
          <a:blip r:embed="rId4"/>
          <a:stretch/>
        </p:blipFill>
        <p:spPr>
          <a:xfrm>
            <a:off x="689040" y="4365720"/>
            <a:ext cx="4211280" cy="210456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7" descr="Как правильно сидеть за компьютером"/>
          <p:cNvPicPr/>
          <p:nvPr/>
        </p:nvPicPr>
        <p:blipFill>
          <a:blip r:embed="rId5"/>
          <a:stretch/>
        </p:blipFill>
        <p:spPr>
          <a:xfrm>
            <a:off x="1922400" y="1195560"/>
            <a:ext cx="6190920" cy="472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  <Words>446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7:46:40Z</dcterms:created>
  <dc:creator>Natali</dc:creator>
  <dc:description/>
  <dc:language>en-US</dc:language>
  <cp:lastModifiedBy>УЧЕНИК4</cp:lastModifiedBy>
  <dcterms:modified xsi:type="dcterms:W3CDTF">2022-11-21T09:09:27Z</dcterms:modified>
  <cp:revision>7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