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ED5-1DAE-4457-B060-3AF107D4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32A0-4F2E-464E-9F2D-141B1B9C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0F70-C92A-4BC1-9731-D496A848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C82A-27D3-4489-8CEC-913AD846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7EBC-7AE4-4292-ABA0-CB43C6BC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CD67-40F4-4807-94FE-B5AF24C4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4402-B6D0-4939-8AB2-BC8B0686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ECEC-CCD3-4929-8B77-63C620CC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AC36-3058-4D9E-897D-B6D92AF1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6D5-CF4E-4D7F-A497-55F851D0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B65-9DC4-4961-A793-34A74E3F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FF6-F9FC-439F-B374-9B4DB422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94BE-4CF2-4918-BEA6-2A11B8A28E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"/>
          <p:cNvPicPr/>
          <p:nvPr/>
        </p:nvPicPr>
        <p:blipFill>
          <a:blip r:embed="rId1"/>
          <a:stretch/>
        </p:blipFill>
        <p:spPr>
          <a:xfrm>
            <a:off x="-32400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 Добрых Дел (3Д)</a:t>
            </a:r>
            <a:br>
              <a:rPr sz="2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ая работа в подготовительной груп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0560" y="2276640"/>
            <a:ext cx="755316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ловек без добрых д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рево без листье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воспитатель: Гурдюмова В.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C:\Users\Дмитрий.Дмитрий-ПК\Desktop\1623350907_48-oir_mobi-p-drevnie-derevya-priroda-krasivo-foto-53.jpg"/>
          <p:cNvPicPr/>
          <p:nvPr/>
        </p:nvPicPr>
        <p:blipFill>
          <a:blip r:embed="rId2"/>
          <a:stretch/>
        </p:blipFill>
        <p:spPr>
          <a:xfrm>
            <a:off x="4716360" y="198900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826560" y="907920"/>
            <a:ext cx="712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ить представление детей о доброте как о ценном качестве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скрыть сущность понятий «добро», «доброта», «добрые поступки» 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ь анализировать поступки;  учить быть честным и справедливым; обогащать словарный зап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 логическое мышление, воображение и внимание; способствовать развитию кругозора детей, умению мыслить и рассужд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е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 доброжелательность, доброту, умение дарить тепло, дорожить близкими люд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179280" y="260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71640" y="692280"/>
            <a:ext cx="4176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ьная работ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сказок, стихов и пословиц о добре, заучивание наизусть, рассматривание иллюстраций, просмотр мультфильм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 было дано задание, на листочке написать то хорошее дело, которое сделал ребе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ие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, презентация «Хорошие и плохие поступки», наглядное пособие- дерево,  вырезанные из зеленой бумаги квадраты с изображением листочка, ножницы. Фонограммы песен «Песня о доброте», «Если добрый т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Дмитрий.Дмитрий-ПК\Desktop\O1r4TcgL3D8.jpg"/>
          <p:cNvPicPr/>
          <p:nvPr/>
        </p:nvPicPr>
        <p:blipFill>
          <a:blip r:embed="rId2"/>
          <a:stretch/>
        </p:blipFill>
        <p:spPr>
          <a:xfrm>
            <a:off x="5580000" y="1413000"/>
            <a:ext cx="303840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179280" y="260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C:\Users\Дмитрий.Дмитрий-ПК\Desktop\g7ewax7-WLo.jpg"/>
          <p:cNvPicPr/>
          <p:nvPr/>
        </p:nvPicPr>
        <p:blipFill>
          <a:blip r:embed="rId2"/>
          <a:stretch/>
        </p:blipFill>
        <p:spPr>
          <a:xfrm>
            <a:off x="1403280" y="765000"/>
            <a:ext cx="3828960" cy="221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C:\Users\Дмитрий.Дмитрий-ПК\Desktop\FMp4YlJBV1Y.jpg"/>
          <p:cNvPicPr/>
          <p:nvPr/>
        </p:nvPicPr>
        <p:blipFill>
          <a:blip r:embed="rId3"/>
          <a:stretch/>
        </p:blipFill>
        <p:spPr>
          <a:xfrm>
            <a:off x="1187280" y="3068640"/>
            <a:ext cx="2140200" cy="2852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C:\Users\Дмитрий.Дмитрий-ПК\Desktop\11.jpg"/>
          <p:cNvPicPr/>
          <p:nvPr/>
        </p:nvPicPr>
        <p:blipFill>
          <a:blip r:embed="rId4"/>
          <a:stretch/>
        </p:blipFill>
        <p:spPr>
          <a:xfrm>
            <a:off x="3851280" y="3284640"/>
            <a:ext cx="1762200" cy="275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C:\Users\Дмитрий.Дмитрий-ПК\Desktop\xdQoL81fW-k.jpg"/>
          <p:cNvPicPr/>
          <p:nvPr/>
        </p:nvPicPr>
        <p:blipFill>
          <a:blip r:embed="rId5"/>
          <a:stretch/>
        </p:blipFill>
        <p:spPr>
          <a:xfrm>
            <a:off x="6012000" y="1268280"/>
            <a:ext cx="240660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179280" y="260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1116000" y="1197000"/>
            <a:ext cx="698508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образовательных областей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е развитие, социально- коммуникативное развитие, речевое развитие, художественно- эстетическое разви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детской деятельност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, продуктивная, восприятие художественной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ная работ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тивизировать словарь детей словами – добро, радость, забота, внимание, послушание, помощь, вежливость, вежливые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ем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ый (беседа, объяснение, художественное сло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ый (показ, демонстра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179280" y="260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4859280" y="1052640"/>
            <a:ext cx="3673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рганизованн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рганизационный мо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еседа о добр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ссматривания наглядного пособия «Дерево добрых де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актическая работа (вырезание листь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гра – загадка «Доскажи словечк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ефлек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Дмитрий.Дмитрий-ПК\Desktop\c4m2JIm6VEU.jpg"/>
          <p:cNvPicPr/>
          <p:nvPr/>
        </p:nvPicPr>
        <p:blipFill>
          <a:blip r:embed="rId2"/>
          <a:stretch/>
        </p:blipFill>
        <p:spPr>
          <a:xfrm>
            <a:off x="324000" y="260280"/>
            <a:ext cx="4248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179280" y="260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1187280" y="2421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30T05:30:03Z</dcterms:created>
  <dc:creator>7777</dc:creator>
  <dc:description/>
  <dc:language>en-US</dc:language>
  <cp:lastModifiedBy>Дмитрий</cp:lastModifiedBy>
  <dcterms:modified xsi:type="dcterms:W3CDTF">2022-11-21T13:37:03Z</dcterms:modified>
  <cp:revision>55</cp:revision>
  <dc:subject/>
  <dc:title>Слайд 1</dc:title>
</cp:coreProperties>
</file>