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F0B-44C0-4F1E-B2F8-088F503B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347-0449-4153-BBC0-BACADF1B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BA7-AAFD-4CCB-90EB-A495EC64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AC9-F1FF-4BC3-812A-9A96D3B0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610-AD51-48D6-8DFC-3915FAED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F33-1283-45C1-BB9B-80B07CF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B56-FBAD-4DE3-BCB2-8166EADB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6F3-1CE1-4F0C-8734-A60535E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543-3E41-4A7B-A1E3-26413B7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8DA-A2F9-4880-94EB-F389B6F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70B-7C78-4E1B-B1BC-9F50AC1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696-48FC-4CAF-9304-C67695E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42BB-9AD0-43D8-9A8F-1A952EE04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1"/>
          <a:stretch/>
        </p:blipFill>
        <p:spPr>
          <a:xfrm>
            <a:off x="-32400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Добрых Дел (3Д)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работа в подготовительной 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2276640"/>
            <a:ext cx="755316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без добрых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рево без листь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: Гурдюмова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Дмитрий.Дмитрий-ПК\Desktop\1623350907_48-oir_mobi-p-drevnie-derevya-priroda-krasivo-foto-53.jpg"/>
          <p:cNvPicPr/>
          <p:nvPr/>
        </p:nvPicPr>
        <p:blipFill>
          <a:blip r:embed="rId2"/>
          <a:stretch/>
        </p:blipFill>
        <p:spPr>
          <a:xfrm>
            <a:off x="4716360" y="1989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26560" y="907920"/>
            <a:ext cx="71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представление детей о доброте как о ценном качеств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крыть сущность понятий «добро», «доброта», «добрые поступки» 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ь анализировать поступки;  учить быть честным и справедливым;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логическое мышление, воображение и внимание; способствовать развитию кругозора детей, умению мыслить и рассуж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 доброжелательность, доброту, умение дарить тепло, дорожить близк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71640" y="692280"/>
            <a:ext cx="417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сказок, стихов и пословиц о добре, заучивание наизусть, рассматривание иллюстраций, просмотр мультфиль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 было дано задание, на листочке написать то хорошее дело, которое сделал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, презентация «Хорошие и плохие поступки», наглядное пособие- дерево,  вырезанные из зеленой бумаги квадраты с изображением листочка, ножницы. Фонограммы песен «Песня о доброте», «Если добрый т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Дмитрий.Дмитрий-ПК\Desktop\O1r4TcgL3D8.jpg"/>
          <p:cNvPicPr/>
          <p:nvPr/>
        </p:nvPicPr>
        <p:blipFill>
          <a:blip r:embed="rId2"/>
          <a:stretch/>
        </p:blipFill>
        <p:spPr>
          <a:xfrm>
            <a:off x="5580000" y="1413000"/>
            <a:ext cx="3038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Дмитрий.Дмитрий-ПК\Desktop\g7ewax7-WLo.jpg"/>
          <p:cNvPicPr/>
          <p:nvPr/>
        </p:nvPicPr>
        <p:blipFill>
          <a:blip r:embed="rId2"/>
          <a:stretch/>
        </p:blipFill>
        <p:spPr>
          <a:xfrm>
            <a:off x="1403280" y="765000"/>
            <a:ext cx="3828960" cy="221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Дмитрий.Дмитрий-ПК\Desktop\FMp4YlJBV1Y.jpg"/>
          <p:cNvPicPr/>
          <p:nvPr/>
        </p:nvPicPr>
        <p:blipFill>
          <a:blip r:embed="rId3"/>
          <a:stretch/>
        </p:blipFill>
        <p:spPr>
          <a:xfrm>
            <a:off x="1187280" y="3068640"/>
            <a:ext cx="2140200" cy="28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Дмитрий.Дмитрий-ПК\Desktop\11.jpg"/>
          <p:cNvPicPr/>
          <p:nvPr/>
        </p:nvPicPr>
        <p:blipFill>
          <a:blip r:embed="rId4"/>
          <a:stretch/>
        </p:blipFill>
        <p:spPr>
          <a:xfrm>
            <a:off x="3851280" y="3284640"/>
            <a:ext cx="1762200" cy="27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Users\Дмитрий.Дмитрий-ПК\Desktop\xdQoL81fW-k.jpg"/>
          <p:cNvPicPr/>
          <p:nvPr/>
        </p:nvPicPr>
        <p:blipFill>
          <a:blip r:embed="rId5"/>
          <a:stretch/>
        </p:blipFill>
        <p:spPr>
          <a:xfrm>
            <a:off x="6012000" y="1268280"/>
            <a:ext cx="24066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116000" y="1197000"/>
            <a:ext cx="69850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, социально- коммуникативное развитие, речевое развитие, художественно- эстетическ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тской деятельност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, продуктивная, восприятие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ировать словарь детей словами – добро, радость, забота, внимание, послушание, помощь, вежливость, вежлив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(беседа, объяснение, художественное сл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 (показ, демон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859280" y="1052640"/>
            <a:ext cx="367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рганизован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ационный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седа о добр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матривания наглядного пособия «Дерево добрых де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ктическая работа (вырезание листь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гра – загадка «Доскажи слов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Дмитрий.Дмитрий-ПК\Desktop\c4m2JIm6VEU.jpg"/>
          <p:cNvPicPr/>
          <p:nvPr/>
        </p:nvPicPr>
        <p:blipFill>
          <a:blip r:embed="rId2"/>
          <a:stretch/>
        </p:blipFill>
        <p:spPr>
          <a:xfrm>
            <a:off x="324000" y="260280"/>
            <a:ext cx="4248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7928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87280" y="2421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05:30:03Z</dcterms:created>
  <dc:creator>7777</dc:creator>
  <dc:description/>
  <dc:language>en-US</dc:language>
  <cp:lastModifiedBy>Дмитрий</cp:lastModifiedBy>
  <dcterms:modified xsi:type="dcterms:W3CDTF">2022-11-21T13:37:03Z</dcterms:modified>
  <cp:revision>55</cp:revision>
  <dc:subject/>
  <dc:title>Слайд 1</dc:title>
</cp:coreProperties>
</file>