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768D-1B75-47B3-8624-AA500212DB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2D1F-7623-4669-80F7-F890B8548A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F18-631B-4C70-A84F-A9FD5238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59A-8D39-4B8A-A690-FCD20D6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AE0-0EED-41A1-868E-F3147F0A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F28-2310-4646-B22A-D41249C1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2CF-B57D-458B-A58F-4B38028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DDA-AF85-48B8-8343-CBC9E03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765-F77E-415B-A128-370A391C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717-6AAC-4490-B437-A9AD3F2D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C32-8E2F-4074-B928-D00F8AF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BF5-2201-415B-8D97-CFBE7E5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F6F-4DEB-4053-A770-19FF4DA2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D71-427D-43DF-905C-D23ED61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C302-8C69-4F4A-8486-86F1AF1FD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517680" y="-274680"/>
            <a:ext cx="10185480" cy="2652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http://s46.radikal.ru/i113/1005/77/75f3436b143c.png"/>
          <p:cNvPicPr/>
          <p:nvPr/>
        </p:nvPicPr>
        <p:blipFill>
          <a:blip r:embed="rId3"/>
          <a:stretch/>
        </p:blipFill>
        <p:spPr>
          <a:xfrm>
            <a:off x="3703680" y="2971800"/>
            <a:ext cx="868320" cy="8445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9"/>
          <p:cNvSpPr/>
          <p:nvPr/>
        </p:nvSpPr>
        <p:spPr>
          <a:xfrm>
            <a:off x="20484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6" descr="http://lenagold.narod.ru/fon/clipart/d/der/derev64.png"/>
          <p:cNvPicPr/>
          <p:nvPr/>
        </p:nvPicPr>
        <p:blipFill>
          <a:blip r:embed="rId4"/>
          <a:stretch/>
        </p:blipFill>
        <p:spPr>
          <a:xfrm>
            <a:off x="-20520" y="1685880"/>
            <a:ext cx="9056520" cy="425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www.lenagold.ru/fon/clipart/v/volk/volk02.png"/>
          <p:cNvPicPr/>
          <p:nvPr/>
        </p:nvPicPr>
        <p:blipFill>
          <a:blip r:embed="rId5"/>
          <a:stretch/>
        </p:blipFill>
        <p:spPr>
          <a:xfrm>
            <a:off x="6588000" y="5295960"/>
            <a:ext cx="223200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http://s020.radikal.ru/i711/1304/94/58858205889b.png"/>
          <p:cNvPicPr/>
          <p:nvPr/>
        </p:nvPicPr>
        <p:blipFill>
          <a:blip r:embed="rId6"/>
          <a:stretch/>
        </p:blipFill>
        <p:spPr>
          <a:xfrm>
            <a:off x="5724360" y="5770440"/>
            <a:ext cx="513000" cy="9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lenagold.narod.ru/fon/clipart/m/med/medved255.png"/>
          <p:cNvPicPr/>
          <p:nvPr/>
        </p:nvPicPr>
        <p:blipFill>
          <a:blip r:embed="rId7"/>
          <a:stretch/>
        </p:blipFill>
        <p:spPr>
          <a:xfrm>
            <a:off x="971640" y="4808520"/>
            <a:ext cx="150804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i007.radikal.ru/0801/5c/d29a5b58509f.png"/>
          <p:cNvPicPr/>
          <p:nvPr/>
        </p:nvPicPr>
        <p:blipFill>
          <a:blip r:embed="rId8"/>
          <a:stretch/>
        </p:blipFill>
        <p:spPr>
          <a:xfrm>
            <a:off x="2593800" y="5238720"/>
            <a:ext cx="2421000" cy="1527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5"/>
          <p:cNvSpPr/>
          <p:nvPr/>
        </p:nvSpPr>
        <p:spPr>
          <a:xfrm>
            <a:off x="-34920" y="580536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Растопыренные руки — «рога» над головой, приподнять брови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00080" y="13968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в лесу опять стряслось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Удивился старый лос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2"/>
          <a:srcRect l="23622" t="4491" r="20841" b="5339"/>
          <a:stretch/>
        </p:blipFill>
        <p:spPr>
          <a:xfrm>
            <a:off x="1882800" y="1585800"/>
            <a:ext cx="5334120" cy="4219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TextBox 5"/>
          <p:cNvSpPr/>
          <p:nvPr/>
        </p:nvSpPr>
        <p:spPr>
          <a:xfrm>
            <a:off x="-8892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Обе руки параллельно друг другу опускаем вниз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-4680" y="77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Это дерево упало -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15622" t="4534" r="19107" b="4077"/>
          <a:stretch/>
        </p:blipFill>
        <p:spPr>
          <a:xfrm>
            <a:off x="723960" y="797040"/>
            <a:ext cx="7688160" cy="5234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0" y="624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«Рубим дрова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ров бобру на зиму мал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rcRect l="24927" t="4745" r="22936" b="4218"/>
          <a:stretch/>
        </p:blipFill>
        <p:spPr>
          <a:xfrm>
            <a:off x="1692360" y="853920"/>
            <a:ext cx="6332400" cy="538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5"/>
          <p:cNvSpPr/>
          <p:nvPr/>
        </p:nvSpPr>
        <p:spPr>
          <a:xfrm>
            <a:off x="0" y="5715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Указательные и средние пальцы на голове 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«уши» и покачать ими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Головой качает рыс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24016" t="2586" r="25745" b="3913"/>
          <a:stretch/>
        </p:blipFill>
        <p:spPr>
          <a:xfrm>
            <a:off x="1765440" y="782640"/>
            <a:ext cx="554328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8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TextBox 5"/>
          <p:cNvSpPr/>
          <p:nvPr/>
        </p:nvSpPr>
        <p:spPr>
          <a:xfrm>
            <a:off x="0" y="597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Погрозить пальцем — покачать вперёд-наза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у-ка, звери, берегис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rcRect l="9552" t="4605" r="9552" b="4394"/>
          <a:stretch/>
        </p:blipFill>
        <p:spPr>
          <a:xfrm>
            <a:off x="395280" y="1003320"/>
            <a:ext cx="842472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Прямоугольник 1"/>
          <p:cNvSpPr/>
          <p:nvPr/>
        </p:nvSpPr>
        <p:spPr>
          <a:xfrm>
            <a:off x="-1440" y="191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 презентации использованы материалы книги О.И. Крупенч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«Тренируем пальчики – развиваем реч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таршая группа детского са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8T12:33:18Z</dcterms:modified>
  <cp:revision>69</cp:revision>
  <dc:subject/>
  <dc:title>Презентация PowerPoint</dc:title>
</cp:coreProperties>
</file>