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1C2-9F7C-44CC-B754-68187D96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ED8-816D-41D8-B331-45D95795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DEE-0EFA-4CD8-8A32-6D32F0AD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B37-0861-429F-9566-AD09C050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4F7-5D64-4A24-8494-69CE7E8E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4D4-AB41-49D1-A04B-67BCD2D1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09D-3B58-4E16-AD12-AB44B5A1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9DF-2F0A-4D17-AC3F-60E32427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F4D-F83A-4696-99B6-78CE259F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02CC-BAD7-4D0B-91DC-283779E7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25C-FD06-4C07-A0B1-820006D9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7CB-9D43-43B5-BCD4-25F88ABF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FE02-EC1D-4D1D-8FFC-B2B1FFC0F4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2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Прямоугольник 1" descr=""/>
          <p:cNvPicPr/>
          <p:nvPr/>
        </p:nvPicPr>
        <p:blipFill>
          <a:blip r:embed="rId2"/>
          <a:stretch/>
        </p:blipFill>
        <p:spPr>
          <a:xfrm>
            <a:off x="-19080" y="-463680"/>
            <a:ext cx="9163080" cy="31878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3"/>
          <a:stretch/>
        </p:blipFill>
        <p:spPr>
          <a:xfrm>
            <a:off x="2465280" y="1295280"/>
            <a:ext cx="667872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TextBox 6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Молоточком я стучу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Дом построить я хоч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3760" y="62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Постукать кулачками друг о дру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C:\Users\наташа\Desktop\сделать игры\Igry\122_Страница_12.jpg"/>
          <p:cNvPicPr/>
          <p:nvPr/>
        </p:nvPicPr>
        <p:blipFill>
          <a:blip r:embed="rId2"/>
          <a:stretch/>
        </p:blipFill>
        <p:spPr>
          <a:xfrm>
            <a:off x="2340000" y="1316160"/>
            <a:ext cx="4103640" cy="5073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5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6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Строю я высокий дом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3760" y="5803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Соединить кончики пальцев обеих рук, поднять выпрямленные ладони ввер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8" descr="C:\Users\наташа\Desktop\сделать игры\Igry\122_Страница_12.jpg"/>
          <p:cNvPicPr/>
          <p:nvPr/>
        </p:nvPicPr>
        <p:blipFill>
          <a:blip r:embed="rId2"/>
          <a:stretch/>
        </p:blipFill>
        <p:spPr>
          <a:xfrm>
            <a:off x="2303640" y="852480"/>
            <a:ext cx="4536720" cy="495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6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6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Буду жить я в доме т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23760" y="62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Похлопать ладон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C:\Users\наташа\Desktop\сделать игры\Igry\122_Страница_12.jpg"/>
          <p:cNvPicPr/>
          <p:nvPr/>
        </p:nvPicPr>
        <p:blipFill>
          <a:blip r:embed="rId2"/>
          <a:stretch/>
        </p:blipFill>
        <p:spPr>
          <a:xfrm>
            <a:off x="2124000" y="762120"/>
            <a:ext cx="5364360" cy="5456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67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9" name="Прямоугольник 4" descr=""/>
          <p:cNvPicPr/>
          <p:nvPr/>
        </p:nvPicPr>
        <p:blipFill>
          <a:blip r:embed="rId2"/>
          <a:stretch/>
        </p:blipFill>
        <p:spPr>
          <a:xfrm>
            <a:off x="-353880" y="1579680"/>
            <a:ext cx="9815400" cy="381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7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Прямоугольник 1"/>
          <p:cNvSpPr/>
          <p:nvPr/>
        </p:nvSpPr>
        <p:spPr>
          <a:xfrm>
            <a:off x="-1440" y="1916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В презентации использованы материалы книги Юлии Соколов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«Игры с пальчи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5:35:27Z</dcterms:created>
  <dc:creator>.</dc:creator>
  <dc:description/>
  <dc:language>en-US</dc:language>
  <cp:lastModifiedBy>.</cp:lastModifiedBy>
  <dcterms:modified xsi:type="dcterms:W3CDTF">2014-01-04T18:17:28Z</dcterms:modified>
  <cp:revision>16</cp:revision>
  <dc:subject/>
  <dc:title>Презентация PowerPoint</dc:title>
</cp:coreProperties>
</file>