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E77-53DC-4812-B67D-0990992C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FBA9-D38C-4F6C-89CF-13C12D06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BAB-0EA4-4C60-BEBB-15DD626E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4FE-156C-4132-8D5C-90A1EDAD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B7B-ED00-4596-8272-04ADA796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7B69-98CC-47AF-B4A1-04283E8C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530-FD99-4140-89DF-134ABA0B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D36-C060-4574-81C0-D54FDE47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87A-9A18-4FB3-B621-7ECA48EF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4A7B-5E7F-44F3-9D7D-6FFFE861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2B6-22C5-474F-94C3-BC467F32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4AC-E8E0-4D19-A2CD-EDB1AF76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5CA4-9B95-472F-87EA-FC347EED17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2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Прямоугольник 1" descr=""/>
          <p:cNvPicPr/>
          <p:nvPr/>
        </p:nvPicPr>
        <p:blipFill>
          <a:blip r:embed="rId2"/>
          <a:stretch/>
        </p:blipFill>
        <p:spPr>
          <a:xfrm>
            <a:off x="-19080" y="-463680"/>
            <a:ext cx="9163080" cy="318780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9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3"/>
          <a:stretch/>
        </p:blipFill>
        <p:spPr>
          <a:xfrm>
            <a:off x="2465280" y="1295280"/>
            <a:ext cx="6678720" cy="608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TextBox 6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Молоточком я стучу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Дом построить я хоч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3760" y="62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Постукать кулачками друг о дру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C:\Users\наташа\Desktop\сделать игры\Igry\122_Страница_12.jpg"/>
          <p:cNvPicPr/>
          <p:nvPr/>
        </p:nvPicPr>
        <p:blipFill>
          <a:blip r:embed="rId2"/>
          <a:stretch/>
        </p:blipFill>
        <p:spPr>
          <a:xfrm>
            <a:off x="2340000" y="1316160"/>
            <a:ext cx="4103640" cy="5073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5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6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Строю я высокий дом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23760" y="5803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Соединить кончики пальцев обеих рук, поднять выпрямленные ладони ввер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8" descr="C:\Users\наташа\Desktop\сделать игры\Igry\122_Страница_12.jpg"/>
          <p:cNvPicPr/>
          <p:nvPr/>
        </p:nvPicPr>
        <p:blipFill>
          <a:blip r:embed="rId2"/>
          <a:stretch/>
        </p:blipFill>
        <p:spPr>
          <a:xfrm>
            <a:off x="2303640" y="852480"/>
            <a:ext cx="4536720" cy="495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6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TextBox 6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Буду жить я в доме т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23760" y="62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Похлопать ладон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C:\Users\наташа\Desktop\сделать игры\Igry\122_Страница_12.jpg"/>
          <p:cNvPicPr/>
          <p:nvPr/>
        </p:nvPicPr>
        <p:blipFill>
          <a:blip r:embed="rId2"/>
          <a:stretch/>
        </p:blipFill>
        <p:spPr>
          <a:xfrm>
            <a:off x="2124000" y="762120"/>
            <a:ext cx="5364360" cy="5456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67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9" name="Прямоугольник 4" descr=""/>
          <p:cNvPicPr/>
          <p:nvPr/>
        </p:nvPicPr>
        <p:blipFill>
          <a:blip r:embed="rId2"/>
          <a:stretch/>
        </p:blipFill>
        <p:spPr>
          <a:xfrm>
            <a:off x="-353880" y="1579680"/>
            <a:ext cx="9815400" cy="381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7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Прямоугольник 1"/>
          <p:cNvSpPr/>
          <p:nvPr/>
        </p:nvSpPr>
        <p:spPr>
          <a:xfrm>
            <a:off x="-1440" y="1916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В презентации использованы материалы книги Юлии Соколов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«Игры с пальчика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1"/>
          <p:cNvSpPr/>
          <p:nvPr/>
        </p:nvSpPr>
        <p:spPr>
          <a:xfrm>
            <a:off x="-144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Автор презентации: Бунецкая Н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4T15:35:27Z</dcterms:created>
  <dc:creator>.</dc:creator>
  <dc:description/>
  <dc:language>en-US</dc:language>
  <cp:lastModifiedBy>.</cp:lastModifiedBy>
  <dcterms:modified xsi:type="dcterms:W3CDTF">2014-01-04T18:17:28Z</dcterms:modified>
  <cp:revision>16</cp:revision>
  <dc:subject/>
  <dc:title>Презентация PowerPoint</dc:title>
</cp:coreProperties>
</file>