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95BB-6BB1-49A8-8A1A-77BBEF2D9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B565-6801-4FCA-ACFC-A043BE0AF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CE2F-065E-4422-9935-B4CF3FF48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8D92-8C49-4E60-990C-9E32E526E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41E3-BC75-4797-8BC9-D46E8BB0C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4853-2482-453A-A26A-7CEFB2367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B9D4-7764-4A9F-A8AD-8A9CDC06B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E614-F27C-4E19-93EC-193A6CA82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F348-18BC-441E-A500-70B5C6CF2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69AE-AA77-44A6-801E-68B329B37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C840-0B65-49D0-BDAE-C0F8CFCDE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A6E7-59B3-4EA2-B783-3D83DD15E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185A0-2508-40B8-B2E4-85C84673C103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B759C-08AB-4E40-81AE-938A567EDD90}" type="slidenum">
              <a:rPr b="1" i="1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2" descr="C:\Users\Рита\Pictures\8-page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268000" y="4572000"/>
            <a:ext cx="6442200" cy="116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Выполнила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rebuchet MS"/>
              </a:rPr>
              <a:t>Емельянова</a:t>
            </a:r>
            <a:r>
              <a:rPr b="1" lang="ru-RU" sz="2000" spc="-1" strike="noStrike">
                <a:solidFill>
                  <a:srgbClr val="002060"/>
                </a:solidFill>
                <a:latin typeface="Trebuchet MS"/>
              </a:rPr>
              <a:t> </a:t>
            </a:r>
            <a:r>
              <a:rPr b="1" lang="en-US" sz="2000" spc="-1" strike="noStrike">
                <a:solidFill>
                  <a:srgbClr val="002060"/>
                </a:solidFill>
                <a:latin typeface="Trebuchet MS"/>
              </a:rPr>
              <a:t>С.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М</a:t>
            </a:r>
            <a:r>
              <a:rPr b="1" lang="en-US" sz="2000" spc="-1" strike="noStrike">
                <a:solidFill>
                  <a:srgbClr val="002060"/>
                </a:solidFill>
                <a:latin typeface="Trebuchet MS"/>
              </a:rPr>
              <a:t>узыкальны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й</a:t>
            </a:r>
            <a:r>
              <a:rPr b="1" lang="en-US" sz="2000" spc="-1" strike="noStrike">
                <a:solidFill>
                  <a:srgbClr val="002060"/>
                </a:solidFill>
                <a:latin typeface="Trebuchet MS"/>
              </a:rPr>
              <a:t> руководител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rebuchet MS"/>
              </a:rPr>
              <a:t>МБДОУ ЗАТО г.Североморск д/с4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85"/>
          <p:cNvSpPr/>
          <p:nvPr/>
        </p:nvSpPr>
        <p:spPr>
          <a:xfrm>
            <a:off x="826920" y="333360"/>
            <a:ext cx="712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89"/>
          <p:cNvSpPr/>
          <p:nvPr/>
        </p:nvSpPr>
        <p:spPr>
          <a:xfrm>
            <a:off x="973080" y="428760"/>
            <a:ext cx="735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ГАУДПО  МО «Институт развития образован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1"/>
          <p:cNvSpPr/>
          <p:nvPr/>
        </p:nvSpPr>
        <p:spPr>
          <a:xfrm>
            <a:off x="1338120" y="2185920"/>
            <a:ext cx="730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«</a:t>
            </a:r>
            <a:r>
              <a:rPr b="0" lang="ru-RU" sz="2400" spc="-1" strike="noStrike">
                <a:solidFill>
                  <a:srgbClr val="6600ff"/>
                </a:solidFill>
                <a:latin typeface="Arial"/>
              </a:rPr>
              <a:t>Реализация методики К. Орфа в процессе музыкального воспитания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44" descr="C:\Users\Рита\Pictures\8-page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45"/>
          <p:cNvSpPr/>
          <p:nvPr/>
        </p:nvSpPr>
        <p:spPr>
          <a:xfrm>
            <a:off x="121320" y="1348920"/>
            <a:ext cx="891936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Каковы принципы методики К.Орфа  - котор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обозначил  сам  автор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учение нужно для развит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Движение, звук, речь, пение вначале неразделим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вязаны и только потом очень постепенно разделяю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Процесс важнее результ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Практика важнее тео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6" descr="C:\Users\Рита\Pictures\8-page-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147"/>
          <p:cNvSpPr/>
          <p:nvPr/>
        </p:nvSpPr>
        <p:spPr>
          <a:xfrm>
            <a:off x="457200" y="274680"/>
            <a:ext cx="8277120" cy="52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Arial"/>
              </a:rPr>
              <a:t>Что  важно  помнить и учитыва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Arial"/>
              </a:rPr>
              <a:t>при организации </a:t>
            </a: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игровых  занятий по </a:t>
            </a:r>
            <a:r>
              <a:rPr b="1" lang="zh-CN" sz="3200" spc="-1" strike="noStrike">
                <a:solidFill>
                  <a:srgbClr val="990099"/>
                </a:solidFill>
                <a:latin typeface="Arial"/>
              </a:rPr>
              <a:t>методике К.Орфа</a:t>
            </a:r>
            <a:r>
              <a:rPr b="1" lang="zh-CN" sz="3200" spc="-1" strike="noStrike">
                <a:solidFill>
                  <a:srgbClr val="cc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Arial"/>
              </a:rPr>
              <a:t>Главный инструмент ребенка на игровых занятиях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– это он сам: руки, ноги, хлопки, щелчки, движения, а также его интонационно выразительная речь и п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Arial"/>
              </a:rPr>
              <a:t>Главный  инструмент педагога на игровых занятиях  по методике Орфа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– это создание  атмосферы радости, объединение музыки, движения и речи, побуждение ребенка  к  творчеств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8" descr="C:\Users\Рита\Pictures\8-page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28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  <a:ea typeface="Arial"/>
              </a:rPr>
              <a:t>Задачи Орф-занятий:</a:t>
            </a:r>
            <a:br>
              <a:rPr sz="3200"/>
            </a:br>
            <a:r>
              <a:rPr b="1" lang="zh-CN" sz="2400" spc="-1" strike="noStrike">
                <a:solidFill>
                  <a:srgbClr val="000099"/>
                </a:solidFill>
                <a:latin typeface="Calibri"/>
              </a:rPr>
              <a:t>(Леонтьева О.Т.)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24000" y="1109160"/>
            <a:ext cx="86407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Arial"/>
              </a:rPr>
              <a:t>Научить детей играть и петь, лучше осознавать свое тело (лучше им управлять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Arial"/>
              </a:rPr>
              <a:t>Дать детям понять определенные закономерности музык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Arial"/>
              </a:rPr>
              <a:t>Тренировать в концентрации внимания, улучшать память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Arial"/>
              </a:rPr>
              <a:t>Научить ориентироваться в пространстве и времени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Arial"/>
              </a:rPr>
              <a:t>Формировать умения  абстрактно мыслить и узнавать разные эмоци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Arial"/>
              </a:rPr>
              <a:t>Учить детей общаться с другими детьм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Arial"/>
              </a:rPr>
              <a:t>Знакомить с различными культурами через музыку и движе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0" descr="C:\Users\Рита\Pictures\8-page-1.jpg"/>
          <p:cNvPicPr/>
          <p:nvPr/>
        </p:nvPicPr>
        <p:blipFill>
          <a:blip r:embed="rId1"/>
          <a:stretch/>
        </p:blipFill>
        <p:spPr>
          <a:xfrm>
            <a:off x="9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6560" y="2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  <a:ea typeface="Arial"/>
              </a:rPr>
              <a:t>Инструменты, используемые </a:t>
            </a:r>
            <a:br>
              <a:rPr sz="3200"/>
            </a:br>
            <a:r>
              <a:rPr b="1" lang="en-US" sz="3200" spc="-1" strike="noStrike">
                <a:solidFill>
                  <a:srgbClr val="990099"/>
                </a:solidFill>
                <a:latin typeface="Arial"/>
                <a:ea typeface="Arial"/>
              </a:rPr>
              <a:t>на Орф-занятии: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alibri"/>
              </a:rPr>
              <a:t>барабаны и ударные инструменты (джембе, маракас, деревянная коробочка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alibri"/>
              </a:rPr>
              <a:t>ксилофоны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alibri"/>
              </a:rPr>
              <a:t>колокольчики, бубенцы, тамбурины, шейкеры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alibri"/>
              </a:rPr>
              <a:t>самодельные инструменты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;</a:t>
            </a:r>
            <a:r>
              <a:rPr b="1" lang="zh-CN" sz="2800" spc="-1" strike="noStrike">
                <a:solidFill>
                  <a:srgbClr val="000099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alibri"/>
              </a:rPr>
              <a:t>звучащие жесты (bodypercussion) - это техника ритмической игры на собственном теле: хлопки, щелчки, притопы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;</a:t>
            </a:r>
            <a:r>
              <a:rPr b="1" lang="zh-CN" sz="2800" spc="-1" strike="noStrike">
                <a:solidFill>
                  <a:srgbClr val="000099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alibri"/>
              </a:rPr>
              <a:t>практически любые предметы (в качестве музыкальных инструментов используются шары, ленты, ткани, палочки, стаканы, веревки)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2" descr="C:\Users\Рита\Pictures\8-page-1.jpg"/>
          <p:cNvPicPr/>
          <p:nvPr/>
        </p:nvPicPr>
        <p:blipFill>
          <a:blip r:embed="rId1"/>
          <a:stretch/>
        </p:blipFill>
        <p:spPr>
          <a:xfrm>
            <a:off x="9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250920" y="1341360"/>
            <a:ext cx="8570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>
              <a:lnSpc>
                <a:spcPct val="100000"/>
              </a:lnSpc>
              <a:spcAft>
                <a:spcPts val="1199"/>
              </a:spcAft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Использование методики Орфа помогает детям хорошо ориентироваться в новом материале, творить, создавать образы, радоваться успехам, общаться со сверстниками, у них повышается психическая активность, развивается эмоциональная сфер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8280" indent="-548280">
              <a:lnSpc>
                <a:spcPct val="100000"/>
              </a:lnSpc>
              <a:spcAft>
                <a:spcPts val="1199"/>
              </a:spcAft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Простой музыкальный и речевой материал для занятий побуждает детей фантазировать, сочинять и импровизировать, что способствует развитию творческого начала ребен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8280" indent="-54828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3.    Атмосфера игрового общения- позволяет каждому ребенку проявить свою индивидуальность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8280" indent="-5482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59"/>
          <p:cNvSpPr/>
          <p:nvPr/>
        </p:nvSpPr>
        <p:spPr>
          <a:xfrm>
            <a:off x="108000" y="100080"/>
            <a:ext cx="856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Результат использования метод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«Музыка для детей»   Карла Орфа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4" descr="C:\Users\Рита\Pictures\8-page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37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  <a:ea typeface="Arial"/>
              </a:rPr>
              <a:t>Музыкально-игровые упражнения</a:t>
            </a:r>
            <a:r>
              <a:rPr b="0" lang="en-US" sz="3200" spc="-1" strike="noStrike">
                <a:solidFill>
                  <a:srgbClr val="990099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990099"/>
                </a:solidFill>
                <a:latin typeface="Arial"/>
                <a:ea typeface="Calibri"/>
              </a:rPr>
              <a:t>системы ОРФ-педагогик</a:t>
            </a:r>
            <a:r>
              <a:rPr b="1" lang="en-US" sz="3200" spc="-1" strike="noStrike">
                <a:solidFill>
                  <a:srgbClr val="990099"/>
                </a:solidFill>
                <a:latin typeface="Arial"/>
                <a:ea typeface="Arial"/>
              </a:rPr>
              <a:t>и</a:t>
            </a:r>
            <a:br>
              <a:rPr sz="3200"/>
            </a:br>
            <a:r>
              <a:rPr b="1" lang="en-US" sz="3600" spc="-1" strike="noStrike">
                <a:solidFill>
                  <a:srgbClr val="383838"/>
                </a:solidFill>
                <a:latin typeface="Arial"/>
                <a:ea typeface="Arial"/>
              </a:rPr>
              <a:t> </a:t>
            </a:r>
            <a:r>
              <a:rPr b="1" lang="en-US" sz="2200" spc="-1" strike="noStrike">
                <a:solidFill>
                  <a:srgbClr val="000099"/>
                </a:solidFill>
                <a:latin typeface="Arial"/>
                <a:ea typeface="Arial"/>
              </a:rPr>
              <a:t>(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Л.А. Баренбойм) 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Rectangle 163"/>
          <p:cNvSpPr/>
          <p:nvPr/>
        </p:nvSpPr>
        <p:spPr>
          <a:xfrm>
            <a:off x="684360" y="1403280"/>
            <a:ext cx="7559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cc0099"/>
                </a:solidFill>
                <a:latin typeface="Arial"/>
              </a:rPr>
              <a:t>На  практике  игровые занятия   с деть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Arial"/>
              </a:rPr>
              <a:t>могут включать в себя ряд музыкально-игровых упражнений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4a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4a6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cc04a6"/>
                </a:solidFill>
                <a:latin typeface="Arial"/>
              </a:rPr>
              <a:t>«Движение и танец»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4a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4a6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cc04a6"/>
                </a:solidFill>
                <a:latin typeface="Arial"/>
              </a:rPr>
              <a:t>«Звучащие жест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4a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4a6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cc04a6"/>
                </a:solidFill>
                <a:latin typeface="Arial"/>
              </a:rPr>
              <a:t>«Поэтическое музицирован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4a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4a6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cc04a6"/>
                </a:solidFill>
                <a:latin typeface="Arial"/>
              </a:rPr>
              <a:t>«Пение с использованием лучших образцов народной культур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4a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4a6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cc04a6"/>
                </a:solidFill>
                <a:latin typeface="Arial"/>
              </a:rPr>
              <a:t>«Речевые игры - упражнения»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4a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4a6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cc04a6"/>
                </a:solidFill>
                <a:latin typeface="Arial"/>
              </a:rPr>
              <a:t>«Игра с музыкальными инструментам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4a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4a6"/>
                </a:solidFill>
                <a:latin typeface="Arial"/>
              </a:rPr>
              <a:t>«Элементарный музыкальный театр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8" descr="C:\Users\Рита\Pictures\8-page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2"/>
          <p:cNvSpPr/>
          <p:nvPr/>
        </p:nvSpPr>
        <p:spPr>
          <a:xfrm>
            <a:off x="1214280" y="1000080"/>
            <a:ext cx="5643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Музыка – это движение в звуке, а движение – это музыка в танце. Речь может быть музыкой сама по себе, совершенно отделившись от прямого значения используемых слов» (Даг Гудкин). Синтез движения, музыки , слова, музицирования, в Орф-подходе – это современное воплощение мирового фолькл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6" descr="C:\Users\Рита\Pictures\8-page-1.jpg"/>
          <p:cNvPicPr/>
          <p:nvPr/>
        </p:nvPicPr>
        <p:blipFill>
          <a:blip r:embed="rId1"/>
          <a:stretch/>
        </p:blipFill>
        <p:spPr>
          <a:xfrm>
            <a:off x="0" y="-28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  <a:ea typeface="Arial"/>
              </a:rPr>
              <a:t>Список литературы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66640" y="785880"/>
            <a:ext cx="835344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Arial"/>
              </a:rPr>
              <a:t>. </a:t>
            </a:r>
            <a:r>
              <a:rPr b="1" lang="en-US" sz="2200" spc="-1" strike="noStrike">
                <a:solidFill>
                  <a:srgbClr val="000099"/>
                </a:solidFill>
                <a:latin typeface="Arial"/>
                <a:ea typeface="Arial"/>
              </a:rPr>
              <a:t>Ветлугина Н.А. Теория и методика музыкального воспитания в детском саду.: учебное пособие для студентов пед. ин-тов по спец. «Дошкольная педагогика и психология» / Н.А. Ветлугина, А.В. Кенеман. – М.: Просвещение, 1983. – 255 с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  <a:ea typeface="Arial"/>
              </a:rPr>
              <a:t>2. Леонтьева О.Т. Карл Орф. – М.: Музыка, 1984. – 345 с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  <a:ea typeface="Arial"/>
              </a:rPr>
              <a:t>3. Система детского муз воспитания К. Орфа / ред. Л.А. Баренбойм. – Л.: Музыка, 1970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  <a:ea typeface="Arial"/>
              </a:rPr>
              <a:t>4. Тютюнникова Т.Э. Вариации на темы Шульверка. – СПб.: Аничков мост, 2017. – 67 с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  <a:ea typeface="Arial"/>
              </a:rPr>
              <a:t>5. Тютюнникова Т.Э. Уроки музыки. Система обучения К. Орфа. – М.: АСТ: Астрель, 2000. – 96 с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  <a:ea typeface="Arial"/>
              </a:rPr>
              <a:t>6. Элементарное музыкальное воспитание по системе К. Орфа / ред. Л.А. Баренбойм. – М.: Советский композитор, 1978. – 376 с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4" descr="C:\Users\Рита\Pictures\8-page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68160" y="242064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 Black"/>
              </a:rPr>
              <a:t>«КАЖДЫЙ РЕБЕНОК МУЗЫКАЛЕН!»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03280" y="3715920"/>
            <a:ext cx="302436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800080"/>
                </a:solidFill>
                <a:latin typeface="Calibri"/>
              </a:rPr>
              <a:t>Карл Орф</a:t>
            </a: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6" descr="C:\Users\Рита\Pictures\8-page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97"/>
          <p:cNvSpPr/>
          <p:nvPr/>
        </p:nvSpPr>
        <p:spPr>
          <a:xfrm>
            <a:off x="709560" y="549360"/>
            <a:ext cx="772308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Развитие </a:t>
            </a:r>
            <a:r>
              <a:rPr b="1" lang="en-US" sz="3200" spc="-1" strike="noStrike">
                <a:solidFill>
                  <a:srgbClr val="cc3399"/>
                </a:solidFill>
                <a:latin typeface="Arial"/>
              </a:rPr>
              <a:t>музыка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Под музыкально-творческим развитием ребён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прежде всего подразумевается сочетание  его музыкальных  способностей и творческой актив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Музыкальность – комплекс способностей необходимых для музыкальн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Ладовое чувств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Способность к слуховому представлен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Музыкально – ритмическое чув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Главный показатель музыкальности – это эмоциональная отзывчивость на музы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8" descr="C:\Users\Рита\Pictures\8-page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109"/>
          <p:cNvSpPr/>
          <p:nvPr/>
        </p:nvSpPr>
        <p:spPr>
          <a:xfrm>
            <a:off x="1116000" y="765000"/>
            <a:ext cx="233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11"/>
          <p:cNvSpPr/>
          <p:nvPr/>
        </p:nvSpPr>
        <p:spPr>
          <a:xfrm>
            <a:off x="1095480" y="784080"/>
            <a:ext cx="233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13"/>
          <p:cNvSpPr/>
          <p:nvPr/>
        </p:nvSpPr>
        <p:spPr>
          <a:xfrm>
            <a:off x="636480" y="738360"/>
            <a:ext cx="8064720" cy="51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Современная образователь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практика, ФГОС ставит перед педагога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задачу поиска  эффективного инструмен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для организации образовательн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деятельности, для развития воспитан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Таким комплексным, интегрированн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инструментом является метод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3399"/>
                </a:solidFill>
                <a:latin typeface="Arial"/>
              </a:rPr>
              <a:t>Карла Орфа «Музыка  для детей».</a:t>
            </a:r>
            <a:r>
              <a:rPr b="0" lang="en-US" sz="2800" spc="-1" strike="noStrike">
                <a:solidFill>
                  <a:srgbClr val="cc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0" descr="C:\Users\Рита\Pictures\8-page-1.jpg"/>
          <p:cNvPicPr/>
          <p:nvPr/>
        </p:nvPicPr>
        <p:blipFill>
          <a:blip r:embed="rId1"/>
          <a:stretch/>
        </p:blipFill>
        <p:spPr>
          <a:xfrm>
            <a:off x="1584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01640" y="227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3399"/>
                </a:solidFill>
                <a:uFillTx/>
                <a:latin typeface="Arial"/>
                <a:ea typeface="Arial"/>
              </a:rPr>
              <a:t>Орф педагогика </a:t>
            </a:r>
            <a:r>
              <a:rPr b="1" lang="en-US" sz="2800" spc="-1" strike="noStrike">
                <a:solidFill>
                  <a:srgbClr val="cc3399"/>
                </a:solidFill>
                <a:latin typeface="Arial"/>
                <a:ea typeface="Arial"/>
              </a:rPr>
              <a:t>-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 это воспитание и обучение через искусство и творчество, основанное на связи музыки, движения и речи.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cc3399"/>
                </a:solidFill>
                <a:latin typeface="Arial"/>
                <a:ea typeface="Arial"/>
              </a:rPr>
              <a:t>Эта креативная педагогика позволяе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развивать не только музыкально-двигательные способности детей (петь, лучше чувствовать своѐ тело, танцевать, играть на инструментах), но и полноценно развивать личность ребѐнка, раскрывать его внутренний потенциал.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2" descr="C:\Users\Рита\Pictures\8-page-1.jpg"/>
          <p:cNvPicPr/>
          <p:nvPr/>
        </p:nvPicPr>
        <p:blipFill>
          <a:blip r:embed="rId1"/>
          <a:stretch/>
        </p:blipFill>
        <p:spPr>
          <a:xfrm>
            <a:off x="111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471760" y="1628640"/>
            <a:ext cx="62769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  <a:ea typeface="Arial"/>
              </a:rPr>
              <a:t>Карл Ор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(1895-1982) - немецкий композитор и педагог, основатель данного подхода. Он известен по сценической кантате «CarminaBurana» (1937). Композитор ввел термин «элементарное музицирование», то есть процесс, состоящий из нескольких элементов: пения, импровизации, движения и игры на инструментах. Карл Орф разработал детские песенки, пьесы и упражнения (Орфшульверк).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1" name="Picture 34" descr=""/>
          <p:cNvPicPr/>
          <p:nvPr/>
        </p:nvPicPr>
        <p:blipFill>
          <a:blip r:embed="rId2"/>
          <a:stretch/>
        </p:blipFill>
        <p:spPr>
          <a:xfrm>
            <a:off x="166680" y="785880"/>
            <a:ext cx="2249640" cy="3246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2" name="Rectangle 119"/>
          <p:cNvSpPr/>
          <p:nvPr/>
        </p:nvSpPr>
        <p:spPr>
          <a:xfrm>
            <a:off x="324000" y="484956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Самая главная  идея Методики Карла Орфа: 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«дети играют в музыку».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Дети одновременно и играют, и обучаются, даже не замечая, что их обучают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36" descr="C:\Users\Рита\Pictures\8-page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125"/>
          <p:cNvSpPr/>
          <p:nvPr/>
        </p:nvSpPr>
        <p:spPr>
          <a:xfrm>
            <a:off x="324000" y="404640"/>
            <a:ext cx="8569080" cy="64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  <a:ea typeface="宋体"/>
              </a:rPr>
              <a:t>Методика «Музыка для дете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  <a:ea typeface="宋体"/>
              </a:rPr>
              <a:t>Карла Орфа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  <a:ea typeface="宋体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представляет большой интерес благодаря несомненным </a:t>
            </a:r>
            <a:r>
              <a:rPr b="1" lang="en-US" sz="2400" spc="-1" strike="noStrike" u="sng">
                <a:solidFill>
                  <a:srgbClr val="cc3399"/>
                </a:solidFill>
                <a:uFillTx/>
                <a:latin typeface="Arial"/>
              </a:rPr>
              <a:t>преимуществам</a:t>
            </a:r>
            <a:r>
              <a:rPr b="1" lang="en-US" sz="2400" spc="-1" strike="noStrike">
                <a:solidFill>
                  <a:srgbClr val="cc33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для организации музыкальных занятий не требу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создания  особой развивающей среды;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• система легко сочетается с другими методика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развития детей ,позволяет использовать лучш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образцы народной культуры;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• методика Карла Орфа учитывает индивидуаль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особенности ребенка и позволяет эффектив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взаимодействовать детям с различными навыкам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способностями и потребностями;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• методика закладывает огромный потенциал д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развития детей и их дальнейшей творческой деятельности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(Н.А. Ветлугина, А.В. Кенеман)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8" descr="C:\Users\Рита\Pictures\8-page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0" descr="C:\Users\Рита\Pictures\8-page-1.jpg"/>
          <p:cNvPicPr/>
          <p:nvPr/>
        </p:nvPicPr>
        <p:blipFill>
          <a:blip r:embed="rId2"/>
          <a:stretch/>
        </p:blipFill>
        <p:spPr>
          <a:xfrm>
            <a:off x="64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131"/>
          <p:cNvSpPr/>
          <p:nvPr/>
        </p:nvSpPr>
        <p:spPr>
          <a:xfrm>
            <a:off x="1370160" y="126000"/>
            <a:ext cx="6703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Arial"/>
              </a:rPr>
              <a:t>СПОСОБЫ ОРГАНИЗАЦИИ РАБОТЫ С ВОСПИТАННИ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33"/>
          <p:cNvSpPr/>
          <p:nvPr/>
        </p:nvSpPr>
        <p:spPr>
          <a:xfrm>
            <a:off x="438120" y="1138320"/>
            <a:ext cx="856944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99"/>
                </a:solidFill>
                <a:latin typeface="Arial"/>
              </a:rPr>
              <a:t>      </a:t>
            </a:r>
            <a:r>
              <a:rPr b="1" lang="en-US" sz="2200" spc="-1" strike="noStrike">
                <a:solidFill>
                  <a:srgbClr val="cc3399"/>
                </a:solidFill>
                <a:latin typeface="Arial"/>
              </a:rPr>
              <a:t>Игра-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с ее помощью  на музыкальных занятиях по методике Карла Орфа создается атмосфера игрового общения, где каждый ребенок наравне со  взрослым может проявить свою индивидуальность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en-US" sz="2200" spc="-1" strike="noStrike">
                <a:solidFill>
                  <a:srgbClr val="cc3399"/>
                </a:solidFill>
                <a:latin typeface="Arial"/>
              </a:rPr>
              <a:t>Импровизация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- иными словами, организованная спонтанность. Легче получается у детей, чем у взрослых. Импровизация, экспериментирование, свободный разговор с телом, голосом, инструменто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en-US" sz="2200" spc="-1" strike="noStrike">
                <a:solidFill>
                  <a:srgbClr val="cc3399"/>
                </a:solidFill>
                <a:latin typeface="Arial"/>
              </a:rPr>
              <a:t>Игровая  музыкальная театрализация</a:t>
            </a:r>
            <a:r>
              <a:rPr b="1" lang="en-US" sz="2200" spc="-1" strike="noStrike">
                <a:solidFill>
                  <a:srgbClr val="990099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общение педагога и детей окруженное музыкой  и игрой - становится более результативным, эмоциональным, импровизационным, ярко запоминающимся. Мы используем  не просто музыку, а музыку, связанную с движением и речью, передачей образа . </a:t>
            </a:r>
            <a:r>
              <a:rPr b="1" lang="en-US" sz="2200" spc="-1" strike="noStrike">
                <a:solidFill>
                  <a:srgbClr val="cc3399"/>
                </a:solidFill>
                <a:latin typeface="Arial"/>
              </a:rPr>
              <a:t>Музыка с элементами театра, если попытаться выразить инач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42" descr="C:\Users\Рита\Pictures\8-page-1.jpg"/>
          <p:cNvPicPr/>
          <p:nvPr/>
        </p:nvPicPr>
        <p:blipFill>
          <a:blip r:embed="rId1"/>
          <a:stretch/>
        </p:blipFill>
        <p:spPr>
          <a:xfrm>
            <a:off x="9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139"/>
          <p:cNvSpPr/>
          <p:nvPr/>
        </p:nvSpPr>
        <p:spPr>
          <a:xfrm>
            <a:off x="333360" y="173160"/>
            <a:ext cx="8496360" cy="60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Arial"/>
              </a:rPr>
              <a:t>Виды деятельност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3399"/>
                </a:solidFill>
                <a:latin typeface="Arial"/>
              </a:rPr>
              <a:t>объединенные  методи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99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cc3399"/>
                </a:solidFill>
                <a:latin typeface="Arial"/>
              </a:rPr>
              <a:t>Движение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– это источник любой человеческ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и инструмент мышления  присутствует на каждом Орф-занят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99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cc3399"/>
                </a:solidFill>
                <a:latin typeface="Arial"/>
              </a:rPr>
              <a:t>Танец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- это организованное движение в пространстве-време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99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cc3399"/>
                </a:solidFill>
                <a:latin typeface="Arial"/>
              </a:rPr>
              <a:t>Ритм.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 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Как говорил Орф, «вначале был барабан». Ритм лежит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основе движения и в основе музы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99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cc3399"/>
                </a:solidFill>
                <a:latin typeface="Arial"/>
              </a:rPr>
              <a:t>Пение.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 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Каждый человек одарен голосом не только для говорени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но и для вокализирования. Голос – самый богатый возможностя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инструмент, который всегда при нас. В бытовой речи мы используем ничтожную долю того, что может наш голо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99"/>
                </a:solidFill>
                <a:latin typeface="Arial"/>
              </a:rPr>
              <a:t>Речь.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 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В быту смысл слова важнее, чем его звуки. Однако в поэзи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традиционной культуре и детской культуре звуки слов, их рит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не менее важны. Методика Орфа позволяет перевести внимание детей со смысла слов на музыкальность и красочность их звуч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99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cc3399"/>
                </a:solidFill>
                <a:latin typeface="Arial"/>
              </a:rPr>
              <a:t>Театр.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История, сказка, миф – нужны в работе  с детьми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для объединения в осмысленное целое через образ или сюжет игры  все вышеперечисленные виды деятельности (ритм, движение и т.д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3-19T09:41:33Z</dcterms:created>
  <dc:creator>Методист</dc:creator>
  <dc:description/>
  <dc:language>en-US</dc:language>
  <cp:lastModifiedBy>Кирилл Ивахненко</cp:lastModifiedBy>
  <dcterms:modified xsi:type="dcterms:W3CDTF">2021-12-05T18:51:50Z</dcterms:modified>
  <cp:revision>5</cp:revision>
  <dc:subject/>
  <dc:title>Эффективные формы и методы работы с детьми в музыкальном развитии. Методика Карла Орфа в развитии музыкальности дошкольников</dc:title>
</cp:coreProperties>
</file>