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ECD5-4088-4A6A-857D-4CA75D46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1AF-612D-42F7-83B0-33800846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D01-936E-4960-B779-D70B0C7C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DE18-CB0B-4C8D-A852-3B3A2B37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E859-4FC5-4184-8EB2-1D087050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976D-3484-4671-AE8B-3F3597E5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9486-FA20-4A45-A00D-6D411B84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598-A987-46F1-9907-8296B6C6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9987-48C5-4BAB-AD20-8C37B247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A257-C4A3-40A6-AA0E-AE48295E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1DA7-0343-440F-9D9B-DF87FB13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4C5-4E20-4F09-BFFD-4C46AF14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2A95-048A-4EA8-8E0A-5BE5601456D2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099C-DD92-4E99-8788-FA19DCE5116B}" type="slidenum">
              <a:rPr b="1" i="1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2" descr="C:\Users\Рита\Pictures\8-pag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68000" y="4572000"/>
            <a:ext cx="644220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ыполнила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rebuchet MS"/>
              </a:rPr>
              <a:t>Емельянова</a:t>
            </a: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Trebuchet MS"/>
              </a:rPr>
              <a:t>С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002060"/>
                </a:solidFill>
                <a:latin typeface="Trebuchet MS"/>
              </a:rPr>
              <a:t>узыкальны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002060"/>
                </a:solidFill>
                <a:latin typeface="Trebuchet MS"/>
              </a:rPr>
              <a:t> руководител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rebuchet MS"/>
              </a:rPr>
              <a:t>МБДОУ ЗАТО г.Североморск д/с4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85"/>
          <p:cNvSpPr/>
          <p:nvPr/>
        </p:nvSpPr>
        <p:spPr>
          <a:xfrm>
            <a:off x="826920" y="333360"/>
            <a:ext cx="712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9"/>
          <p:cNvSpPr/>
          <p:nvPr/>
        </p:nvSpPr>
        <p:spPr>
          <a:xfrm>
            <a:off x="973080" y="42876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ГАУДПО  МО «Институт развития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1"/>
          <p:cNvSpPr/>
          <p:nvPr/>
        </p:nvSpPr>
        <p:spPr>
          <a:xfrm>
            <a:off x="1338120" y="2185920"/>
            <a:ext cx="730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Реализация методики К. Орфа в процессе музыкального воспитания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4" descr="C:\Users\Рита\Pictures\8-pag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5"/>
          <p:cNvSpPr/>
          <p:nvPr/>
        </p:nvSpPr>
        <p:spPr>
          <a:xfrm>
            <a:off x="121320" y="1348920"/>
            <a:ext cx="89193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аковы принципы методики К.Орфа  -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бозначил  сам  авто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учение нужно для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Движение, звук, речь, пение вначале неразделим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язаны и только потом очень постепенно раздел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Процесс важнее резуль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Практика важнее те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6" descr="C:\Users\Рита\Pictures\8-page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47"/>
          <p:cNvSpPr/>
          <p:nvPr/>
        </p:nvSpPr>
        <p:spPr>
          <a:xfrm>
            <a:off x="457200" y="274680"/>
            <a:ext cx="82771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Что  важно  помнить и учиты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при организации 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игровых  занятий по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методике К.Орфа</a:t>
            </a:r>
            <a:r>
              <a:rPr b="1" lang="zh-CN" sz="32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Главный инструмент ребенка на игровых занятия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– это он сам: руки, ноги, хлопки, щелчки, движения, а также его интонационно выразительная речь и п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Главный  инструмент педагога на игровых занятиях  по методике Орф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– это создание  атмосферы радости, объединение музыки, движения и речи, побуждение ребенка  к  творчест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8" descr="C:\Users\Рита\Pictures\8-pag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8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Задачи Орф-занятий:</a:t>
            </a:r>
            <a:br>
              <a:rPr sz="3200"/>
            </a:br>
            <a:r>
              <a:rPr b="1" lang="zh-CN" sz="2400" spc="-1" strike="noStrike">
                <a:solidFill>
                  <a:srgbClr val="000099"/>
                </a:solidFill>
                <a:latin typeface="Calibri"/>
              </a:rPr>
              <a:t>(Леонтьева О.Т.)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1109160"/>
            <a:ext cx="8640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Научить детей играть и петь, лучше осознавать свое тело (лучше им управлять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Дать детям понять определенные закономерности музы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Тренировать в концентрации внимания, улучшать памя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Научить ориентироваться в пространстве и времен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Формировать умения  абстрактно мыслить и узнавать разные эмо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Учить детей общаться с другими деть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Знакомить с различными культурами через музыку и движ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0" descr="C:\Users\Рита\Pictures\8-page-1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656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Инструменты, используемые </a:t>
            </a: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на Орф-занятии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alibri"/>
              </a:rPr>
              <a:t>барабаны и ударные инструменты (джембе, маракас, деревянная коробочк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alibri"/>
              </a:rPr>
              <a:t>ксилофон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alibri"/>
              </a:rPr>
              <a:t>колокольчики, бубенцы, тамбурины, шейкеры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alibri"/>
              </a:rPr>
              <a:t>самодельные инструменты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alibri"/>
              </a:rPr>
              <a:t>звучащие жесты (bodypercussion) - это техника ритмической игры на собственном теле: хлопки, щелчки, притопы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alibri"/>
              </a:rPr>
              <a:t>практически любые предметы (в качестве музыкальных инструментов используются шары, ленты, ткани, палочки, стаканы, веревки)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2" descr="C:\Users\Рита\Pictures\8-page-1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50920" y="1341360"/>
            <a:ext cx="857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100000"/>
              </a:lnSpc>
              <a:spcAft>
                <a:spcPts val="1199"/>
              </a:spcAft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Использование методики Орфа помогает детям хорошо ориентироваться в новом материале, творить, создавать образы, радоваться успехам, общаться со сверстниками, у них повышается психическая активность, развивается эмоциональная сф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100000"/>
              </a:lnSpc>
              <a:spcAft>
                <a:spcPts val="1199"/>
              </a:spcAft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Простой музыкальный и речевой материал для занятий побуждает детей фантазировать, сочинять и импровизировать, что способствует развитию творческого начала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.    Атмосфера игрового общения- позволяет каждому ребенку проявить свою индивидуальнос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59"/>
          <p:cNvSpPr/>
          <p:nvPr/>
        </p:nvSpPr>
        <p:spPr>
          <a:xfrm>
            <a:off x="108000" y="10008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Результат использования метод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«Музыка для детей»   Карла Орфа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4" descr="C:\Users\Рита\Pictures\8-pag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37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Музыкально-игровые упражнения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Calibri"/>
              </a:rPr>
              <a:t>системы ОРФ-педагогик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и</a:t>
            </a:r>
            <a:br>
              <a:rPr sz="3200"/>
            </a:br>
            <a:r>
              <a:rPr b="1" lang="en-US" sz="3600" spc="-1" strike="noStrike">
                <a:solidFill>
                  <a:srgbClr val="383838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Л.А. Баренбойм)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Rectangle 163"/>
          <p:cNvSpPr/>
          <p:nvPr/>
        </p:nvSpPr>
        <p:spPr>
          <a:xfrm>
            <a:off x="684360" y="1403280"/>
            <a:ext cx="75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</a:rPr>
              <a:t>На  практике  игровые занятия   с дет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Arial"/>
              </a:rPr>
              <a:t>могут включать в себя ряд музыкально-игровых упражнений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4a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«Движение и танец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4a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«Звучащие жес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4a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«Поэтическое музицир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4a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«Пение с использованием лучших образцов народной культу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4a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«Речевые игры - упражнения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4a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«Игра с музыкальными инструмент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4a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4a6"/>
                </a:solidFill>
                <a:latin typeface="Arial"/>
              </a:rPr>
              <a:t>«Элементарный музыкальный теат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8" descr="C:\Users\Рита\Pictures\8-pag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1214280" y="1000080"/>
            <a:ext cx="5643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узыка – это движение в звуке, а движение – это музыка в танце. Речь может быть музыкой сама по себе, совершенно отделившись от прямого значения используемых слов» (Даг Гудкин). Синтез движения, музыки , слова, музицирования, в Орф-подходе – это современное воплощение мирового фолькл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6" descr="C:\Users\Рита\Pictures\8-page-1.jpg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Arial"/>
              </a:rPr>
              <a:t>Список литератур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66640" y="785880"/>
            <a:ext cx="8353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"/>
              </a:rPr>
              <a:t>Ветлугина Н.А. Теория и методика музыкального воспитания в детском саду.: учебное пособие для студентов пед. ин-тов по спец. «Дошкольная педагогика и психология» / Н.А. Ветлугина, А.В. Кенеман. – М.: Просвещение, 1983. – 255 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"/>
              </a:rPr>
              <a:t>2. Леонтьева О.Т. Карл Орф. – М.: Музыка, 1984. – 345 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"/>
              </a:rPr>
              <a:t>3. Система детского муз воспитания К. Орфа / ред. Л.А. Баренбойм. – Л.: Музыка, 197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"/>
              </a:rPr>
              <a:t>4. Тютюнникова Т.Э. Вариации на темы Шульверка. – СПб.: Аничков мост, 2017. – 67 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"/>
              </a:rPr>
              <a:t>5. Тютюнникова Т.Э. Уроки музыки. Система обучения К. Орфа. – М.: АСТ: Астрель, 2000. – 96 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"/>
              </a:rPr>
              <a:t>6. Элементарное музыкальное воспитание по системе К. Орфа / ред. Л.А. Баренбойм. – М.: Советский композитор, 1978. – 376 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4" descr="C:\Users\Рита\Pictures\8-pag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6816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 Black"/>
              </a:rPr>
              <a:t>«КАЖДЫЙ РЕБЕНОК МУЗЫКАЛЕН!»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3280" y="3715920"/>
            <a:ext cx="30243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Карл Орф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6" descr="C:\Users\Рита\Pictures\8-pag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7"/>
          <p:cNvSpPr/>
          <p:nvPr/>
        </p:nvSpPr>
        <p:spPr>
          <a:xfrm>
            <a:off x="709560" y="549360"/>
            <a:ext cx="77230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Развитие 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музыка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од музыкально-творческим развитием ребё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режде всего подразумевается сочетание  его музыкальных  способностей и творческой 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Музыкальность – комплекс способностей необходимых для музыка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Ладовое чув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пособность к слуховому представл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Музыкально – ритмическое чув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Главный показатель музыкальности – это эмоциональная отзывчивость на му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8" descr="C:\Users\Рита\Pictures\8-pag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9"/>
          <p:cNvSpPr/>
          <p:nvPr/>
        </p:nvSpPr>
        <p:spPr>
          <a:xfrm>
            <a:off x="1116000" y="765000"/>
            <a:ext cx="233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1"/>
          <p:cNvSpPr/>
          <p:nvPr/>
        </p:nvSpPr>
        <p:spPr>
          <a:xfrm>
            <a:off x="1095480" y="784080"/>
            <a:ext cx="233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3"/>
          <p:cNvSpPr/>
          <p:nvPr/>
        </p:nvSpPr>
        <p:spPr>
          <a:xfrm>
            <a:off x="636480" y="738360"/>
            <a:ext cx="806472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овременная образовате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рактика, ФГОС ставит перед педагог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задачу поиска  эффективного инструмен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для организации образовате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деятельности, для развития воспитан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Таким комплексным, интегрирован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инструментом является метод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Карла Орфа «Музыка  для детей».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0" descr="C:\Users\Рита\Pictures\8-page-1.jpg"/>
          <p:cNvPicPr/>
          <p:nvPr/>
        </p:nvPicPr>
        <p:blipFill>
          <a:blip r:embed="rId1"/>
          <a:stretch/>
        </p:blipFill>
        <p:spPr>
          <a:xfrm>
            <a:off x="158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1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99"/>
                </a:solidFill>
                <a:uFillTx/>
                <a:latin typeface="Arial"/>
                <a:ea typeface="Arial"/>
              </a:rPr>
              <a:t>Орф педагогика 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  <a:ea typeface="Arial"/>
              </a:rPr>
              <a:t>-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это воспитание и обучение через искусство и творчество, основанное на связи музыки, движения и речи.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3399"/>
                </a:solidFill>
                <a:latin typeface="Arial"/>
                <a:ea typeface="Arial"/>
              </a:rPr>
              <a:t>Эта креативная педагогика позволяе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развивать не только музыкально-двигательные способности детей (петь, лучше чувствовать своѐ тело, танцевать, играть на инструментах), но и полноценно развивать личность ребѐнка, раскрывать его внутренний потенциал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2" descr="C:\Users\Рита\Pictures\8-page-1.jpg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1760" y="1628640"/>
            <a:ext cx="6276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Карл Ор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(1895-1982) - немецкий композитор и педагог, основатель данного подхода. Он известен по сценической кантате «CarminaBurana» (1937). Композитор ввел термин «элементарное музицирование», то есть процесс, состоящий из нескольких элементов: пения, импровизации, движения и игры на инструментах. Карл Орф разработал детские песенки, пьесы и упражнения (Орфшульверк)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1" name="Picture 34" descr=""/>
          <p:cNvPicPr/>
          <p:nvPr/>
        </p:nvPicPr>
        <p:blipFill>
          <a:blip r:embed="rId2"/>
          <a:stretch/>
        </p:blipFill>
        <p:spPr>
          <a:xfrm>
            <a:off x="166680" y="785880"/>
            <a:ext cx="2249640" cy="324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Rectangle 119"/>
          <p:cNvSpPr/>
          <p:nvPr/>
        </p:nvSpPr>
        <p:spPr>
          <a:xfrm>
            <a:off x="324000" y="48495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амая главная  идея Методики Карла Орфа: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«дети играют в музыку»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Дети одновременно и играют, и обучаются, даже не замечая, что их обучают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6" descr="C:\Users\Рита\Pictures\8-pag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25"/>
          <p:cNvSpPr/>
          <p:nvPr/>
        </p:nvSpPr>
        <p:spPr>
          <a:xfrm>
            <a:off x="324000" y="404640"/>
            <a:ext cx="856908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  <a:ea typeface="宋体"/>
              </a:rPr>
              <a:t>Методика «Музыка для дет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  <a:ea typeface="宋体"/>
              </a:rPr>
              <a:t>Карла Орфа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  <a:ea typeface="宋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редставляет большой интерес благодаря несомненным </a:t>
            </a:r>
            <a:r>
              <a:rPr b="1" lang="en-US" sz="2400" spc="-1" strike="noStrike" u="sng">
                <a:solidFill>
                  <a:srgbClr val="cc3399"/>
                </a:solidFill>
                <a:uFillTx/>
                <a:latin typeface="Arial"/>
              </a:rPr>
              <a:t>преимуществам</a:t>
            </a: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ля организации музыкальных занятий не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оздания  особой развивающей среды;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• система легко сочетается с другими методик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развития детей ,позволяет использовать лучш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образцы народной культуры;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• методика Карла Орфа учитывает индивиду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особенности ребенка и позволяет эффектив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взаимодействовать детям с различными навык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пособностями и потребностями;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• методика закладывает огромный потенциал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развития детей и их дальнейшей творческой деятельност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(Н.А. Ветлугина, А.В. Кенеман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8" descr="C:\Users\Рита\Pictures\8-pag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0" descr="C:\Users\Рита\Pictures\8-page-1.jpg"/>
          <p:cNvPicPr/>
          <p:nvPr/>
        </p:nvPicPr>
        <p:blipFill>
          <a:blip r:embed="rId2"/>
          <a:stretch/>
        </p:blipFill>
        <p:spPr>
          <a:xfrm>
            <a:off x="6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31"/>
          <p:cNvSpPr/>
          <p:nvPr/>
        </p:nvSpPr>
        <p:spPr>
          <a:xfrm>
            <a:off x="1370160" y="126000"/>
            <a:ext cx="670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СПОСОБЫ ОРГАНИЗАЦИИ РАБОТЫ С ВОСПИТАН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3"/>
          <p:cNvSpPr/>
          <p:nvPr/>
        </p:nvSpPr>
        <p:spPr>
          <a:xfrm>
            <a:off x="438120" y="1138320"/>
            <a:ext cx="8569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99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cc3399"/>
                </a:solidFill>
                <a:latin typeface="Arial"/>
              </a:rPr>
              <a:t>Игра-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с ее помощью  на музыкальных занятиях по методике Карла Орфа создается атмосфера игрового общения, где каждый ребенок наравне со  взрослым может проявить свою индивидуально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cc3399"/>
                </a:solidFill>
                <a:latin typeface="Arial"/>
              </a:rPr>
              <a:t>Импровизация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- иными словами, организованная спонтанность. Легче получается у детей, чем у взрослых. Импровизация, экспериментирование, свободный разговор с телом, голосом, инструмент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200" spc="-1" strike="noStrike">
                <a:solidFill>
                  <a:srgbClr val="cc3399"/>
                </a:solidFill>
                <a:latin typeface="Arial"/>
              </a:rPr>
              <a:t>Игровая  музыкальная театрализация</a:t>
            </a:r>
            <a:r>
              <a:rPr b="1" lang="en-US" sz="2200" spc="-1" strike="noStrike">
                <a:solidFill>
                  <a:srgbClr val="990099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общение педагога и детей окруженное музыкой  и игрой - становится более результативным, эмоциональным, импровизационным, ярко запоминающимся. Мы используем  не просто музыку, а музыку, связанную с движением и речью, передачей образа . </a:t>
            </a:r>
            <a:r>
              <a:rPr b="1" lang="en-US" sz="2200" spc="-1" strike="noStrike">
                <a:solidFill>
                  <a:srgbClr val="cc3399"/>
                </a:solidFill>
                <a:latin typeface="Arial"/>
              </a:rPr>
              <a:t>Музыка с элементами театра, если попытаться выразить инач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2" descr="C:\Users\Рита\Pictures\8-page-1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39"/>
          <p:cNvSpPr/>
          <p:nvPr/>
        </p:nvSpPr>
        <p:spPr>
          <a:xfrm>
            <a:off x="333360" y="173160"/>
            <a:ext cx="849636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Виды деятель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объединенные  метод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Движение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– это источник любой челове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 инструмент мышления  присутствует на каждом Орф-занят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Танец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 это организованное движение в пространстве-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Ритм.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 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Как говорил Орф, «вначале был барабан». Ритм лежит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основе движения и в основе музы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Пение.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Каждый человек одарен голосом не только для говор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но и для вокализирования. Голос – самый богатый возможност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нструмент, который всегда при нас. В бытовой речи мы используем ничтожную долю того, что может наш голо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Речь.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В быту смысл слова важнее, чем его звуки. Однако в поэз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традиционной культуре и детской культуре звуки слов, их рит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не менее важны. Методика Орфа позволяет перевести внимание детей со смысла слов на музыкальность и красочность их звуч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Театр.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стория, сказка, миф – нужны в работе  с детьм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для объединения в осмысленное целое через образ или сюжет игры  все вышеперечисленные виды деятельности (ритм, движение и т.д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9T09:41:33Z</dcterms:created>
  <dc:creator>Методист</dc:creator>
  <dc:description/>
  <dc:language>en-US</dc:language>
  <cp:lastModifiedBy>Кирилл Ивахненко</cp:lastModifiedBy>
  <dcterms:modified xsi:type="dcterms:W3CDTF">2021-12-05T18:51:50Z</dcterms:modified>
  <cp:revision>5</cp:revision>
  <dc:subject/>
  <dc:title>Эффективные формы и методы работы с детьми в музыкальном развитии. Методика Карла Орфа в развитии музыкальности дошкольников</dc:title>
</cp:coreProperties>
</file>