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EEA-4FF4-40C7-83B2-0EB31A47D3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EB77-D5E4-4F76-AB16-AFF082BE93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876-CA2A-4F5F-BD1B-8F154ED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FAC-0F0B-499C-AB46-4E82CA69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CAA-D01A-4F8E-A6E5-8747F2C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9F3-1E3C-4DA4-B202-E8113E80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DBB-B713-4D3C-AAA9-138D984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623-9850-446C-8364-7DF06D8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DC2-C2BC-477B-8214-22FC600E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0C6-FC4A-4F58-87BA-BEE05FE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232-DF6B-48BD-88BA-E090345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D6F-3074-454B-8331-BD10664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D46-436F-4FBC-84BE-65D4701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65A-7229-4B54-B6CC-FEC2530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1D9-45A1-40D6-B69E-826E8F8B4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12600" y="-390600"/>
            <a:ext cx="9169200" cy="338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s1.pic4you.ru/allimage/y2012/11-28/12216/2747783.png"/>
          <p:cNvPicPr/>
          <p:nvPr/>
        </p:nvPicPr>
        <p:blipFill>
          <a:blip r:embed="rId3"/>
          <a:stretch/>
        </p:blipFill>
        <p:spPr>
          <a:xfrm>
            <a:off x="1714680" y="1557360"/>
            <a:ext cx="5715000" cy="501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5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11160" y="5300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альцы левой руки собраны в щепоть — «гриб», а правая рука ладонью вниз движется над ней — «летает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Гриб для мошки — словно до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rcRect l="24957" t="854" r="18042" b="85441"/>
          <a:stretch/>
        </p:blipFill>
        <p:spPr>
          <a:xfrm>
            <a:off x="1346040" y="816120"/>
            <a:ext cx="6282000" cy="448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5"/>
          <p:cNvSpPr/>
          <p:nvPr/>
        </p:nvSpPr>
        <p:spPr>
          <a:xfrm>
            <a:off x="10800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Опустить правую ладонь на «гриб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сидит она на нё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rcRect l="26258" t="17439" r="22783" b="68470"/>
          <a:stretch/>
        </p:blipFill>
        <p:spPr>
          <a:xfrm>
            <a:off x="1619280" y="911160"/>
            <a:ext cx="6418080" cy="526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0" y="56656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Спрятать правую ладонь между «гри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и грудью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играет за грибо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rcRect l="29904" t="34411" r="24409" b="51689"/>
          <a:stretch/>
        </p:blipFill>
        <p:spPr>
          <a:xfrm>
            <a:off x="1995480" y="851040"/>
            <a:ext cx="5369040" cy="484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Box 5"/>
          <p:cNvSpPr/>
          <p:nvPr/>
        </p:nvSpPr>
        <p:spPr>
          <a:xfrm>
            <a:off x="0" y="6035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равая ладонь «летает» над «грибом» по кругу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летает над груздё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rcRect l="27268" t="51596" r="20096" b="35450"/>
          <a:stretch/>
        </p:blipFill>
        <p:spPr>
          <a:xfrm>
            <a:off x="1106640" y="816120"/>
            <a:ext cx="7146720" cy="522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5"/>
          <p:cNvSpPr/>
          <p:nvPr/>
        </p:nvSpPr>
        <p:spPr>
          <a:xfrm>
            <a:off x="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Правая ладонь «ползёт» по «гри­бу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ползёт она по шляпк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2"/>
          <a:srcRect l="29356" t="68545" r="23862" b="17699"/>
          <a:stretch/>
        </p:blipFill>
        <p:spPr>
          <a:xfrm>
            <a:off x="1538280" y="816120"/>
            <a:ext cx="6067440" cy="5295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Скругленный прямоугольник 3"/>
          <p:cNvGrpSpPr/>
          <p:nvPr/>
        </p:nvGrpSpPr>
        <p:grpSpPr>
          <a:xfrm>
            <a:off x="96840" y="66600"/>
            <a:ext cx="8950320" cy="6651720"/>
            <a:chOff x="96840" y="66600"/>
            <a:chExt cx="8950320" cy="6651720"/>
          </a:xfrm>
        </p:grpSpPr>
        <p:pic>
          <p:nvPicPr>
            <p:cNvPr id="8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66600"/>
              <a:ext cx="895032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30200" y="401760"/>
              <a:ext cx="828360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5"/>
          <p:cNvSpPr/>
          <p:nvPr/>
        </p:nvSpPr>
        <p:spPr>
          <a:xfrm>
            <a:off x="28440" y="618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(Спрятать правую ладонь под «гриб»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08000" y="108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То под шляпкой прячет лап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rcRect l="30469" t="85101" r="26001" b="647"/>
          <a:stretch/>
        </p:blipFill>
        <p:spPr>
          <a:xfrm>
            <a:off x="2104920" y="816120"/>
            <a:ext cx="5519880" cy="53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9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Прямоугольник 1"/>
          <p:cNvSpPr/>
          <p:nvPr/>
        </p:nvSpPr>
        <p:spPr>
          <a:xfrm>
            <a:off x="-1440" y="1916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В презентации использованы материалы книги О.И. Крупенч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«Тренируем пальчики – развиваем реч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старшая группа детского с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4e45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7T17:13:52Z</dcterms:modified>
  <cp:revision>53</cp:revision>
  <dc:subject/>
  <dc:title>Презентация PowerPoint</dc:title>
</cp:coreProperties>
</file>