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72D-406E-4160-A2F8-D3BB975FF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9889-28BB-4D4A-A87A-365E50A840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C67-75BD-4EEA-93CC-9CF8F73D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8BF-7EC7-4618-B896-3D73F59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D3C-105D-4D20-B551-D40DA1D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24A-7E16-4440-BF4B-585C32C9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0F7-270B-4CB3-A022-A15AE2A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F3D-CAEC-4A7E-B7CF-21F9622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69B-B1A5-4B42-87B6-C3E30D3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C3A-B59C-4FE1-845C-E2277CEE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636-4984-4A2B-BB09-BCF87807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D83-BF0A-4121-BA58-969A38B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A5C-5029-4FB7-BF34-C4733C2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12E-63CB-41C1-B1D4-AF82FE3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DD1-CE16-4836-AFFF-D9EC9E71C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12600" y="-390600"/>
            <a:ext cx="9169200" cy="338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s1.pic4you.ru/allimage/y2012/11-28/12216/2747783.png"/>
          <p:cNvPicPr/>
          <p:nvPr/>
        </p:nvPicPr>
        <p:blipFill>
          <a:blip r:embed="rId3"/>
          <a:stretch/>
        </p:blipFill>
        <p:spPr>
          <a:xfrm>
            <a:off x="1714680" y="1557360"/>
            <a:ext cx="5715000" cy="501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5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11160" y="530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альцы левой руки собраны в щепоть — «гриб», а правая рука ладонью вниз движется над ней — «летает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Гриб для мошки — словно до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rcRect l="24957" t="854" r="18042" b="85441"/>
          <a:stretch/>
        </p:blipFill>
        <p:spPr>
          <a:xfrm>
            <a:off x="1346040" y="816120"/>
            <a:ext cx="6282000" cy="448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5"/>
          <p:cNvSpPr/>
          <p:nvPr/>
        </p:nvSpPr>
        <p:spPr>
          <a:xfrm>
            <a:off x="10800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Опустить правую ладонь на «гриб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сидит она на нё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rcRect l="26258" t="17439" r="22783" b="68470"/>
          <a:stretch/>
        </p:blipFill>
        <p:spPr>
          <a:xfrm>
            <a:off x="1619280" y="911160"/>
            <a:ext cx="6418080" cy="526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0" y="56656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Спрятать правую ладонь между «гри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и грудью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играет за грибо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rcRect l="29904" t="34411" r="24409" b="51689"/>
          <a:stretch/>
        </p:blipFill>
        <p:spPr>
          <a:xfrm>
            <a:off x="1995480" y="851040"/>
            <a:ext cx="5369040" cy="484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5"/>
          <p:cNvSpPr/>
          <p:nvPr/>
        </p:nvSpPr>
        <p:spPr>
          <a:xfrm>
            <a:off x="0" y="6035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равая ладонь «летает» над «грибом» по кругу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летает над груздё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rcRect l="27268" t="51596" r="20096" b="35450"/>
          <a:stretch/>
        </p:blipFill>
        <p:spPr>
          <a:xfrm>
            <a:off x="1106640" y="816120"/>
            <a:ext cx="7146720" cy="522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5"/>
          <p:cNvSpPr/>
          <p:nvPr/>
        </p:nvSpPr>
        <p:spPr>
          <a:xfrm>
            <a:off x="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равая ладонь «ползёт» по «гри­бу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ползёт она по шляпк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2"/>
          <a:srcRect l="29356" t="68545" r="23862" b="17699"/>
          <a:stretch/>
        </p:blipFill>
        <p:spPr>
          <a:xfrm>
            <a:off x="1538280" y="816120"/>
            <a:ext cx="6067440" cy="5295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8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5"/>
          <p:cNvSpPr/>
          <p:nvPr/>
        </p:nvSpPr>
        <p:spPr>
          <a:xfrm>
            <a:off x="2844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Спрятать правую ладонь под «гриб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под шляпкой прячет лап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rcRect l="30469" t="85101" r="26001" b="647"/>
          <a:stretch/>
        </p:blipFill>
        <p:spPr>
          <a:xfrm>
            <a:off x="2104920" y="816120"/>
            <a:ext cx="5519880" cy="53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7T17:13:52Z</dcterms:modified>
  <cp:revision>53</cp:revision>
  <dc:subject/>
  <dc:title>Презентация PowerPoint</dc:title>
</cp:coreProperties>
</file>