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D64-A9A5-4421-B8A6-F9481D4C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9B4-4122-4C33-8220-BC2C813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ECA-5EC4-4D3A-9E1D-209C7782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A46-6EFD-4FAB-B97A-B30B4085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5EDA-0EB7-4683-8ADB-4B8F33E3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626-DFA0-4C28-9040-151A9037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3EF-A4BD-4C75-9DFB-645D5CDD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97B7-943C-44C8-9E97-134972EE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0EBD-B0B4-4530-B316-0832120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D4E8-AD97-4D04-B6C0-38085B7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9FE-608E-4196-8A0E-301D0CD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F8F-8679-4A3C-BC25-C2667B37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886-9FEC-482E-8814-39199D7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51C-F8B5-499E-BD95-3FCB8ED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8F1-74D6-41A1-9D33-5F344FBD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074-9B22-4195-B3C2-1A60585A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81AD-2FAB-4744-8BCF-C215D9F9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C1A14-F736-4E4A-868D-17ED0600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71554-F93D-49A3-B524-B4ED451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E1969-49F0-4155-A342-5184B194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6224F-303F-423B-A0A3-9D5F071E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85A45-867B-47B1-A38E-0BA6743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8EB-8E0A-4239-B510-31B3ACA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D13D0-C6B9-4B27-98EB-8D83D8CC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458B2-D9B4-440B-BE92-2A9E4FA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DC8B5-64A6-4991-B3E5-98D0085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E4552-F425-4F96-A145-9083189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E9D5E-4DBA-4501-A732-579C862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0901C-C86C-497C-BD68-AF2BCAE4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1B183-5261-443C-B73B-7ED9696B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72CC-FC04-4024-8877-AE71DF0A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76E2-9432-47B2-8853-32435A3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51DE-4A05-4847-8357-6265A05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0F5-77A2-4D6B-A240-5E67EC5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ECBF-407B-40E8-9A9E-8330EF16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0826-EA9D-4DB3-9104-9CF1A6B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4A50-E90B-4046-BE13-5B8F700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8596-5ED3-46D9-AC78-E65264E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F528-2E7A-409C-8C38-281B08A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8188-1645-4E72-8A34-453ACE1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6C9C-BA3D-4C51-9038-0A734E7B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4C91-5026-41E0-99D6-93A7854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01EC-0005-4613-8F89-7D5FD184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4DC-28FF-481B-BC5D-26822DA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070-75BC-486F-9CEC-28CA0BD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42C-64A0-4CC9-9E1D-1B9585F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63D-EF53-42D0-8A95-4DBC7BE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D62-973A-4D24-9712-5D4EE6A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F2E-FA23-458C-9CB5-F3BA0ED25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06F9-6BFF-45C5-9183-260F742CD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B461-249F-4EFE-B2D7-AA22A3474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9DA1-294F-4E36-A398-81194E2296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5"/>
          <p:cNvSpPr txBox="1"/>
          <p:nvPr/>
        </p:nvSpPr>
        <p:spPr>
          <a:xfrm>
            <a:off x="1042920" y="692280"/>
            <a:ext cx="7345440" cy="24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90000"/>
                  </a:srgbClr>
                </a:solidFill>
                <a:latin typeface="Gungsuh"/>
              </a:rPr>
              <a:t>Домашние  животные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90000"/>
                </a:srgbClr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90000"/>
                  </a:srgbClr>
                </a:solidFill>
                <a:latin typeface="Gungsuh"/>
              </a:rPr>
              <a:t>и  их  детеныш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90000"/>
                </a:srgbClr>
              </a:solidFill>
              <a:latin typeface="Gungsuh"/>
              <a:ea typeface="Gungsuh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19280" y="3933720"/>
            <a:ext cx="5281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дготовила: Арбузова Е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595155891"/>
          <p:cNvPicPr/>
          <p:nvPr/>
        </p:nvPicPr>
        <p:blipFill>
          <a:blip r:embed="rId1"/>
          <a:stretch/>
        </p:blipFill>
        <p:spPr>
          <a:xfrm>
            <a:off x="7236000" y="189000"/>
            <a:ext cx="1555560" cy="155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223222310_gifs_animaux"/>
          <p:cNvPicPr/>
          <p:nvPr/>
        </p:nvPicPr>
        <p:blipFill>
          <a:blip r:embed="rId2"/>
          <a:stretch/>
        </p:blipFill>
        <p:spPr>
          <a:xfrm>
            <a:off x="611280" y="3716280"/>
            <a:ext cx="2162160" cy="2295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4095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кошк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Содержимое 7" descr="59538.jpg"/>
          <p:cNvPicPr/>
          <p:nvPr/>
        </p:nvPicPr>
        <p:blipFill>
          <a:blip r:embed="rId2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292720" y="620640"/>
            <a:ext cx="31687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  </a:t>
            </a:r>
            <a:br>
              <a:rPr sz="18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етверо котят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Дома не сидят,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бежать от мамы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ак и норовят.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                                 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С. Семенов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8" descr="0fd82cf7.gif"/>
          <p:cNvPicPr/>
          <p:nvPr/>
        </p:nvPicPr>
        <p:blipFill>
          <a:blip r:embed="rId3"/>
          <a:stretch/>
        </p:blipFill>
        <p:spPr>
          <a:xfrm>
            <a:off x="6156360" y="18252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69203766.gif"/>
          <p:cNvPicPr/>
          <p:nvPr/>
        </p:nvPicPr>
        <p:blipFill>
          <a:blip r:embed="rId4"/>
          <a:stretch/>
        </p:blipFill>
        <p:spPr>
          <a:xfrm>
            <a:off x="611280" y="551664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0fd82cf7.gif"/>
          <p:cNvPicPr/>
          <p:nvPr/>
        </p:nvPicPr>
        <p:blipFill>
          <a:blip r:embed="rId5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собак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335844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одержимое 2" descr="748824673.jpg"/>
          <p:cNvPicPr/>
          <p:nvPr/>
        </p:nvPicPr>
        <p:blipFill>
          <a:blip r:embed="rId1"/>
          <a:srcRect l="0" t="-3021" r="0" b="0"/>
          <a:stretch/>
        </p:blipFill>
        <p:spPr>
          <a:xfrm>
            <a:off x="5580000" y="3860640"/>
            <a:ext cx="3311640" cy="24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t4_3703735"/>
          <p:cNvPicPr/>
          <p:nvPr/>
        </p:nvPicPr>
        <p:blipFill>
          <a:blip r:embed="rId2"/>
          <a:stretch/>
        </p:blipFill>
        <p:spPr>
          <a:xfrm>
            <a:off x="395280" y="836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3"/>
          <p:cNvSpPr/>
          <p:nvPr/>
        </p:nvSpPr>
        <p:spPr>
          <a:xfrm>
            <a:off x="6012000" y="105264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Для чего щенкам хвосты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Вне всякого сомнения -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ужны хвосты для красоты..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Еще для настроения. 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Г. Шестако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6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2040" y="309240"/>
            <a:ext cx="3248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лошад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695600" y="501336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0" descr="1271577259_horses_00013"/>
          <p:cNvPicPr/>
          <p:nvPr/>
        </p:nvPicPr>
        <p:blipFill>
          <a:blip r:embed="rId1"/>
          <a:stretch/>
        </p:blipFill>
        <p:spPr>
          <a:xfrm>
            <a:off x="250920" y="1268280"/>
            <a:ext cx="4537080" cy="3399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bf2e975905a5"/>
          <p:cNvPicPr/>
          <p:nvPr/>
        </p:nvPicPr>
        <p:blipFill>
          <a:blip r:embed="rId2"/>
          <a:stretch/>
        </p:blipFill>
        <p:spPr>
          <a:xfrm>
            <a:off x="5364000" y="400536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5076720" y="119700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Мама – лошадь, папа – конь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то же их ребёнок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ыжий, будто бы огонь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Это жеребён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Ж. Зудрагс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6" descr="0fd82cf7.gif"/>
          <p:cNvPicPr/>
          <p:nvPr/>
        </p:nvPicPr>
        <p:blipFill>
          <a:blip r:embed="rId3"/>
          <a:stretch/>
        </p:blipFill>
        <p:spPr>
          <a:xfrm>
            <a:off x="6084720" y="189000"/>
            <a:ext cx="259272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коров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2549520" y="5445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698085312"/>
          <p:cNvPicPr/>
          <p:nvPr/>
        </p:nvPicPr>
        <p:blipFill>
          <a:blip r:embed="rId1"/>
          <a:stretch/>
        </p:blipFill>
        <p:spPr>
          <a:xfrm>
            <a:off x="250920" y="836640"/>
            <a:ext cx="4390920" cy="357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1257759597_86a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822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4859280" y="981000"/>
            <a:ext cx="4033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Пасутся на травке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корова с теленком,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«Покоя мне нет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с непоседой-ребенком!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День целый он скачет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на этом лугу,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Как трудно кормить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мне его на бегу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Е. Малён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5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свинь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2006640" y="515772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Содержимое 10" descr="poros.jpg"/>
          <p:cNvPicPr/>
          <p:nvPr/>
        </p:nvPicPr>
        <p:blipFill>
          <a:blip r:embed="rId1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11" descr="product2b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50920" y="1268280"/>
            <a:ext cx="4968720" cy="32814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5435640" y="1413000"/>
            <a:ext cx="345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оросёнок, поросёнок 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Ты куда спешишь спросонок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- Я бегу на родничок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Мыть свой грязный пятач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 Доб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6"/>
          <p:cNvSpPr/>
          <p:nvPr/>
        </p:nvSpPr>
        <p:spPr>
          <a:xfrm>
            <a:off x="1627200" y="530064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Содержимое 9" descr="koza.JPG"/>
          <p:cNvPicPr/>
          <p:nvPr/>
        </p:nvPicPr>
        <p:blipFill>
          <a:blip r:embed="rId1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козы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11" descr="96060388_77682283_0_4d754_f0b6e4f7_XL"/>
          <p:cNvPicPr/>
          <p:nvPr/>
        </p:nvPicPr>
        <p:blipFill>
          <a:blip r:embed="rId2"/>
          <a:stretch/>
        </p:blipFill>
        <p:spPr>
          <a:xfrm>
            <a:off x="5076720" y="3213000"/>
            <a:ext cx="3889440" cy="3449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5724360" y="549360"/>
            <a:ext cx="30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 меня живёт козлён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сама его па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козлёнка в сад 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ано утром отне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н заблудится в саду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в траве его най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А. Бар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3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емья</cp:lastModifiedBy>
  <dcterms:modified xsi:type="dcterms:W3CDTF">2016-04-11T04:18:47Z</dcterms:modified>
  <cp:revision>70</cp:revision>
  <dc:subject/>
  <dc:title>PowerPoint Presentation</dc:title>
</cp:coreProperties>
</file>