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1EA-FD26-4111-9F34-19644F51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76B-8043-4CFC-BC11-F389132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614-1D9F-4694-83A3-07431D3F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C52-C1A9-42DF-AC84-5E809CBD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14A3-D281-448A-8D0B-ED537135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70D-08C5-4059-9997-C2FA57E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0FB6-8652-4CC8-9C1A-937B58F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8566-8C46-4832-A3D5-200C37C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0B0-B371-40D9-AC81-11A4AFA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DE4-82B9-46AD-BAD8-4F2F2778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D0E-04F3-40DC-B826-1FFBAC7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281-4CBA-4F8C-B54C-AA227018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CC46-D46F-4CE5-8FA5-97D4C25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6310-3745-47D4-9C6E-3536B4E9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4FF2-33A1-4CFD-90EE-AF55013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615-5DBA-4223-8B4D-0D7C5ABE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77FA-3E3A-41FE-BCBA-2C86F56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98CD9-5499-4250-9EC6-B2A89674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39727-6950-4F1A-993F-A27B79F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4740D-04FC-4600-9F62-D6B8D96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6CA17-632D-4EA1-993D-F7D214D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255E4-25DC-4DFB-86FD-35396A79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3E4-22E5-4F66-9D4C-7B517ED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05678-E4FA-49A5-A21E-733F1759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E1071-A0BE-44C3-99E5-149D1F3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301F1-AB97-411D-9D39-D833922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B270A-28F2-4A92-AD3C-6322578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9E756-FFA4-4E27-9023-4ABECE3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C97B8-7472-4AA8-BECE-010D6508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F46A7-B631-4B17-ACD1-741DE27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13F3-94E9-4629-B030-3BD90662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5980-900A-4C69-A0B4-8C173FF2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4485-6F9C-451D-911A-49B5B06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9E2-2085-4CA4-AF1B-A5596575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B6B7-7630-4888-9976-7EA66AB8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90FE-DFD0-436C-9FEA-A9964A5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D076-4FF5-4FA6-A5BD-32DED23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C733-0A3B-491A-AF1C-7AACE0D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5CEB-A58A-492E-B407-9381553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3B95-7187-4CC6-964F-4F098F8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6053-BA0D-4BC8-A002-1A2EE21D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20CE-515E-4523-8F72-3CF12D7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593E-80BD-40C3-82FD-DB496C86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086-4596-4A92-911C-3D67A11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D2B-926F-4FC7-A743-CD3E975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20F-0BF0-4E34-B976-F932380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770-A157-44E4-B30E-41643E0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675-541F-435B-A709-9A88CE2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62C-7075-44BF-BD00-76EDBA35C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DBD-A156-4C4C-A59D-6CE94B389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06FB-F1E6-4F3A-B8B5-4E792B397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D30-9D8F-4E24-B58F-23849A86AA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5"/>
          <p:cNvSpPr txBox="1"/>
          <p:nvPr/>
        </p:nvSpPr>
        <p:spPr>
          <a:xfrm>
            <a:off x="1042920" y="692280"/>
            <a:ext cx="7345440" cy="24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90000"/>
                  </a:srgbClr>
                </a:solidFill>
                <a:latin typeface="Gungsuh"/>
              </a:rPr>
              <a:t>Домашние  животные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90000"/>
                </a:srgbClr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90000"/>
                  </a:srgbClr>
                </a:solidFill>
                <a:latin typeface="Gungsuh"/>
              </a:rPr>
              <a:t>и  их  детеныш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90000"/>
                </a:srgbClr>
              </a:solidFill>
              <a:latin typeface="Gungsuh"/>
              <a:ea typeface="Gungsuh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19280" y="3933720"/>
            <a:ext cx="5281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дготовила: Арбузова Е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595155891"/>
          <p:cNvPicPr/>
          <p:nvPr/>
        </p:nvPicPr>
        <p:blipFill>
          <a:blip r:embed="rId1"/>
          <a:stretch/>
        </p:blipFill>
        <p:spPr>
          <a:xfrm>
            <a:off x="7236000" y="189000"/>
            <a:ext cx="1555560" cy="155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223222310_gifs_animaux"/>
          <p:cNvPicPr/>
          <p:nvPr/>
        </p:nvPicPr>
        <p:blipFill>
          <a:blip r:embed="rId2"/>
          <a:stretch/>
        </p:blipFill>
        <p:spPr>
          <a:xfrm>
            <a:off x="611280" y="3716280"/>
            <a:ext cx="2162160" cy="2295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4095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кошк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Содержимое 7" descr="59538.jpg"/>
          <p:cNvPicPr/>
          <p:nvPr/>
        </p:nvPicPr>
        <p:blipFill>
          <a:blip r:embed="rId2"/>
          <a:stretch/>
        </p:blipFill>
        <p:spPr>
          <a:xfrm>
            <a:off x="179280" y="105264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292720" y="620640"/>
            <a:ext cx="31687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  </a:t>
            </a:r>
            <a:br>
              <a:rPr sz="18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етверо котят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Дома не сидят,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бежать от мамы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ак и норовят.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                                 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С. Семенов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8" descr="0fd82cf7.gif"/>
          <p:cNvPicPr/>
          <p:nvPr/>
        </p:nvPicPr>
        <p:blipFill>
          <a:blip r:embed="rId3"/>
          <a:stretch/>
        </p:blipFill>
        <p:spPr>
          <a:xfrm>
            <a:off x="6156360" y="18252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69203766.gif"/>
          <p:cNvPicPr/>
          <p:nvPr/>
        </p:nvPicPr>
        <p:blipFill>
          <a:blip r:embed="rId4"/>
          <a:stretch/>
        </p:blipFill>
        <p:spPr>
          <a:xfrm>
            <a:off x="611280" y="5516640"/>
            <a:ext cx="2448000" cy="979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0fd82cf7.gif"/>
          <p:cNvPicPr/>
          <p:nvPr/>
        </p:nvPicPr>
        <p:blipFill>
          <a:blip r:embed="rId5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собак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335844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одержимое 2" descr="748824673.jpg"/>
          <p:cNvPicPr/>
          <p:nvPr/>
        </p:nvPicPr>
        <p:blipFill>
          <a:blip r:embed="rId1"/>
          <a:srcRect l="0" t="-3021" r="0" b="0"/>
          <a:stretch/>
        </p:blipFill>
        <p:spPr>
          <a:xfrm>
            <a:off x="5580000" y="3860640"/>
            <a:ext cx="3311640" cy="24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t4_3703735"/>
          <p:cNvPicPr/>
          <p:nvPr/>
        </p:nvPicPr>
        <p:blipFill>
          <a:blip r:embed="rId2"/>
          <a:stretch/>
        </p:blipFill>
        <p:spPr>
          <a:xfrm>
            <a:off x="395280" y="836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3"/>
          <p:cNvSpPr/>
          <p:nvPr/>
        </p:nvSpPr>
        <p:spPr>
          <a:xfrm>
            <a:off x="6012000" y="105264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Для чего щенкам хвосты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Вне всякого сомнения -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ужны хвосты для красоты..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Еще для настроения. 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Г. Шестако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6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2040" y="309240"/>
            <a:ext cx="3248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У лошад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695600" y="501336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0" descr="1271577259_horses_00013"/>
          <p:cNvPicPr/>
          <p:nvPr/>
        </p:nvPicPr>
        <p:blipFill>
          <a:blip r:embed="rId1"/>
          <a:stretch/>
        </p:blipFill>
        <p:spPr>
          <a:xfrm>
            <a:off x="250920" y="1268280"/>
            <a:ext cx="4537080" cy="3399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bf2e975905a5"/>
          <p:cNvPicPr/>
          <p:nvPr/>
        </p:nvPicPr>
        <p:blipFill>
          <a:blip r:embed="rId2"/>
          <a:stretch/>
        </p:blipFill>
        <p:spPr>
          <a:xfrm>
            <a:off x="5364000" y="400536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5076720" y="119700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Мама – лошадь, папа – конь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Кто же их ребёнок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ыжий, будто бы огонь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Это жеребён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Ж. Зудрагс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6" descr="0fd82cf7.gif"/>
          <p:cNvPicPr/>
          <p:nvPr/>
        </p:nvPicPr>
        <p:blipFill>
          <a:blip r:embed="rId3"/>
          <a:stretch/>
        </p:blipFill>
        <p:spPr>
          <a:xfrm>
            <a:off x="6084720" y="189000"/>
            <a:ext cx="259272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коров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2549520" y="5445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698085312"/>
          <p:cNvPicPr/>
          <p:nvPr/>
        </p:nvPicPr>
        <p:blipFill>
          <a:blip r:embed="rId1"/>
          <a:stretch/>
        </p:blipFill>
        <p:spPr>
          <a:xfrm>
            <a:off x="250920" y="836640"/>
            <a:ext cx="4390920" cy="357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1257759597_86a"/>
          <p:cNvPicPr/>
          <p:nvPr/>
        </p:nvPicPr>
        <p:blipFill>
          <a:blip r:embed="rId2"/>
          <a:stretch/>
        </p:blipFill>
        <p:spPr>
          <a:xfrm>
            <a:off x="5219640" y="3716280"/>
            <a:ext cx="3529080" cy="2822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4859280" y="981000"/>
            <a:ext cx="4033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Пасутся на травке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корова с теленком,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«Покоя мне нет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с непоседой-ребенком!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День целый он скачет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на этом лугу,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Как трудно кормить </a:t>
            </a:r>
            <a:br>
              <a:rPr sz="1800"/>
            </a:b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мне его на бегу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Е. Малён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15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свинь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2006640" y="515772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Содержимое 10" descr="poros.jpg"/>
          <p:cNvPicPr/>
          <p:nvPr/>
        </p:nvPicPr>
        <p:blipFill>
          <a:blip r:embed="rId1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11" descr="product2b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50920" y="1268280"/>
            <a:ext cx="4968720" cy="32814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5435640" y="1413000"/>
            <a:ext cx="345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оросёнок, поросёнок 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Ты куда спешишь спросонок?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- Я бегу на родничок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Мыть свой грязный пятач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Н. Доб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6"/>
          <p:cNvSpPr/>
          <p:nvPr/>
        </p:nvSpPr>
        <p:spPr>
          <a:xfrm>
            <a:off x="1627200" y="530064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Содержимое 9" descr="koza.JPG"/>
          <p:cNvPicPr/>
          <p:nvPr/>
        </p:nvPicPr>
        <p:blipFill>
          <a:blip r:embed="rId1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У козы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11" descr="96060388_77682283_0_4d754_f0b6e4f7_XL"/>
          <p:cNvPicPr/>
          <p:nvPr/>
        </p:nvPicPr>
        <p:blipFill>
          <a:blip r:embed="rId2"/>
          <a:stretch/>
        </p:blipFill>
        <p:spPr>
          <a:xfrm>
            <a:off x="5076720" y="3213000"/>
            <a:ext cx="3889440" cy="3449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5724360" y="549360"/>
            <a:ext cx="30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 меня живёт козлён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сама его па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козлёнка в сад 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Рано утром отне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н заблудится в саду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Я в траве его най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А. Бар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3" descr="0fd82cf7.gif"/>
          <p:cNvPicPr/>
          <p:nvPr/>
        </p:nvPicPr>
        <p:blipFill>
          <a:blip r:embed="rId3"/>
          <a:stretch/>
        </p:blipFill>
        <p:spPr>
          <a:xfrm>
            <a:off x="6156360" y="18900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емья</cp:lastModifiedBy>
  <dcterms:modified xsi:type="dcterms:W3CDTF">2016-04-11T04:18:47Z</dcterms:modified>
  <cp:revision>70</cp:revision>
  <dc:subject/>
  <dc:title>PowerPoint Presentation</dc:title>
</cp:coreProperties>
</file>