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D06-1376-41B5-8496-CC64D190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00C-797E-48E9-87CF-9E4193F6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A2F-8DB8-438B-ABA3-B6CF92D4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835-2750-4CC3-8139-4735D804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9C6-D567-4DFE-AF98-8A83D4BE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732-7F8B-49DC-BDB1-37E95355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684-4B17-4811-82DA-21F0985B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9DB-0C0E-4C1B-969A-C8BB04B6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B5C-50A4-4A83-9223-0A19C196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09A-AB2F-4339-8A53-C9814424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6E5-FFDD-436C-9542-3DA76B7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EF2-B828-4AD5-B1F9-B89BCDF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2662-D095-4BFD-BFC3-49DED21DA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386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ookman Old Style"/>
              </a:rPr>
              <a:t>«Как научить ребенка правильно держать ручку или карандаш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№ 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Трюк с канцелярской скрепкой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4118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№5. </a:t>
            </a:r>
            <a:br>
              <a:rPr sz="3200"/>
            </a:b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«Ручка- «самоу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0194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№6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Ручка с «подсказкой» для паль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70135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подготовить ребенка к выполнению письменных зада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Нанизывание бус, шнуровки, развязывание узел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Работа с ножниц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Лепка и апплик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Игры с круп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Пальчиковая гимнаст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Штриховки, обведение по контуру, раскрашивание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5040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мимо подготовки руки к письму и формирования правильного захвата, необходимо научить ребенка, как нужно сидеть за столом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5576760" y="0"/>
            <a:ext cx="35672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мое главное – помнить, что в дошкольном возрасте ведущим видом деятельности является игра. А значит, результат любого дела зависит от того, в какой форме и даже с каким настроением Вы преподнесете ребенку любые упражнения или занят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чему ребенок держит неправильно карандаш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546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Мелкая моторика рук у детей развита еще недостаточно, поэтому ребенок держит карандаш всеми пальцами, зажимая в кулак. Уже в более старшем возрасте некоторые дети изо всех сил сдавливают карандаш, выставляя пальцы вперед. Такое неправильное положение пальцев часто превращается в привычку, от которой бывает трудно избав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600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знаки неправильного захвата карандаша или ру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27640" y="1916280"/>
            <a:ext cx="3816360" cy="2943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51944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ольшой палец во время письма находится ниже указательно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альцы находятся далеко от пишущей ча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Щепоточный» захват (три пальца расположены на одном уровне относительно пишущей ча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рандаш лежит на указательном пальц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ишком сильный нажим на бумаг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хний конец карандаша при письме направлен в сторону, а не к плеч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ебенок поворачивает лист бумаги, а не каранда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 что влияет неправильный захва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Неправильный захват приводит к напряжению не тех мышц руки-плеча-спины, как следствие, к формированию неправильной осанки, быстрой усталости, головным бо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правильно держать карандаш и ручк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5840" y="1773360"/>
            <a:ext cx="8858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62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представить, что при письме карандаш ложится спать, а его подушка – это верхняя часть среднего пальца, а указательный и большой пальцы – это одея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льцы должны быть расслаб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льцы должны быть расположены на расстоянии 1-2 см от пишущей части ручки или карандаш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касаться стола кончиком мизи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4862520" y="3789360"/>
            <a:ext cx="42814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простых способов, как научить ребенка правильно держать карандаш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№1.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Легкий трюк с прищеп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5813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пособ № 2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«Трюк с резинкой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09744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308952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276720" y="4076640"/>
            <a:ext cx="28573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особ № 3.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«Трюк с салфеткой, или ватным шариком, или маленьким ластиком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2087640" cy="2003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56000" y="3933720"/>
            <a:ext cx="2049480" cy="201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572000" y="2349360"/>
            <a:ext cx="2021040" cy="230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588000" y="3933720"/>
            <a:ext cx="2089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2T17:44:33Z</dcterms:created>
  <dc:creator>Татьяна</dc:creator>
  <dc:description/>
  <dc:language>en-US</dc:language>
  <cp:lastModifiedBy>Татьяна</cp:lastModifiedBy>
  <dcterms:modified xsi:type="dcterms:W3CDTF">2022-10-13T06:08:36Z</dcterms:modified>
  <cp:revision>3</cp:revision>
  <dc:subject/>
  <dc:title>«Как научить ребенка правильно держать ручку или карандаш»</dc:title>
</cp:coreProperties>
</file>