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4CC1-B459-4D71-A065-942F0ED2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29C-DD4D-4884-9ED3-86322B25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3023-7A7F-46B9-BBCC-DCAAF700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E24-2E62-4778-B8AD-A4254621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EA3F-6616-4454-B662-29A7FEFE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E40-1168-42CA-9EA4-6F98ED7F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BCF-A843-4F16-B203-C44D4698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DE4-5ABE-47BB-8026-1050C1FD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301-70B0-47E8-9557-BA3F56B0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5FE-1CF5-4DC9-815B-3F6FAE9D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AB2-7B81-45CA-9FE6-0A1D59E8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741-1681-4EBB-A843-B4D6E0B2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644B-0023-4660-97F1-850FB4222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386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ookman Old Style"/>
              </a:rPr>
              <a:t>«Как научить ребенка правильно держать ручку или карандаш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пособ № 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Трюк с канцелярской скрепкой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54118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пособ №5. </a:t>
            </a:r>
            <a:br>
              <a:rPr sz="3200"/>
            </a:b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«Ручка- «самоуч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0194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пособ №6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Ручка с «подсказкой» для пальц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701352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подготовить ребенка к выполнению письменных задан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Нанизывание бус, шнуровки, развязывание узел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Работа с ножниц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Лепка и апплика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Игры с круп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Пальчиковая гимнаст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Штриховки, обведение по контуру, раскрашивание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5040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мимо подготовки руки к письму и формирования правильного захвата, необходимо научить ребенка, как нужно сидеть за столом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2"/>
          <a:stretch/>
        </p:blipFill>
        <p:spPr>
          <a:xfrm>
            <a:off x="5576760" y="0"/>
            <a:ext cx="35672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мое главное – помнить, что в дошкольном возрасте ведущим видом деятельности является игра. А значит, результат любого дела зависит от того, в какой форме и даже с каким настроением Вы преподнесете ребенку любые упражнения или занят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Arial"/>
              </a:rPr>
              <a:t>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чему ребенок держит неправильно карандаш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546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Мелкая моторика рук у детей развита еще недостаточно, поэтому ребенок держит карандаш всеми пальцами, зажимая в кулак. Уже в более старшем возрасте некоторые дети изо всех сил сдавливают карандаш, выставляя пальцы вперед. Такое неправильное положение пальцев часто превращается в привычку, от которой бывает трудно избав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3600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знаки неправильного захвата карандаша или ру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27640" y="1916280"/>
            <a:ext cx="3816360" cy="2943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51944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ольшой палец во время письма находится ниже указательног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альцы находятся далеко от пишущей ча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«Щепоточный» захват (три пальца расположены на одном уровне относительно пишущей части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рандаш лежит на указательном пальц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ишком сильный нажим на бумаг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рхний конец карандаша при письме направлен в сторону, а не к плеч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ебенок поворачивает лист бумаги, а не карандаш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 что влияет неправильный захва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 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Неправильный захват приводит к напряжению не тех мышц руки-плеча-спины, как следствие, к формированию неправильной осанки, быстрой усталости, головным бо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 правильно держать карандаш и ручку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85840" y="1773360"/>
            <a:ext cx="8858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62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представить, что при письме карандаш ложится спать, а его подушка – это верхняя часть среднего пальца, а указательный и большой пальцы – это одея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льцы должны быть расслабле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льцы должны быть расположены на расстоянии 1-2 см от пишущей части ручки или карандаш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касаться стола кончиком мизи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4862520" y="3789360"/>
            <a:ext cx="428148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 простых способов, как научить ребенка правильно держать карандаш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пособ №1.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Легкий трюк с прищепк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5813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пособ № 2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«Трюк с резинкой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309744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003640" y="1484280"/>
            <a:ext cx="3089520" cy="2857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276720" y="4076640"/>
            <a:ext cx="28573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пособ № 3.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«Трюк с салфеткой, или ватным шариком, или маленьким ластиком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2087640" cy="2003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56000" y="3933720"/>
            <a:ext cx="2049480" cy="201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572000" y="2349360"/>
            <a:ext cx="2021040" cy="2303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588000" y="3933720"/>
            <a:ext cx="2089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2T17:44:33Z</dcterms:created>
  <dc:creator>Татьяна</dc:creator>
  <dc:description/>
  <dc:language>en-US</dc:language>
  <cp:lastModifiedBy>Татьяна</cp:lastModifiedBy>
  <dcterms:modified xsi:type="dcterms:W3CDTF">2022-10-13T06:08:36Z</dcterms:modified>
  <cp:revision>3</cp:revision>
  <dc:subject/>
  <dc:title>«Как научить ребенка правильно держать ручку или карандаш»</dc:title>
</cp:coreProperties>
</file>