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6B0-B608-420B-AC32-2041788E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6C4-D007-4F84-9684-D4B52A2D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6B1-1008-498D-9D0E-7C6954C0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8EB-D5A3-402C-AE65-49DFE973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07D-53F6-4EE6-8CCF-D28BDAF9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35B-C41E-43C6-B577-73BCD1A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9DC-714C-4A03-9BA7-5D0234F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578-3917-408D-B1A2-AF101AF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386-F850-41ED-9200-56E8BE2D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1AF-FB8E-4B85-952A-8079256E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27B-BE19-4A97-8EF4-1FC179A8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361-BD3F-4D6E-99FE-ACB467A9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1D2-C0D5-4E2C-8442-FAD2BEF0B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19080" y="-463680"/>
            <a:ext cx="9163080" cy="318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:\Users\наташа\Desktop\сделать игры\Igry\122_Страница_11.jpg"/>
          <p:cNvPicPr/>
          <p:nvPr/>
        </p:nvPicPr>
        <p:blipFill>
          <a:blip r:embed="rId3"/>
          <a:stretch/>
        </p:blipFill>
        <p:spPr>
          <a:xfrm>
            <a:off x="2987640" y="1154160"/>
            <a:ext cx="5761080" cy="570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:\Users\наташа\Desktop\сделать игры\Igry\122_Страница_11.jpg"/>
          <p:cNvPicPr/>
          <p:nvPr/>
        </p:nvPicPr>
        <p:blipFill>
          <a:blip r:embed="rId4"/>
          <a:stretch/>
        </p:blipFill>
        <p:spPr>
          <a:xfrm>
            <a:off x="2987640" y="1268280"/>
            <a:ext cx="5761080" cy="5704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Киска ниточки мо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3760" y="5803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ращать руками, как бы наматывая н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на клу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044800" y="762120"/>
            <a:ext cx="505440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И клубочки продава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240" y="6195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ытянуть обе ладони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155680" y="762120"/>
            <a:ext cx="4832640" cy="5546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6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173e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Сколько стои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173e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Три руб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238480" y="1316160"/>
            <a:ext cx="4667040" cy="5208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TextBox 5"/>
          <p:cNvSpPr/>
          <p:nvPr/>
        </p:nvSpPr>
        <p:spPr>
          <a:xfrm>
            <a:off x="3240" y="6195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ытянуть обе ладони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9" descr="C:\Users\наташа\Desktop\сделать игры\Igry\122_Страница_11.jpg"/>
          <p:cNvPicPr/>
          <p:nvPr/>
        </p:nvPicPr>
        <p:blipFill>
          <a:blip r:embed="rId2"/>
          <a:stretch/>
        </p:blipFill>
        <p:spPr>
          <a:xfrm>
            <a:off x="2155680" y="762120"/>
            <a:ext cx="4832640" cy="5546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173e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Покупайте у мен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79680"/>
            <a:ext cx="981540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e49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4T18:01:20Z</dcterms:modified>
  <cp:revision>14</cp:revision>
  <dc:subject/>
  <dc:title>Презентация PowerPoint</dc:title>
</cp:coreProperties>
</file>