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DCD-F02F-4142-82B0-CA7C515E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7B7-B354-4512-8473-626837F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528-1B40-4506-B9F8-FC6A5DBE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712-52AA-48A2-B773-1E4EDC15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2AF-74DA-42F7-8DFA-B4943AFA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30D-54F9-4596-A2E8-001F942E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8D6-30F7-4B6C-8175-A59C90E9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C90-EB96-4183-A69E-30AC10DB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D70-6981-4E89-835A-4D157710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468-E226-4EC0-8E59-A6EBCB37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80D-4E32-4CF6-88BC-7B1B6E6D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C42-C481-49E9-A062-12F2DA63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CBEB-5EF9-4873-964C-4E6B9E830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19080" y="-463680"/>
            <a:ext cx="9163080" cy="318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:\Users\наташа\Desktop\сделать игры\Igry\122_Страница_11.jpg"/>
          <p:cNvPicPr/>
          <p:nvPr/>
        </p:nvPicPr>
        <p:blipFill>
          <a:blip r:embed="rId3"/>
          <a:stretch/>
        </p:blipFill>
        <p:spPr>
          <a:xfrm>
            <a:off x="2987640" y="1154160"/>
            <a:ext cx="5761080" cy="570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наташа\Desktop\сделать игры\Igry\122_Страница_11.jpg"/>
          <p:cNvPicPr/>
          <p:nvPr/>
        </p:nvPicPr>
        <p:blipFill>
          <a:blip r:embed="rId4"/>
          <a:stretch/>
        </p:blipFill>
        <p:spPr>
          <a:xfrm>
            <a:off x="2987640" y="1268280"/>
            <a:ext cx="5761080" cy="5704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TextBox 6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Киска ниточки мо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3760" y="5803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Вращать руками, как бы наматывая н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на клу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C:\Users\наташа\Desktop\сделать игры\Igry\122_Страница_11.jpg"/>
          <p:cNvPicPr/>
          <p:nvPr/>
        </p:nvPicPr>
        <p:blipFill>
          <a:blip r:embed="rId2"/>
          <a:stretch/>
        </p:blipFill>
        <p:spPr>
          <a:xfrm>
            <a:off x="2044800" y="762120"/>
            <a:ext cx="505440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TextBox 6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И клубочки продава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240" y="6195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Вытянуть обе ладони впе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C:\Users\наташа\Desktop\сделать игры\Igry\122_Страница_11.jpg"/>
          <p:cNvPicPr/>
          <p:nvPr/>
        </p:nvPicPr>
        <p:blipFill>
          <a:blip r:embed="rId2"/>
          <a:stretch/>
        </p:blipFill>
        <p:spPr>
          <a:xfrm>
            <a:off x="2155680" y="762120"/>
            <a:ext cx="4832640" cy="554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6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173e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Сколько стои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173e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Три руб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C:\Users\наташа\Desktop\сделать игры\Igry\122_Страница_11.jpg"/>
          <p:cNvPicPr/>
          <p:nvPr/>
        </p:nvPicPr>
        <p:blipFill>
          <a:blip r:embed="rId2"/>
          <a:stretch/>
        </p:blipFill>
        <p:spPr>
          <a:xfrm>
            <a:off x="2238480" y="1316160"/>
            <a:ext cx="4667040" cy="5208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TextBox 5"/>
          <p:cNvSpPr/>
          <p:nvPr/>
        </p:nvSpPr>
        <p:spPr>
          <a:xfrm>
            <a:off x="3240" y="6195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Вытянуть обе ладони впе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9" descr="C:\Users\наташа\Desktop\сделать игры\Igry\122_Страница_11.jpg"/>
          <p:cNvPicPr/>
          <p:nvPr/>
        </p:nvPicPr>
        <p:blipFill>
          <a:blip r:embed="rId2"/>
          <a:stretch/>
        </p:blipFill>
        <p:spPr>
          <a:xfrm>
            <a:off x="2155680" y="762120"/>
            <a:ext cx="4832640" cy="5546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173e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Покупайте у мен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79680"/>
            <a:ext cx="981540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В презентации использованы материалы книги Юлии Сокол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«Игры с пальч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4T18:01:20Z</dcterms:modified>
  <cp:revision>14</cp:revision>
  <dc:subject/>
  <dc:title>Презентация PowerPoint</dc:title>
</cp:coreProperties>
</file>