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6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47.png" ContentType="image/png"/>
  <Override PartName="/ppt/media/image37.png" ContentType="image/png"/>
  <Override PartName="/ppt/media/image49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5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FA2-3AFC-454E-96E4-F8C96156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FB9-D6B7-427F-8E2E-8D575D1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AE2-0DEE-4714-AC11-7478EFF7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43D-5130-4C99-BAF7-2D07AD73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4AD-594F-4176-922B-8331E7FE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9FB-B25A-4164-A1EF-8B08D459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0B9D-7B19-443E-9704-244585A2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1F16-34C0-4B5E-AAB0-85F1B86A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54DB-A1B2-488C-9A31-1F0FA02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4278-9CAB-4346-B969-10EEC806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1335-79DC-47F5-A8CC-AD8A8D94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556-F9F3-4BCC-B2E0-88E8C58E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CFCD-DC45-48B5-B65E-7921060B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68C1-1025-403A-8FD1-DAEBE5AC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C56-2D9E-48F5-AE56-C2334539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7C2E-FC3B-404C-9F4B-06DFCBB4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FD1E-A49C-4D53-A0CC-6DD34410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6B2-22B3-488B-B73A-AD1925CE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A78-9338-4DB0-BD47-E92B1E2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CB2-EE0E-4028-BC84-519B057B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D0F-E60F-4DC7-A0DE-C22C2AEE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F1F-7124-45DE-BD4C-D7B3844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7E4-3888-4766-B4C5-E238E01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FB0-4A38-4F5B-A67E-DCBAABF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5EA-D9FB-44FF-8840-D69FC8E322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EFB6-3314-4FB4-B6CF-FD3108DC869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струирование — разновидность моделир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35280" y="4508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читель информатики ГБОУ СОШ  №119   Поборцева Е.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здание набора кирпичиков для конструирова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748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чень распространенной объемной конструкцией является форма кирпичи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акую форму имеют строительные блоки, элементы мебельных гарнитур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089080" cy="13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2340000" y="4797360"/>
            <a:ext cx="1800360" cy="172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1444680" cy="206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5364000" y="4941720"/>
            <a:ext cx="1557360" cy="1733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5"/>
          <a:stretch/>
        </p:blipFill>
        <p:spPr>
          <a:xfrm>
            <a:off x="6877080" y="4221000"/>
            <a:ext cx="194472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680544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делайте по образцу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257640" cy="3514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317196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41767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мебели и ее расстанов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700360" y="3860640"/>
            <a:ext cx="2736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ожно попробовать себя в дизайне собственного жилья, не занимаясь передвижением мебели, а двигая кирпичики на экране в трехмерном эскизе комна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3" descr="Комната"/>
          <p:cNvPicPr/>
          <p:nvPr/>
        </p:nvPicPr>
        <p:blipFill>
          <a:blip r:embed="rId1"/>
          <a:stretch/>
        </p:blipFill>
        <p:spPr>
          <a:xfrm>
            <a:off x="684360" y="4508640"/>
            <a:ext cx="2447640" cy="1739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комнатаГН9а"/>
          <p:cNvPicPr/>
          <p:nvPr/>
        </p:nvPicPr>
        <p:blipFill>
          <a:blip r:embed="rId2"/>
          <a:stretch/>
        </p:blipFill>
        <p:spPr>
          <a:xfrm>
            <a:off x="6443640" y="404640"/>
            <a:ext cx="2449440" cy="199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моя комната"/>
          <p:cNvPicPr/>
          <p:nvPr/>
        </p:nvPicPr>
        <p:blipFill>
          <a:blip r:embed="rId3"/>
          <a:stretch/>
        </p:blipFill>
        <p:spPr>
          <a:xfrm>
            <a:off x="6156360" y="4508640"/>
            <a:ext cx="2663640" cy="190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ОМНАТА Свиридова"/>
          <p:cNvPicPr/>
          <p:nvPr/>
        </p:nvPicPr>
        <p:blipFill>
          <a:blip r:embed="rId4"/>
          <a:stretch/>
        </p:blipFill>
        <p:spPr>
          <a:xfrm>
            <a:off x="3492360" y="4508640"/>
            <a:ext cx="2232000" cy="197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Мария Кучеренко"/>
          <p:cNvPicPr/>
          <p:nvPr/>
        </p:nvPicPr>
        <p:blipFill>
          <a:blip r:embed="rId5"/>
          <a:stretch/>
        </p:blipFill>
        <p:spPr>
          <a:xfrm>
            <a:off x="1835280" y="260280"/>
            <a:ext cx="30956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Задание для самостоятельной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дание 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строить меню кирпичиков и сохранить в файле с таким же название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примеры на Рис. 1.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6408720" cy="2251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3132000" y="623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Рис.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Задание для самостоятельной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848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 общему виду предметов мебели, имеющейся в вашей комнате, построить из кирпичиков их мод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примеры на Рис.2.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392720" cy="146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960720" cy="1925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908000" y="623736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2. Конструирование из кирпичиков по общему ви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делирование расстановки мебел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дание 3.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льзуясь созданными моделями мебели, расставить ее в объемном плане комнаты и творчески оформить дизайн комна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4284720" y="3789360"/>
            <a:ext cx="2808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2962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аботы учеников</a:t>
            </a: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по моделированию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бъемных конструкций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Щитовсерый2"/>
          <p:cNvPicPr/>
          <p:nvPr/>
        </p:nvPicPr>
        <p:blipFill>
          <a:blip r:embed="rId1"/>
          <a:stretch/>
        </p:blipFill>
        <p:spPr>
          <a:xfrm>
            <a:off x="0" y="0"/>
            <a:ext cx="745164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зам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2636640"/>
            <a:ext cx="80499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реда графического редактор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является удобным инструментом для построения геометрических модел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ы создаем графические объекты – рисун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юбой рисунок, с одной стороны является моделью некоторого оригинала (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реального или мысленного объекта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 с другой стороны,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– объектом среды графического редакт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рпаву"/>
          <p:cNvPicPr/>
          <p:nvPr/>
        </p:nvPicPr>
        <p:blipFill>
          <a:blip r:embed="rId1"/>
          <a:stretch/>
        </p:blipFill>
        <p:spPr>
          <a:xfrm>
            <a:off x="3348000" y="260280"/>
            <a:ext cx="2735280" cy="19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Моя Пятёрка ёмаё"/>
          <p:cNvPicPr/>
          <p:nvPr/>
        </p:nvPicPr>
        <p:blipFill>
          <a:blip r:embed="rId2"/>
          <a:stretch/>
        </p:blipFill>
        <p:spPr>
          <a:xfrm>
            <a:off x="0" y="0"/>
            <a:ext cx="367020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9б"/>
          <p:cNvPicPr/>
          <p:nvPr/>
        </p:nvPicPr>
        <p:blipFill>
          <a:blip r:embed="rId3"/>
          <a:stretch/>
        </p:blipFill>
        <p:spPr>
          <a:xfrm>
            <a:off x="6084720" y="0"/>
            <a:ext cx="25927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ИИИ"/>
          <p:cNvPicPr/>
          <p:nvPr/>
        </p:nvPicPr>
        <p:blipFill>
          <a:blip r:embed="rId1"/>
          <a:stretch/>
        </p:blipFill>
        <p:spPr>
          <a:xfrm>
            <a:off x="0" y="0"/>
            <a:ext cx="810108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рпав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моя комната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2зам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Комната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иервоевсетьн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классная комната"/>
          <p:cNvPicPr/>
          <p:nvPr/>
        </p:nvPicPr>
        <p:blipFill>
          <a:blip r:embed="rId1"/>
          <a:stretch/>
        </p:blipFill>
        <p:spPr>
          <a:xfrm>
            <a:off x="0" y="-30240"/>
            <a:ext cx="70563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0" y="444600"/>
            <a:ext cx="90727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комнатаГН9а"/>
          <p:cNvPicPr/>
          <p:nvPr/>
        </p:nvPicPr>
        <p:blipFill>
          <a:blip r:embed="rId1"/>
          <a:stretch/>
        </p:blipFill>
        <p:spPr>
          <a:xfrm>
            <a:off x="0" y="0"/>
            <a:ext cx="83883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Комната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images"/>
          <p:cNvPicPr/>
          <p:nvPr/>
        </p:nvPicPr>
        <p:blipFill>
          <a:blip r:embed="rId1"/>
          <a:stretch/>
        </p:blipFill>
        <p:spPr>
          <a:xfrm>
            <a:off x="1763640" y="1916280"/>
            <a:ext cx="6193080" cy="4698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онструирование –  способ моделирования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7011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Конструирование – один из способов моделир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Часто объект, подлежащий моделированию, можно разбить на более мелкие дета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Дом состоит из кирпичей или строительных блоков, механизм – из отдельных узл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Если разработать набор типовых деталей, то на его основе можно создавать разные объекты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акая деятельность получила название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33399"/>
                </a:solidFill>
                <a:uFillTx/>
                <a:latin typeface="Tahoma"/>
              </a:rPr>
              <a:t>констру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Мария Кучеренко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ОМНАТА Свиридова"/>
          <p:cNvPicPr/>
          <p:nvPr/>
        </p:nvPicPr>
        <p:blipFill>
          <a:blip r:embed="rId1"/>
          <a:stretch/>
        </p:blipFill>
        <p:spPr>
          <a:xfrm>
            <a:off x="0" y="0"/>
            <a:ext cx="8028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2565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акарова Н.В. Информатика и ИКТ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8-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9  Санкт-Петербург: Питер, 2007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акарова Н.В. Информатика 7-9 Задачник по моделированию – Санкт-Петербург: Питер, 200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4images"/>
          <p:cNvPicPr/>
          <p:nvPr/>
        </p:nvPicPr>
        <p:blipFill>
          <a:blip r:embed="rId1"/>
          <a:stretch/>
        </p:blipFill>
        <p:spPr>
          <a:xfrm>
            <a:off x="6084720" y="2637000"/>
            <a:ext cx="2448000" cy="186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3images"/>
          <p:cNvPicPr/>
          <p:nvPr/>
        </p:nvPicPr>
        <p:blipFill>
          <a:blip r:embed="rId2"/>
          <a:stretch/>
        </p:blipFill>
        <p:spPr>
          <a:xfrm>
            <a:off x="4211640" y="1268280"/>
            <a:ext cx="1793880" cy="1770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5images"/>
          <p:cNvPicPr/>
          <p:nvPr/>
        </p:nvPicPr>
        <p:blipFill>
          <a:blip r:embed="rId3"/>
          <a:stretch/>
        </p:blipFill>
        <p:spPr>
          <a:xfrm>
            <a:off x="6300720" y="472428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images"/>
          <p:cNvPicPr/>
          <p:nvPr/>
        </p:nvPicPr>
        <p:blipFill>
          <a:blip r:embed="rId4"/>
          <a:stretch/>
        </p:blipFill>
        <p:spPr>
          <a:xfrm>
            <a:off x="1547640" y="1413000"/>
            <a:ext cx="2016360" cy="174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7images"/>
          <p:cNvPicPr/>
          <p:nvPr/>
        </p:nvPicPr>
        <p:blipFill>
          <a:blip r:embed="rId5"/>
          <a:stretch/>
        </p:blipFill>
        <p:spPr>
          <a:xfrm>
            <a:off x="468360" y="3429000"/>
            <a:ext cx="2457360" cy="186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8images"/>
          <p:cNvPicPr/>
          <p:nvPr/>
        </p:nvPicPr>
        <p:blipFill>
          <a:blip r:embed="rId6"/>
          <a:stretch/>
        </p:blipFill>
        <p:spPr>
          <a:xfrm>
            <a:off x="6804000" y="476280"/>
            <a:ext cx="198432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9images"/>
          <p:cNvPicPr/>
          <p:nvPr/>
        </p:nvPicPr>
        <p:blipFill>
          <a:blip r:embed="rId7"/>
          <a:stretch/>
        </p:blipFill>
        <p:spPr>
          <a:xfrm>
            <a:off x="3635280" y="5059440"/>
            <a:ext cx="1922400" cy="179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23mages"/>
          <p:cNvPicPr/>
          <p:nvPr/>
        </p:nvPicPr>
        <p:blipFill>
          <a:blip r:embed="rId8"/>
          <a:stretch/>
        </p:blipFill>
        <p:spPr>
          <a:xfrm>
            <a:off x="539640" y="5661000"/>
            <a:ext cx="2303640" cy="81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25images"/>
          <p:cNvPicPr/>
          <p:nvPr/>
        </p:nvPicPr>
        <p:blipFill>
          <a:blip r:embed="rId9"/>
          <a:stretch/>
        </p:blipFill>
        <p:spPr>
          <a:xfrm>
            <a:off x="3203640" y="3213000"/>
            <a:ext cx="2428920" cy="1876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1692360" y="260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Примеры конструкций до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нструирование - творческое задание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ahoma"/>
              </a:rPr>
              <a:t>Конструирование направлено на развитие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 творческих способносте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84360" y="2708280"/>
            <a:ext cx="2952720" cy="1297080"/>
          </a:xfrm>
          <a:prstGeom prst="cloudCallout">
            <a:avLst>
              <a:gd name="adj1" fmla="val -48657"/>
              <a:gd name="adj2" fmla="val 4779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мыш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5940360" y="2708280"/>
            <a:ext cx="2952720" cy="1297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вообра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9" descr="images"/>
          <p:cNvPicPr/>
          <p:nvPr/>
        </p:nvPicPr>
        <p:blipFill>
          <a:blip r:embed="rId1"/>
          <a:stretch/>
        </p:blipFill>
        <p:spPr>
          <a:xfrm>
            <a:off x="6804000" y="4292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default"/>
          <p:cNvPicPr/>
          <p:nvPr/>
        </p:nvPicPr>
        <p:blipFill>
          <a:blip r:embed="rId2"/>
          <a:stretch/>
        </p:blipFill>
        <p:spPr>
          <a:xfrm>
            <a:off x="324000" y="429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2987640" y="5157720"/>
            <a:ext cx="316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тельны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онент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2556000" y="4292640"/>
            <a:ext cx="1295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5435280" y="4292640"/>
            <a:ext cx="136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489924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виваем творческие способности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7083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творчески мысли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принимать нестандартные реш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высказывать оригинальные идеи и изобретать новы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пособность применить навыки, приобретённые при решении одной задачи к решению друго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ворческое богатое воображ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images5"/>
          <p:cNvPicPr/>
          <p:nvPr/>
        </p:nvPicPr>
        <p:blipFill>
          <a:blip r:embed="rId1"/>
          <a:stretch/>
        </p:blipFill>
        <p:spPr>
          <a:xfrm>
            <a:off x="0" y="692280"/>
            <a:ext cx="1835280" cy="13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mages8"/>
          <p:cNvPicPr/>
          <p:nvPr/>
        </p:nvPicPr>
        <p:blipFill>
          <a:blip r:embed="rId2"/>
          <a:stretch/>
        </p:blipFill>
        <p:spPr>
          <a:xfrm>
            <a:off x="539640" y="4797360"/>
            <a:ext cx="2289240" cy="16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mages11"/>
          <p:cNvPicPr/>
          <p:nvPr/>
        </p:nvPicPr>
        <p:blipFill>
          <a:blip r:embed="rId3"/>
          <a:stretch/>
        </p:blipFill>
        <p:spPr>
          <a:xfrm>
            <a:off x="3780000" y="4869000"/>
            <a:ext cx="2016000" cy="126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default"/>
          <p:cNvPicPr/>
          <p:nvPr/>
        </p:nvPicPr>
        <p:blipFill>
          <a:blip r:embed="rId4"/>
          <a:stretch/>
        </p:blipFill>
        <p:spPr>
          <a:xfrm>
            <a:off x="6588000" y="4869000"/>
            <a:ext cx="2259000" cy="150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3images"/>
          <p:cNvPicPr/>
          <p:nvPr/>
        </p:nvPicPr>
        <p:blipFill>
          <a:blip r:embed="rId5"/>
          <a:stretch/>
        </p:blipFill>
        <p:spPr>
          <a:xfrm>
            <a:off x="7164360" y="333360"/>
            <a:ext cx="1676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делирование объемных конструкций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3744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 можно ли передать объем, используя для этого не специальную программу, работающую с трехмерной графикой, а простой графический редактор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твет очевиден: если это можно сделать на бумаге, то можно и на экра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2images"/>
          <p:cNvPicPr/>
          <p:nvPr/>
        </p:nvPicPr>
        <p:blipFill>
          <a:blip r:embed="rId1"/>
          <a:stretch/>
        </p:blipFill>
        <p:spPr>
          <a:xfrm>
            <a:off x="3492360" y="4797360"/>
            <a:ext cx="25196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нструирование из кубико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295440" cy="704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714840" cy="101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900000" y="5373720"/>
            <a:ext cx="3695760" cy="79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159048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5"/>
          <a:stretch/>
        </p:blipFill>
        <p:spPr>
          <a:xfrm>
            <a:off x="6084720" y="4221000"/>
            <a:ext cx="1629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делайте по образцу 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7:49:27Z</dcterms:created>
  <dc:creator>Elen</dc:creator>
  <dc:description/>
  <dc:language>en-US</dc:language>
  <cp:lastModifiedBy>Lena</cp:lastModifiedBy>
  <dcterms:modified xsi:type="dcterms:W3CDTF">2022-11-21T16:44:46Z</dcterms:modified>
  <cp:revision>13</cp:revision>
  <dc:subject/>
  <dc:title>Конструирование — разновидность моделирования </dc:title>
</cp:coreProperties>
</file>