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1C5-B975-4164-A1CF-07DA97B8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C14-CD37-4C01-BD57-2B9667BB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AD4B3-5CD1-4B39-815D-4296B91D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0F918-BF03-459F-B2A7-79B55B73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350CB-BE65-47BE-AF82-52C84AAF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A6EB5-FEC0-49DF-86CB-EB2FF52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EC7E9-4EC2-4475-A43D-603ECAA6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9E396-8BE4-4546-A2C1-C615170B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AD0A5-8C74-49F4-A768-C4B23165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6E4AC-9CDF-43AB-8AFA-E7162C27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65121-3505-439C-8CD7-59FADFFF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285C9-228A-453F-9CA6-E0E69723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269-5617-4797-80CE-5AF6D614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E2DFB-E06F-4E51-AC9C-7770B115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66A98-EF86-47F2-8DAB-96A8D0BD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E2EFE-41AF-48C3-856A-4CA3E602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559C6-6AB3-4A38-9351-4B6BB414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5851D-75F6-4704-BF30-CE05193D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8494B-8FDB-40FC-AC98-279BAC9B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80898-02D7-4E8D-9C45-CBBEC2A1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D7F39-C2C8-4E92-802A-FCD0B99C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DA079-A0D5-4A66-AB19-E11B3104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E86A5-FA56-4C32-B49B-6B531DA4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9C2-F29E-4C5B-8A7D-8DDA5308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1328B-606D-4CD1-B96E-3647FC6B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F2970-C490-4AC2-BA72-E69B4166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F53B9-A689-46F5-98E8-297AEC7C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7A233-51A6-4FE1-99DF-8D0826B1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5E4A0-7BEC-4C54-BD89-952C694B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4BC27-F50E-4452-A90D-88628459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8AA36-F008-4D26-A819-B13702E0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AE748-2B05-480F-8C70-0E6A7268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BF936-BC4A-4DE9-958B-867EC7A2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48481-03F1-4B62-B3D2-361AB16A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A525-40BD-4A96-A649-48E4668B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AC476-D328-40F5-A21F-439AD4C5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A6D47-4917-4970-BA61-32C3E71C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F5388-7AD1-413F-989E-1A5968C4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8DF89-0424-4DF8-B816-3D1564F6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DD621-AA21-4D50-B43B-99AD4D6B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EC837-1E6E-4225-9EA4-FCF0FAB2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5C6B9-0D38-4F25-BE48-3A33DBCD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58D6F-7607-4E0C-995C-29B83EB0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98528-B023-431A-86E3-80279CE2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43954-4A73-4652-BB46-F4520686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44A8-5467-4C39-9D3D-41A701B5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51CEE-41F7-42DB-A4C3-89715145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F4A3E-3B2A-4FD6-9FA9-687D5B6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8ED34-F2A5-42A2-AEC3-9C378798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D3339-DBBB-4C67-A2BE-501A7BDA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227BC-8BF5-4A7C-91AF-FC6C13CE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AFA8B-2E26-4BB6-886E-47FC7EEA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EC918-C314-481B-98B7-56BF219D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48EB5-54F2-4301-BC91-F7219562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15BAD-262C-4461-A5D0-8DA5D1EA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AC3F2-08A1-4725-B88C-5288D777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A270-22E3-45BB-8E11-9DE8F7E3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C72F4-122D-4BF3-9327-60B992BE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FF398-94F5-4778-8985-80AF3A4C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97D7D-BA2D-44DD-815D-263C4610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61BDE-2DF2-4313-9223-0E9AB2A7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87E49-F1B2-4E21-8846-24B46BFB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D1BBF-3F4E-486A-BE38-012F5930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CF4FF-3A27-4F61-B042-5AD756C4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22250-D9C7-4B75-8FBE-C8D3D975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241BD-0E74-4F5A-A4B3-0D4FAA52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03BD9-BF4E-4104-A910-904E30D3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5E42-7F54-43D2-9762-D129DF9D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61069-264C-4B3F-BDFC-59875BB2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A8F86-EFDC-4C59-AB20-9E758124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F9701-48D9-4AD5-B53A-413E329B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8717A-6596-4CCD-A56F-447CBED8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255F6-1682-4A4C-92B8-42BE3875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CE11A7-4813-40CD-BECB-F8E4AA25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FABA87-EBE5-42CA-A435-F0546952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ADE93-9A5A-4812-A638-CC07E4BF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B4843-E3B9-433E-9091-90E29B63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EB1E1-1B63-48D2-8947-927C8B88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D2E6-32FC-4130-B679-37EA6F02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97BDF-A49B-44BF-9DE0-8B91CAFA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54E43-699A-4E9B-9CB0-7109E944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DA7B3-0894-4B06-A07F-7EB56012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AB39DC-E944-4013-AFEF-FC50D90A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F8536-67AE-4485-AC15-7E2DC214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787841-22CD-4388-BAFB-29056B61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B5BDD-CAA7-413B-A629-1CCFF34B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F5325-4B6D-4E7F-B1B3-2186F074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4FE1C2-4087-40A0-A95B-453EB856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88703-C2EA-4B53-90A0-016326A3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FBAF-0B44-4442-9563-27B0F928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82D5E-914D-4A19-9A14-FB93D014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63A56-DF7E-4790-8DDD-08AAC023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72965-FE0B-42B2-A63C-6466E8C0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F0E9C-892D-4FD8-8436-CBD7FB5D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7455D-2C5E-4D18-91B2-4519E187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C15B19-0972-4A4F-9AA0-D4E3B924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68523-0487-4F7A-91F7-54DC2BAF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ECE08-A480-4537-B935-BBF4E884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2A74F-2333-400F-8F2B-D84EA5F9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49A6A-7D7A-4434-BFB3-569E2F74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BD09-346E-4EEC-B83B-4DB4BB52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2FB19-9005-4594-B565-E2AAAD2C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054AD-7F59-4F3F-B56D-6D679502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F2DC65-154C-4755-91B9-D689CEE8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1DD26E-F628-4744-AD04-CC25ACC9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B5893-21FB-4FF2-8413-6F8B2B7F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BAEF2-6EA0-4741-8465-390F6355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B11970-E925-4A03-9D27-16F12316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B6953C-223F-4B0F-ACD3-19244BCA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1FFB89-5852-4A00-B0F1-0D81E50B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D40F2E-8E2F-4CDF-9B89-E35F07FF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FA0-B9E0-4D53-B48E-7E246375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D309-C5A5-4F41-9891-524AB5E6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B8A7B5-53AF-43D1-B0AA-2A17312B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DB30AE-1BFA-49B5-88C5-57EB9D30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8619C-39E4-40EF-8948-D47ECBA1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A5DA58-046E-493C-BECB-DD6ED015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AACF36-756A-490E-83E6-66A8F563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B29A-322C-476B-B10B-6EB53303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1EA8-FAFC-446D-A1EF-78CD3F66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7275-FB8E-438F-A16E-E75E01B0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7295-FB5E-43FD-B021-22666F74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342B-7FFC-4CDD-8257-D577F185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65F4F-1DCD-4CB9-8956-0000399A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DBED-AA23-4AA1-81B2-CE5BD3BD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0B30E-FA9D-40D8-85E2-9751DC53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B7064-B820-4458-B68F-99536D57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C58-2D27-485D-9483-3BD6AC6D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BC83-E281-4886-B595-E620F2C3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5F9BE-4B5C-463B-AE0E-990275E8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6EF3-F51F-4B7B-832E-7D0290B9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06F6-29EA-4FAA-AF92-ED5A71E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2780-3485-4BF1-8F6E-C0E1C239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9C549-7F46-4467-97F4-090FC934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520B-62C2-475E-A379-3B0730A3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0F9CD-B96D-4E7D-85FA-76885F24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E7A8B-01EE-4BEE-9BCD-8F942625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C1BD-96F8-454A-A85C-2D22EA40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D1E-EDE6-4DFE-81DA-64704FDE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4368-026F-426E-BA43-7255689F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EB34-AA4D-433B-A715-F0C5E3E1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8D3D6-8682-431C-948D-8A1D0D8B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48F0-93E5-4896-85FC-CA0C878A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453C-B1D5-4ED2-9209-A8129B0A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0BBD7-121B-40F7-AFC9-963586F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F9745-63B8-4122-87F4-84F8A2FE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3245D-5626-4E30-A4E5-21E57CF1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A0DE-D84E-4638-ADEF-EE8AA46C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ABC07-8FD1-4EA2-BCDA-670F64D5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2A4-BDAF-42B9-9C27-FD9D5425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EC62A-A43D-4019-AC00-029F1BA0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63090-1DF8-49E0-AC71-79D09BB3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4667-E2C2-4143-814A-ACC67760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A0506-042E-4EEE-A147-2950E9F0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4CD27-0155-41BA-A97A-57D48B7D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41EBF-450F-4252-9E0F-D1F94756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12EB9-CEDF-4848-A513-5E9BEFC3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F15C5-E407-4C4B-9116-774909C4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366E1-DD41-43E9-BD13-79076D10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10546-AFC8-49FC-9DBF-18AAFE97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E6D-B8C0-45A0-9910-5EDB0D8C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E051D-9005-411A-9128-ED17D3E6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7DF7B-B51E-45CF-94C5-23849A40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4812A-9D53-4874-A446-4C517134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127A2-4A3B-4CD4-96C0-FD8AD5A3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3D637-CBF4-49F9-82A9-B68C1C54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358E4-0C8C-4C43-AC25-47561C74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5FEBA-E147-45A9-92C5-0C692293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920DA-0F07-439B-9672-6E8F7B6D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E21EE-CE4F-4BEB-9B46-48383289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AD690-EDE1-4A3C-BC6B-6E4068B0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F7F-7C59-4386-8188-04F838A6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8997E-DD41-4134-B708-072C392D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D925F-0A23-403F-A0FD-EF4BAE64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922E4-BAA9-4B35-A305-1A2FC78B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48215-5D6F-45D6-B48D-A91BA923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BEFA4-0F02-4314-A5D2-A08800B6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930C0-557F-4F38-BC4B-90E80D03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A8F40-4262-497B-9D63-EE334B2B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D2E8F-0B9B-4B73-BAB3-641B0B60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9AE62-2F9F-4E59-AEE7-316C55A3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AB801-CB64-4BC8-894D-AFD28EF6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F45-3B6D-40F6-B0C8-45208EE0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AC2A7-CBC4-41C9-A4A9-44E7B775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B8023-A561-4952-BDA6-5C96A577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1D82F-097C-4F0D-B5AD-D1427734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F0DB5-8974-44BC-A1BC-00DD7277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29908-BA62-49EF-A2F2-46548C31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04FFF-0F44-445C-AC4B-CD6665AA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7D1AD-400E-4D07-9F74-D214C0B8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2BEB2-2A42-428B-AB1F-558F3EBD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6F99A-2346-42C0-979A-6F2C53B6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C47CC-537C-42BB-A982-57B529F5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66F-AFB3-4F65-83BB-1119B509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D2F3C-8B12-4C8C-A8FF-DE528FCC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30222-9519-4382-A3AF-BD9C094E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4EF43-37C0-4DA2-94C3-1F97D2B4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177DA-517A-492A-8B69-88613D9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02AE6-E294-405A-8166-EB4A1610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B17D1-1EFE-422E-983E-FC997F0C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70829-BC97-44F5-95D9-C1D0DE6A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A938E-EAD2-452D-8C16-6C700A28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033D0-9799-416D-A0F0-8E957898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176F6-EEE3-4A33-B6DE-ACF1E42B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7EECC-4377-444E-BF71-95C0B504EFC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9606A-4D97-4EBE-8093-141F50D7243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C159A-18FA-4A10-9DFB-9935A338B59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C933E-9460-4B1C-867B-B0D45281993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84E52-9C46-470C-B402-F446FA647B4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92278-0082-4F4B-A8E0-6DFF341DECF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5E159-1E82-4D08-BC77-19CA6560F3F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B7A0B-8872-4796-8FC0-8B1DA619E59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C74DC-6DFF-4B48-9BBE-52ACF0E5A04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3CDD4-EC72-4A9A-8F6D-DB800BB0063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D9840-0848-4328-A5B7-C51B3C0C15C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C20CD-16B6-410E-BAFE-7F6235F052F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051FA-B20D-4A4D-BBE2-3461004076C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A708B-5F30-4806-92E0-523C00C2510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2984F-E1DB-4F20-9AE4-008C7DC9EC8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1676A-F6FB-4942-926B-14CD7ABB15F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20DF3-A9BB-4E76-929A-3A00CA8F0FD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2"/>
          <p:cNvSpPr/>
          <p:nvPr/>
        </p:nvSpPr>
        <p:spPr>
          <a:xfrm>
            <a:off x="1920960" y="622440"/>
            <a:ext cx="9621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e78712"/>
                </a:solidFill>
                <a:latin typeface="Times New Roman"/>
                <a:ea typeface="Times New Roman"/>
              </a:rPr>
              <a:t>Урок литературного чтения во 2 классе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Заголовок 1"/>
          <p:cNvSpPr/>
          <p:nvPr/>
        </p:nvSpPr>
        <p:spPr>
          <a:xfrm>
            <a:off x="3643200" y="6180120"/>
            <a:ext cx="4799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e78712"/>
                </a:solidFill>
                <a:latin typeface="AGReverance"/>
              </a:rPr>
              <a:t>УМК «Школа России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258920" y="2107800"/>
            <a:ext cx="68644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79" name="Рисунок 6" descr=""/>
          <p:cNvPicPr/>
          <p:nvPr/>
        </p:nvPicPr>
        <p:blipFill>
          <a:blip r:embed="rId1"/>
          <a:stretch/>
        </p:blipFill>
        <p:spPr>
          <a:xfrm>
            <a:off x="2273400" y="3492360"/>
            <a:ext cx="23842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Прямоугольник 3"/>
          <p:cNvSpPr/>
          <p:nvPr/>
        </p:nvSpPr>
        <p:spPr>
          <a:xfrm>
            <a:off x="4188240" y="527040"/>
            <a:ext cx="450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78712"/>
                </a:solidFill>
                <a:latin typeface="Times New Roman"/>
                <a:ea typeface="Calibri"/>
              </a:rPr>
              <a:t>Речевая разминка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Прямоугольник 5"/>
          <p:cNvSpPr/>
          <p:nvPr/>
        </p:nvSpPr>
        <p:spPr>
          <a:xfrm>
            <a:off x="676440" y="1682640"/>
            <a:ext cx="1138392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636e58"/>
                </a:solidFill>
                <a:latin typeface="Times New Roman"/>
                <a:ea typeface="Calibri"/>
              </a:rPr>
              <a:t>Подул ветер – У_У_У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636e58"/>
                </a:solidFill>
                <a:latin typeface="Times New Roman"/>
                <a:ea typeface="Calibri"/>
              </a:rPr>
              <a:t>Пожелтели, задрожали листья – Ф_Ф_Ф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636e58"/>
                </a:solidFill>
                <a:latin typeface="Times New Roman"/>
                <a:ea typeface="Calibri"/>
              </a:rPr>
              <a:t>Полетели на землю – П_П_П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636e58"/>
                </a:solidFill>
                <a:latin typeface="Times New Roman"/>
                <a:ea typeface="Calibri"/>
              </a:rPr>
              <a:t>Зашуршали – Ш_Ш_Ш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Прямоугольник 1"/>
          <p:cNvSpPr/>
          <p:nvPr/>
        </p:nvSpPr>
        <p:spPr>
          <a:xfrm>
            <a:off x="3633120" y="514440"/>
            <a:ext cx="50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78712"/>
                </a:solidFill>
                <a:latin typeface="Times New Roman"/>
                <a:ea typeface="Calibri"/>
              </a:rPr>
              <a:t>Логическое ударение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3" name="Прямоугольник 2"/>
          <p:cNvSpPr/>
          <p:nvPr/>
        </p:nvSpPr>
        <p:spPr>
          <a:xfrm>
            <a:off x="2941560" y="2027160"/>
            <a:ext cx="7488360" cy="24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Чудесный осенний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день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Чудесный 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осенний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день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Чудесный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 осенний день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2" descr="http://nevvod.ru/upload/medialibrary/5da/5da31b1d4231d0b088f2b94cf6dc79ad.jpg"/>
          <p:cNvPicPr/>
          <p:nvPr/>
        </p:nvPicPr>
        <p:blipFill>
          <a:blip r:embed="rId1"/>
          <a:stretch/>
        </p:blipFill>
        <p:spPr>
          <a:xfrm>
            <a:off x="6197760" y="2125800"/>
            <a:ext cx="4252680" cy="318924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58920" y="2107800"/>
            <a:ext cx="68644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Прямоугольник 9"/>
          <p:cNvSpPr/>
          <p:nvPr/>
        </p:nvSpPr>
        <p:spPr>
          <a:xfrm>
            <a:off x="954000" y="2511360"/>
            <a:ext cx="361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й год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стей ждёт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ин седой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ой молодой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тий скачет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вёртый плачет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143080" y="108000"/>
            <a:ext cx="891072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78712"/>
                </a:solidFill>
                <a:latin typeface="Times New Roman"/>
                <a:ea typeface="Times New Roman"/>
              </a:rPr>
              <a:t>ЛЮБЛЮ ПРИРОДУ РУССКУЮ. </a:t>
            </a:r>
            <a:br>
              <a:rPr sz="4000"/>
            </a:br>
            <a:r>
              <a:rPr b="1" lang="ru-RU" sz="4000" spc="-1" strike="noStrike">
                <a:solidFill>
                  <a:srgbClr val="e78712"/>
                </a:solidFill>
                <a:latin typeface="Times New Roman"/>
                <a:ea typeface="Times New Roman"/>
              </a:rPr>
              <a:t>ОСЕНЬ.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8" name="Picture 2" descr="http://nevvod.ru/upload/medialibrary/5da/5da31b1d4231d0b088f2b94cf6dc79ad.jpg"/>
          <p:cNvPicPr/>
          <p:nvPr/>
        </p:nvPicPr>
        <p:blipFill>
          <a:blip r:embed="rId1"/>
          <a:srcRect l="-2377" t="49769" r="49758" b="0"/>
          <a:stretch/>
        </p:blipFill>
        <p:spPr>
          <a:xfrm>
            <a:off x="4097160" y="2583000"/>
            <a:ext cx="33926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Рисунок 1" descr="C:\Users\user\Desktop\осеннее утро\весь день стоит как бы хрустальный и лучезарны небеса.jpg"/>
          <p:cNvPicPr/>
          <p:nvPr/>
        </p:nvPicPr>
        <p:blipFill>
          <a:blip r:embed="rId1"/>
          <a:stretch/>
        </p:blipFill>
        <p:spPr>
          <a:xfrm>
            <a:off x="1536840" y="317520"/>
            <a:ext cx="3065400" cy="2060640"/>
          </a:xfrm>
          <a:prstGeom prst="rect">
            <a:avLst/>
          </a:prstGeom>
          <a:ln w="0">
            <a:noFill/>
          </a:ln>
        </p:spPr>
      </p:pic>
      <p:pic>
        <p:nvPicPr>
          <p:cNvPr id="1190" name="Рисунок 2" descr="C:\Users\user\Desktop\осеннее утро\все деревья блистают в разноцветном уборе.jpg"/>
          <p:cNvPicPr/>
          <p:nvPr/>
        </p:nvPicPr>
        <p:blipFill>
          <a:blip r:embed="rId2"/>
          <a:stretch/>
        </p:blipFill>
        <p:spPr>
          <a:xfrm>
            <a:off x="8053560" y="476280"/>
            <a:ext cx="2706480" cy="2022480"/>
          </a:xfrm>
          <a:prstGeom prst="rect">
            <a:avLst/>
          </a:prstGeom>
          <a:ln w="0">
            <a:noFill/>
          </a:ln>
        </p:spPr>
      </p:pic>
      <p:pic>
        <p:nvPicPr>
          <p:cNvPr id="1191" name="Рисунок 3" descr="C:\Users\user\Desktop\осеннее утро\туча небо кроет.jpg"/>
          <p:cNvPicPr/>
          <p:nvPr/>
        </p:nvPicPr>
        <p:blipFill>
          <a:blip r:embed="rId3"/>
          <a:stretch/>
        </p:blipFill>
        <p:spPr>
          <a:xfrm>
            <a:off x="1401840" y="3828960"/>
            <a:ext cx="2884320" cy="2114640"/>
          </a:xfrm>
          <a:prstGeom prst="rect">
            <a:avLst/>
          </a:prstGeom>
          <a:ln w="0">
            <a:noFill/>
          </a:ln>
        </p:spPr>
      </p:pic>
      <p:pic>
        <p:nvPicPr>
          <p:cNvPr id="1192" name="Рисунок 4" descr="C:\Users\user\Desktop\осеннее утро\словно бабочек лёгкая стая с замираньем летит на звезду2.jpg"/>
          <p:cNvPicPr/>
          <p:nvPr/>
        </p:nvPicPr>
        <p:blipFill>
          <a:blip r:embed="rId4"/>
          <a:stretch/>
        </p:blipFill>
        <p:spPr>
          <a:xfrm>
            <a:off x="7765920" y="3852720"/>
            <a:ext cx="3279960" cy="1974960"/>
          </a:xfrm>
          <a:prstGeom prst="rect">
            <a:avLst/>
          </a:prstGeom>
          <a:ln w="0">
            <a:noFill/>
          </a:ln>
        </p:spPr>
      </p:pic>
      <p:sp>
        <p:nvSpPr>
          <p:cNvPr id="1193" name="Прямоугольник 5"/>
          <p:cNvSpPr/>
          <p:nvPr/>
        </p:nvSpPr>
        <p:spPr>
          <a:xfrm>
            <a:off x="914400" y="2527200"/>
            <a:ext cx="42148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Весь день стоит как бы хрустальны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И лучезарны небеса…» (Ф.Тютчев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Прямоугольник 6"/>
          <p:cNvSpPr/>
          <p:nvPr/>
        </p:nvSpPr>
        <p:spPr>
          <a:xfrm>
            <a:off x="6797520" y="2487600"/>
            <a:ext cx="45324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Все деревья блистают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 разноцветном уборе». (К. Бальмонт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Прямоугольник 7"/>
          <p:cNvSpPr/>
          <p:nvPr/>
        </p:nvSpPr>
        <p:spPr>
          <a:xfrm>
            <a:off x="1609560" y="5761080"/>
            <a:ext cx="429444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Туча небо кроет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олнце не блестит». (А.Плещеев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6" name="Прямоугольник 8"/>
          <p:cNvSpPr/>
          <p:nvPr/>
        </p:nvSpPr>
        <p:spPr>
          <a:xfrm>
            <a:off x="6732720" y="5614920"/>
            <a:ext cx="48099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5c1e13"/>
                </a:solidFill>
                <a:latin typeface="Times New Roman"/>
                <a:ea typeface="Calibri"/>
              </a:rPr>
              <a:t>«Словно бабочек лёгкая стая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5c1e13"/>
                </a:solidFill>
                <a:latin typeface="Times New Roman"/>
                <a:ea typeface="Calibri"/>
              </a:rPr>
              <a:t>С замираньем летит на звезду». (С.Есенин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6T10:32:36Z</dcterms:created>
  <dc:creator>gavrilovainna@outlook.com</dc:creator>
  <dc:description/>
  <dc:language>en-US</dc:language>
  <cp:lastModifiedBy>gavrilovainna@outlook.com</cp:lastModifiedBy>
  <dcterms:modified xsi:type="dcterms:W3CDTF">2022-11-21T18:29:49Z</dcterms:modified>
  <cp:revision>30</cp:revision>
  <dc:subject/>
  <dc:title>Презентация PowerPoint</dc:title>
</cp:coreProperties>
</file>