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E51-9C87-4AB3-8E8B-4B38977B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D6E-05E5-461F-B190-5FE7466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7034-3183-4018-9A7B-9E112891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29C39-D799-48A0-AFB1-A3EC43A1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F9121-0926-45ED-A8D7-DB94EAD8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B7FA1-0E20-4DFB-84B7-D4A0595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F248A-20D4-428A-8A32-A17D458A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4A2FA-6F85-4F90-858B-61DD27A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8B39E-8ABA-4458-8EAA-5A991E4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C31A-2408-48B6-BB14-C1112C45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BF8A-2DFD-4892-81B6-CA141974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D1633-AE1C-4853-9C2B-74E20DD6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387-1589-481E-BD05-CEA345CF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E1C20-A1D0-42B0-BFF1-187C9CA8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B556D-CCD2-4EA0-B99D-6230BCF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E607D-ABFD-4398-A65A-11991B2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84977-AA64-459B-B2F3-E0D0003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B823A-75EC-4B50-99F8-CD838C84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EBDA2-EA4A-4DCA-8101-1B26133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1E4D2-41A6-417B-A27E-242CE00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2B549-2B19-45C2-8B7B-50EB419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6DAF2-74F2-4228-8989-0C68614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6865-11AB-45B5-B376-4ACF30AF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C59-9BD8-4C9F-B324-187BFB15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DA55F-6A55-4D50-BC94-42F5B2B6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D25CB-0916-42F5-A339-B7A0EDFC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E9DDC-0F93-4AF5-A3DC-8EC15EB8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B99CF-59B5-4C00-B52C-E1F9080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58814-8BA3-43BC-B9A7-0CB4292E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47F4-4D5F-4F1B-B5A6-D26F1746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116D8-90C8-48F5-90CB-92A794F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06E76-3132-48DF-930E-DBFDD25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9A84F-5631-4D4A-94C7-88F1170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9D01-61F5-4209-9545-BD39721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F53-DD17-44D6-9F60-51E2D079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CFC5F-7081-42DD-83FD-45FBD2FB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1054-B180-414D-B5FD-3178CB5F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F5BF-4DEB-4D2F-9BA1-DE2DB075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12AA9-C4EB-424E-B853-41C7E9E9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72A3E-5CAF-475E-80E2-5481D2EB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95B2-4D78-44E5-9ECD-5C5603F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434AD-6220-499E-A569-5C2C466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79FF8-1EA5-4A5C-B519-5EABB39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BCAB2-1FF6-40A6-B139-70724140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0B53D-68F7-46B6-A2C5-7222A55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5E0B-7287-4109-BBD4-25D73888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3F73E-3778-43CA-96FF-8BA55C5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0DB67-47B7-4E2C-8E00-365702E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2E439-366D-417A-B714-3A2EE95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0FB7-A554-412A-B323-C7F923F0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7B369-F641-41D4-B9F1-A736546B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01D47-8404-4A2A-A842-E26BB30F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38770-4A5B-4EED-8CAB-E9EF7C5F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D60EB-69FD-4CF5-AEAF-ED54786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F37DF-F398-49D9-83CD-63003C1C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D7B36-2056-4DB6-85B1-719EA9F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A21-C8DA-4F57-BEE6-75C8BA6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227EF-29EC-4C9A-BF46-131FB9B2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FD285-AB7C-487C-9BFD-A2FF3DD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D1E93-E492-44F3-870D-2C078B6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D6F1F-D4F9-403D-9860-C505F80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E40DF-FEB5-4639-B482-7DFFC8CC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F49EE-A42C-499E-9CC9-F241C37B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1ADDD-1B9D-4B8F-A157-74622E6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4927A-00ED-40AF-A5DB-6206C5A2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A4BEA-3CCF-4E30-8774-4CC7C47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53B63-9EE2-4820-AA96-CF0A1EB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C25-F98D-483D-955B-627B835F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45DAA-4EB1-4B8E-9B3F-5FCB1A9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09D69-76BB-4386-9703-63B5907B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4FCEA-C7AA-48EC-B39E-9F0FD6E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5DB5F-6F8A-4D31-87E4-2C5B729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CB787-5838-4B5B-8759-606314F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B3F58-8848-419C-A264-39B2F1B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079F5-EAFD-47E8-BAEA-AC3A38C5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63967-0BFA-43C6-AA5F-61897CF7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2D136-EE77-4784-AAB5-670BFB71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12B25-D604-49FB-A7E3-85973F55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23F4-32BA-4460-A58F-602A7BAE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991B5-6C4B-4501-99F6-E831D6C8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E0673-EF97-4CC6-9881-3C10493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210E9-6A5C-4C28-9A6F-C524E02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D0751-0A33-43D7-9C22-6319D02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DC630-0CC4-4C25-9978-EB382FE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57854-1F75-418C-A1F3-BE89808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BCCD6-27A4-46C6-B594-E10CB07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41425-E745-4E86-8EB3-5ECDD04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9DDFE-7EF3-40D0-A1EB-0AAD6E50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973E9-8FD3-408A-BFB9-8BD087CF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2502-DDCE-4779-9FEF-54F8F5D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0E6D6-4827-4C82-B160-C872EF54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D80B6-891A-4805-9988-EAD75D1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D2A29-3D10-4204-9995-7D7474D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DB60D-F0C6-47B2-9D56-A36DA218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C86A7-CDDE-473B-9CAA-827011D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AB8B6-4E4C-4D05-8D77-44A669C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1AE1C-1CE1-4137-A6F3-CFB7297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7AAAD-A271-4701-A8A3-EBAFC71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EF7E7-463A-4ED7-8112-054C844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CDD18-37ED-4F89-BCFA-DD06D38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F1D-DEF3-44D7-8264-A200B32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BFACF-B46D-4BE7-B585-15D6E2D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C9449-2CD4-4943-8794-03FCC2E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B4E41-538C-4A14-B95E-21F95B22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21404-D322-4FCC-BF0D-3A364996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D54B2-55C0-41DF-B845-0161CE6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AB161-0DD9-4730-B994-3374F5F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9A8E2-1E1B-4436-9936-A4BF9E5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0030F-952F-452F-BC1B-19BC6D4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9F565-630A-4DCF-AFEF-DA76E989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0A1EA-0B49-41E4-8DA2-770EC0E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14F-742B-4802-9F63-53688BE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E1CD-11CF-4709-96F7-8DF086A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0CB1F-BC75-4706-8675-74AA1ED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41A89-C017-4317-BEE0-41992CC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81BA1-2A79-419E-A139-04962FC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C4E3C-8F19-4AB1-B988-F97C0AF5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9CBE1-2798-43D4-863D-4519CC1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BB13-B142-43E3-8A15-EA9E512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4D7-2AE0-4DC2-BF32-34134E7F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FC1-AF9C-4285-A593-41801B31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D58-CA62-4903-9C51-A26634D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6294-8476-475D-9DA0-D6AB51B0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3BBA-081F-468C-91D0-006C3B00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0649-6310-4F67-A37B-EB5AF08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048B-BD0D-47DD-B863-AB67AA7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E121-13FD-4FD4-90E2-7686E46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9C5-57F4-411E-87F3-9A84B5DE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0215-359E-4C6E-9DAA-E87DB2F8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0869-D0EB-4143-B1F5-A6C4EF1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252D-E203-4540-A9D7-94BD3C6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9BD3-0200-4448-8DE8-8FC5BBE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2758-C95F-4415-AB29-C28AE03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9577-C011-41E9-AC8B-11DE37C2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873E-7623-49AC-A090-E715E31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DF72-5FFB-4BAD-B3EB-01D12B4B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5096-9A90-4D98-9FC2-CEC4C83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93AC-691E-42D9-942A-9EA7C8B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032-F150-4267-8A8A-A2E8E43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7E46-358A-4A52-9225-6F5DF5FF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39D4-21A0-41B4-8407-CE5D0DF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1720-7568-4D3F-AE1C-FA80A71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D077-23F8-48EA-B956-DA2BAC6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40A3-5026-4234-BB84-C58C4CF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ED85-7064-4442-920C-BD58499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BF61-F951-4CA1-8EA7-93E933C8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01F2-516F-4A4B-86F2-D6167C84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89D9-34F6-4D23-BD0E-20A1FDF7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FDCB-6F65-4F7B-8A89-2F5A749B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0FF-647F-4FAA-AB7A-0507361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3D47-A6A6-44A6-A20D-8C47BAE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7FA5-1D30-4287-95D6-4B3A3A7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AEE6-24BF-4697-B221-7BB4CD0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1918-0CEB-4518-9AD3-942FAE0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B7B2-2F7A-414E-9803-6E71EB0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DDD8-E9D3-46A4-A13B-90969F7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02F0-E6D0-4F66-9E77-B8AD5B9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BD70-24D6-4C33-9016-2ED2A85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F09C-2BE6-4B69-A1D3-3E42822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F651-10F2-42D0-8BCD-14C8F741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CEB-FFF0-46FC-8875-344D2641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AE79-74F1-4926-99DC-4A720DCD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1049-EBC5-43DE-BFC9-79D8327A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CCE2-0CD0-4ED9-871F-87B94C04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705B-2CAA-489A-8C1F-29B4A5C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62D0-873F-4656-A804-A495889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4BF9-D356-4C0B-BFB1-3BB038C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F6E8-B9F7-4A73-B86E-D14CEA1A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158F-448C-4E72-BF6F-1C332C9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ED70-C42D-4F24-B0E8-DE1D21B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2692E-6DB6-4BD3-98FA-918624D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2CF-C1B7-43EC-BE76-AC0AD7F9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543C-0040-4C3A-8E7A-605C00B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3C92-2913-44A9-BF72-1DAA63BE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3D4B-9799-42DA-92DB-394E7D5B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7C0F-F0C6-459F-9D29-37174FA4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3A39-88A3-4C23-91D8-EB5D3060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78F9-C92E-41E1-98C1-68868D01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7038-06D4-4AC2-BE49-ABD1846A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A855-CE22-4FD8-9122-FAFF3EE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9503-565E-4049-ADDD-485BB364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D9651-5A13-4214-A9D2-0581CF2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648-86E0-4D4D-8A6D-6BC6D51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7F26-F66B-4CCF-8BB1-395A17B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5173F-6BBF-422A-8212-4335523B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617F-1E4C-491F-A1CF-A1CC9F35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7B6B-3552-42F3-B409-734D3985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7707-4C80-4471-8458-C51FC4C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1243-D23D-4A45-B285-F4905E81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42347-B6F4-40DA-964F-454D2038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6159-38E9-4FB0-ADD7-3B42CE44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ACF9-4919-44E9-9057-B8771F37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082F6-09C4-4BCD-A21D-F09BFA90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EE0-2046-43F2-A0CE-671462D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295C5-F322-4765-BF3D-8AAB0B11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36D27-BD43-4B1A-A9CE-838EB22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160E-C28A-457B-84B5-060F6D3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64D8-053B-4C31-B654-0AA5B9E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97185-0197-4DAD-9C71-10F4F2D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D534-5295-4AFF-A75A-C9AF2CC9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E11D-A8C0-44C7-AFD7-1FB597BC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7FA7-43FA-4738-9122-0E1242FA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FEAB-91F3-45B6-AF7E-3EE625E2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1D85C-C73A-402D-85AA-EB91DB5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0505-BE62-496B-98A7-FDA223BF7B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BFAD9-2AB0-4FD1-93A7-559AD5CD00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ECD3E-09B4-48DC-B6C7-C25A28002A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93634-3B85-47C4-A400-FEFC3579FD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F8C38-94EE-43E9-840A-6305EC6711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3F903-0220-443C-AB3F-50ABCE2133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8E770-ADC2-4877-9B20-9FCF6D4EDB0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E9B0D-638C-45B3-8782-B3484AEA41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92F2E-BC0D-4BD5-B852-52078920476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D7980-F985-4B4E-B402-9FAC7F4D93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23FDE-4307-4C9A-BD06-CB0AA391C3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87845-E041-472D-806C-7D36CDDF64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28EB4-1CF1-4B07-8D19-598315A3BC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70EFD-DEC6-4D36-811A-76C0706485F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238BA-40F5-4C3E-9293-808D63DF94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96966-D078-4135-A237-95BADE4CC3D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F0161-4F6C-4726-9A24-150618F84C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1920960" y="622440"/>
            <a:ext cx="9621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Урок литературного чтения во 2 классе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Заголовок 1"/>
          <p:cNvSpPr/>
          <p:nvPr/>
        </p:nvSpPr>
        <p:spPr>
          <a:xfrm>
            <a:off x="3643200" y="6180120"/>
            <a:ext cx="4799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78712"/>
                </a:solidFill>
                <a:latin typeface="AGReverance"/>
              </a:rPr>
              <a:t>УМК «Школа Росси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58920" y="2107800"/>
            <a:ext cx="6864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Рисунок 6" descr=""/>
          <p:cNvPicPr/>
          <p:nvPr/>
        </p:nvPicPr>
        <p:blipFill>
          <a:blip r:embed="rId1"/>
          <a:stretch/>
        </p:blipFill>
        <p:spPr>
          <a:xfrm>
            <a:off x="2273400" y="3492360"/>
            <a:ext cx="23842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3"/>
          <p:cNvSpPr/>
          <p:nvPr/>
        </p:nvSpPr>
        <p:spPr>
          <a:xfrm>
            <a:off x="4188240" y="527040"/>
            <a:ext cx="45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Calibri"/>
              </a:rPr>
              <a:t>Речевая разминка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5"/>
          <p:cNvSpPr/>
          <p:nvPr/>
        </p:nvSpPr>
        <p:spPr>
          <a:xfrm>
            <a:off x="676440" y="1682640"/>
            <a:ext cx="1138392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дул ветер – У_У_У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желтели, задрожали листья – Ф_Ф_Ф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летели на землю – П_П_П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Зашуршали – Ш_Ш_Ш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3633120" y="514440"/>
            <a:ext cx="50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Calibri"/>
              </a:rPr>
              <a:t>Логическое ударе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Прямоугольник 2"/>
          <p:cNvSpPr/>
          <p:nvPr/>
        </p:nvSpPr>
        <p:spPr>
          <a:xfrm>
            <a:off x="2941560" y="2027160"/>
            <a:ext cx="748836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десный осенний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ден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десный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осенний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нь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Чудесный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осенний день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http://nevvod.ru/upload/medialibrary/5da/5da31b1d4231d0b088f2b94cf6dc79ad.jpg"/>
          <p:cNvPicPr/>
          <p:nvPr/>
        </p:nvPicPr>
        <p:blipFill>
          <a:blip r:embed="rId1"/>
          <a:stretch/>
        </p:blipFill>
        <p:spPr>
          <a:xfrm>
            <a:off x="6197760" y="2125800"/>
            <a:ext cx="4252680" cy="3189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58920" y="2107800"/>
            <a:ext cx="6864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Прямоугольник 9"/>
          <p:cNvSpPr/>
          <p:nvPr/>
        </p:nvSpPr>
        <p:spPr>
          <a:xfrm>
            <a:off x="954000" y="2511360"/>
            <a:ext cx="361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го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тей ждёт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ин седой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й молодо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ий скачет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вёртый плачет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143080" y="108000"/>
            <a:ext cx="891072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ЛЮБЛЮ ПРИРОДУ РУССКУЮ. </a:t>
            </a:r>
            <a:br>
              <a:rPr sz="4000"/>
            </a:b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ОСЕНЬ.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Picture 2" descr="http://nevvod.ru/upload/medialibrary/5da/5da31b1d4231d0b088f2b94cf6dc79ad.jpg"/>
          <p:cNvPicPr/>
          <p:nvPr/>
        </p:nvPicPr>
        <p:blipFill>
          <a:blip r:embed="rId1"/>
          <a:srcRect l="-2377" t="49769" r="49758" b="0"/>
          <a:stretch/>
        </p:blipFill>
        <p:spPr>
          <a:xfrm>
            <a:off x="4097160" y="2583000"/>
            <a:ext cx="3392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1" descr="C:\Users\user\Desktop\осеннее утро\весь день стоит как бы хрустальный и лучезарны небеса.jpg"/>
          <p:cNvPicPr/>
          <p:nvPr/>
        </p:nvPicPr>
        <p:blipFill>
          <a:blip r:embed="rId1"/>
          <a:stretch/>
        </p:blipFill>
        <p:spPr>
          <a:xfrm>
            <a:off x="1536840" y="317520"/>
            <a:ext cx="3065400" cy="2060640"/>
          </a:xfrm>
          <a:prstGeom prst="rect">
            <a:avLst/>
          </a:prstGeom>
          <a:ln w="0">
            <a:noFill/>
          </a:ln>
        </p:spPr>
      </p:pic>
      <p:pic>
        <p:nvPicPr>
          <p:cNvPr id="1190" name="Рисунок 2" descr="C:\Users\user\Desktop\осеннее утро\все деревья блистают в разноцветном уборе.jpg"/>
          <p:cNvPicPr/>
          <p:nvPr/>
        </p:nvPicPr>
        <p:blipFill>
          <a:blip r:embed="rId2"/>
          <a:stretch/>
        </p:blipFill>
        <p:spPr>
          <a:xfrm>
            <a:off x="8053560" y="476280"/>
            <a:ext cx="2706480" cy="2022480"/>
          </a:xfrm>
          <a:prstGeom prst="rect">
            <a:avLst/>
          </a:prstGeom>
          <a:ln w="0">
            <a:noFill/>
          </a:ln>
        </p:spPr>
      </p:pic>
      <p:pic>
        <p:nvPicPr>
          <p:cNvPr id="1191" name="Рисунок 3" descr="C:\Users\user\Desktop\осеннее утро\туча небо кроет.jpg"/>
          <p:cNvPicPr/>
          <p:nvPr/>
        </p:nvPicPr>
        <p:blipFill>
          <a:blip r:embed="rId3"/>
          <a:stretch/>
        </p:blipFill>
        <p:spPr>
          <a:xfrm>
            <a:off x="1401840" y="3828960"/>
            <a:ext cx="2884320" cy="211464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4" descr="C:\Users\user\Desktop\осеннее утро\словно бабочек лёгкая стая с замираньем летит на звезду2.jpg"/>
          <p:cNvPicPr/>
          <p:nvPr/>
        </p:nvPicPr>
        <p:blipFill>
          <a:blip r:embed="rId4"/>
          <a:stretch/>
        </p:blipFill>
        <p:spPr>
          <a:xfrm>
            <a:off x="7765920" y="3852720"/>
            <a:ext cx="3279960" cy="197496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оугольник 5"/>
          <p:cNvSpPr/>
          <p:nvPr/>
        </p:nvSpPr>
        <p:spPr>
          <a:xfrm>
            <a:off x="914400" y="2527200"/>
            <a:ext cx="42148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сь день стоит как бы хрустальны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лучезарны небеса…» (Ф.Тютч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Прямоугольник 6"/>
          <p:cNvSpPr/>
          <p:nvPr/>
        </p:nvSpPr>
        <p:spPr>
          <a:xfrm>
            <a:off x="6797520" y="2487600"/>
            <a:ext cx="45324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се деревья блистают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разноцветном уборе». (К. Бальмонт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Прямоугольник 7"/>
          <p:cNvSpPr/>
          <p:nvPr/>
        </p:nvSpPr>
        <p:spPr>
          <a:xfrm>
            <a:off x="1609560" y="5761080"/>
            <a:ext cx="42944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Туча небо кроет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лнце не блестит». (А.Плеще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Прямоугольник 8"/>
          <p:cNvSpPr/>
          <p:nvPr/>
        </p:nvSpPr>
        <p:spPr>
          <a:xfrm>
            <a:off x="6732720" y="5614920"/>
            <a:ext cx="48099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c1e13"/>
                </a:solidFill>
                <a:latin typeface="Times New Roman"/>
                <a:ea typeface="Calibri"/>
              </a:rPr>
              <a:t>«Словно бабочек лёгкая ста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c1e13"/>
                </a:solidFill>
                <a:latin typeface="Times New Roman"/>
                <a:ea typeface="Calibri"/>
              </a:rPr>
              <a:t>С замираньем летит на звезду». (С.Есенин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29:49Z</dcterms:modified>
  <cp:revision>30</cp:revision>
  <dc:subject/>
  <dc:title>Презентация PowerPoint</dc:title>
</cp:coreProperties>
</file>