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B0A-987E-403A-B721-D3511509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BFF-3A02-45AA-9A1B-170E4F7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77FB5-0F0E-47AC-B98E-CCC7E8F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5293D-B39D-4D39-8186-7C08520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BD01-EB62-48C5-9E3B-5D28498A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5BAB2-F71E-4066-B517-3D1ACBF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B8E6-4546-4B15-BD72-EFBE9017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643E6-CC57-4EB1-B7BE-4CEDFF4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2DD1A-3279-4047-9660-5C1B3F6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61D6-DBBA-4CDB-B8DD-EB48B8E6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A9B6-4328-4490-90EF-7EFDF550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D0C42-A572-4E77-9E84-50756CA2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3E6-64E6-4D6A-9060-D7CCE8FC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8188C-57A6-44DD-8102-A658DB73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E2728-F7D6-4D21-B30A-D11E193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BDD0A-220B-4416-8588-04833E4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21037-C70E-47F4-8D2B-436BAE25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AA0D9-6B51-46BF-9FEC-0503AC4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91EF1-9E4D-40E0-B476-A8E3B5DF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AD6C3-35AF-4092-A6F4-3789B0B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4A169-7AB9-455B-A5D5-92E7969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E265-68CC-4B08-BE0A-E3F02C6B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60DD2-3378-4783-991C-A79AE3D7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DB6-BA89-402D-BAF9-20F2B460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09363-9CF3-4855-BD87-E91E8AB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5AE98-046C-4728-A8AB-D84E956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4EE6F-4425-4846-9B8A-C51D5AA0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33A10-1D9A-4FF1-ACA8-FC77F1E4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8F27B-91BA-476F-8AC8-DBDA7E5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F2B24-D215-4E84-B001-D215913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F4DCF-EDB5-4EDC-9E62-42E503D3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40D06-13EF-41D2-9201-F6DAEBE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01DF1-06CA-436A-BB2D-F5E7B99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1E85D-6364-418E-98BC-C317710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16D81-430C-4FD0-9336-C4C70CDA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4F2DB-6AC0-4279-8920-8000C4E4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E9FCE-D061-46E1-998B-2CDD462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30DA-35F0-4485-BBCF-E68AFAC3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1506-5198-4BE4-A0B9-439AF2D2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75B4-32D2-4392-B542-620B4F2A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8FA72-E8BC-447C-B9E4-82653E2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244C2-68D2-4B57-A361-55410BE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AA958-7BA1-4FA0-A082-F410AE39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1BDC-F5B0-4566-8F1D-BEE9650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5659-192E-47A7-AA68-9AEC7FD5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7674E-EB8F-4954-924C-D5397A4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E01DD-5FD8-48D3-9D70-74EFDBA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35257-6E50-46B4-B0D7-43CF86C6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35D2-7B7C-4F7C-91DE-8AF008C7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A987E-BB29-4E56-9771-516C3602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FF8D0-B48B-4125-83ED-C7F7082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B304-1781-4CE0-819B-5752A2EC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41E05-9AE2-445C-96F5-43393BB0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4D952-AFAE-4278-BE41-0AF5160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F50A7-221A-4A32-9884-FD24F43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9D0C8-7F9D-4D50-A8E3-DB3983A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25C01-F002-4C71-9B73-814ECF4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F0591-1A07-4BDD-846F-D20A9AA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5C9C4-B4AF-4092-84DD-939BBD0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CDE8C-6B4D-48EF-AF6C-8706EFFD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9181F-D34A-49CB-953E-3EA7010D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085F-9029-41B8-B22B-07A7C88D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2A37E-FB93-4DF4-996D-AE5EDCEC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64EE1-DC1C-4B67-9EFF-B89BF2A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935F4-B039-4271-BC5C-A24F945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38FC5-B4F8-433C-99C1-7B22981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E287F-A40A-4D5F-8892-852F1B2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8AD41-91BC-4643-9B4E-ECA938C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E286D-AEF9-45DA-BB04-CEDDC8A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93516-1660-4A00-AF2A-7B97F08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7A833-ECAD-47D8-BBA7-CAF3495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7002C-B581-4934-988D-1DB9413A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34DB9-2FCB-4B33-AA0A-4A0239BF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E9DC5-0275-4F57-B857-D2BEEE3A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D3147-F91F-4A2E-BF03-5E47BE1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51A6C-7FC6-4A32-8D69-3EE641C5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3FD77-9F4F-4A13-864E-2F656FE3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D8E93-0838-4B0A-8924-2839123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019AC-6F9A-4B31-A38C-11E8879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E23D4-7C6F-4D26-89E7-89015B7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E59E7-2211-4317-A8D3-AA50153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BC389-9D55-4B68-A7DA-E21F388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86991-874E-4A52-8BDD-35F5FCF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CD2AE-140C-48F7-958F-34E1D399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58414-B06C-40F3-B6A7-730CC916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2A7B9-C6E3-492D-BC3D-C08F22A7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BBF96-9C39-4D9D-92EF-F58984E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E8AC7-31AA-4A6F-8B88-0B984E7F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A9779-F8CC-416D-B2A0-E34ECC65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1C45B-D4EF-4CB9-8A6F-5C6CA63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8FCE7-624E-43B5-88F6-BA6A22E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7DA51-3B4D-4841-BE81-3869376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498C8-87EF-4D9D-9526-36E7F31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03CAA-EB40-424E-AE9A-17B1BAB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23C41-E618-4E57-A5BB-83E4AEA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18E09-EB58-422D-8419-86D825B2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6EE05-ED38-43C7-96A0-70C2006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2CE45-4D03-41CE-8C2B-A7C79E4B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9AB8A-0280-4713-8811-B3D7B71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78BB5-FB66-496E-BF2E-0577FAAF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EEDA8-3ED2-4749-8155-8FEEE11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2765D-972E-441A-9DCC-0E36FA8E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2D01E-8472-4630-A35F-5FF04591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AAE48-FD0F-4F23-AEC5-A11159D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A44-9EF7-42DC-AFAA-0EAF0AAF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D6EDC-10D7-4CF2-8759-7C70E4F9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9735B-48D6-43AE-9CE5-4E59F05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37184-CEE6-4F9A-9259-93D87C9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0AE32-DBE2-49C4-B7F9-B578C8B0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B9E3C-D659-4C83-9049-855A3943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EE762-9BF0-4C51-8BBF-6AED12BA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7C4EB-094B-440C-AABB-6324E72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4F1F6-D25F-4D74-9D0D-1336C8E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8F6F0-469C-4F29-BC17-9EDD679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57F6D-3791-4717-B15C-FBA7744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6F3D8-5FF6-49D5-A0DB-4417677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E7345-A598-4799-AA11-37438C2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E2957-6513-4EBF-876F-81D8462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F7781-A404-4CE7-87DE-F958559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00B25-FAB4-4B2E-BB28-74B2906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30BF8-8C41-45FD-8311-3FD4333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65855-2DAA-42EF-BCC0-04816FFF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702AF-14B0-4372-93BA-29706ACC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C5517-673C-449A-AF93-7396F886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5FA1B-E15D-4CB7-BB1C-30FB7FE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A9D8A-D973-4292-BDF3-F1CFB88C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E5087-882F-4122-9C97-C558711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774C3-96D2-4865-BAE8-F8220FB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458B3-31F4-4A5A-8902-EE94117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AB0C3-A097-411E-AD66-C8295C4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1D58F-566F-4370-AB35-0ABF6E3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60DAEF-0E77-4625-A25E-A7C12AD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7D363-D0B3-4376-8C09-F45EAC91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80A83-6B25-45CB-B159-EC0D7165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DE17F-03B1-475C-9ED7-7764507A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2C2C8-F17E-4544-9599-0B0E545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16B55-257F-45BB-9A1A-5B91E3E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01E7C-17AB-40F3-93D2-5ADB6C5C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66A75-CF55-4115-8ACD-B557BFDD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4C2AC-94AC-4167-A657-032891D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1A34C5-606F-410B-87AE-B203E39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EF4E8-23FB-4E4B-8E26-A186588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98089-B361-4930-AC17-6E7DFDD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2B008-8E24-4EED-A7A9-DAD2E94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62797-C278-46E8-9A96-6E5EEEC5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6C68C-340D-494E-B42F-3AC0049D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38DB7-7F0A-4FD8-BCDE-90E1E258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46F01-8406-4FA3-968C-03B7471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A4C56-55B6-473F-AE97-37CFE72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FE6C2-1CC2-42F7-9267-B78B8774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84BB0-3D1C-49DB-8D78-A16BD1F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7D31F-A693-4E46-8042-3431F83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327B8-636D-4509-89B7-CB6194E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556B9-DA95-4E28-BB30-16E76D3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B8374-06F4-4637-9611-E142FCF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48B8-2E92-4B09-9108-FB68478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C44D2-D8B4-44A6-A305-1540A15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DFC14-0971-457A-BFD4-E65970FD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1DAA0-BF0A-4171-A276-B159ED08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3925A-A24F-45B6-B456-ED7A5D34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D5C3F-CE32-4369-ABA4-89EFDD0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764C5-938B-4197-9068-12D0E111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94ACF-A239-4424-B5C3-8402657D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E5FF0-64E9-4316-A13A-B88C983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EFE96-BB4F-4B8C-A624-7FD92C9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ED265-28DC-489E-A025-953828B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259C-D9C6-4B03-B2F7-E4DEF8F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6F58B-B43B-4343-A046-9AF9F41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5C86C-A7F5-4FC3-B90D-9E2A216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235CA-8DD9-4F77-B59E-61F61FF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72849-C2E3-4421-A435-5C6E64A0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CE69E-667E-4B96-A869-C10E6B4A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DADB3-7F77-43D5-9967-427D9528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4C5D4-5B1B-41A9-AE02-A9AAA92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ED49D-00D0-43B5-AC1A-92EEE72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49979-277F-4DB3-8A65-77DF800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822173-7A20-4A73-ACAF-C84B9F3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0D5E-1ECC-434E-AE32-CC19CE3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8FBDFD-27B3-4C50-BF3A-1FFE84A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48C6E9-2B6E-4157-9401-317FDF1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FD648-4A40-4B26-A39D-9C6F331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59731-1F3F-4707-96AF-6C48165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9D6375-532C-4AA9-86D1-44B0AB7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EFDA0-28FF-4D00-9E5E-7A31F668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10AAB-7AD4-4E88-B168-478F4CD3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4D412-C1BF-466A-89C5-2262EE45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79F59-BC14-4862-AE08-6A60763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915415-2705-4A01-AD02-7AE58401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C30-9EBB-461D-9549-E86A83FC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1B28F-1106-49E3-A089-190E9FC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754C2B-2087-43B9-9487-583E729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57DBC-293D-4855-B6BA-DEA2537C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AC9DE-8A25-4923-8A19-976A133B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5AB95-A815-4F92-BC81-49991BF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B5EFB4-CCD8-4C8C-97A0-DE4764B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5B8F06-FC13-4828-833B-B853263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A7960-AD90-4E90-9E70-BBC01228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2B85B-532C-451E-806F-A9660C8F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08BC3F-EF8B-451D-B2E0-8EBAE4CB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C07-E1C3-4D9B-8E82-CDA7D9AE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B64E9-C1CC-47BB-87AC-4B34BF5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53A9BB-8E5A-48DF-8C66-28154E04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06CC11-8968-4B90-9457-17D7AA8A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E7785C-09C7-476B-BB18-AA7BE9E6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1B8B7B-1D70-43A5-8EF9-5F2AA5F4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5F6D91-2D42-4118-B71C-18B0DB1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83B361-C5DF-44F9-9557-7F2F525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B0F505-AC07-43EF-A4FF-8691902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5F2338-9AFE-41A7-9C77-A4453EDE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599DB9-9354-4BD2-9CCD-0F38D3C8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890-EC53-42FB-B729-6DA44ED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A7A3-DFF5-45C8-B797-CE3F6AB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5C45C-723D-4FD0-91B6-964A29C6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42BDBE-C6B6-4BD7-A10D-52BA052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81E83B-E2EA-452F-AA61-237CDDDC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8C9B2D-97C6-4971-B990-4077B7C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9FD7B-D6EC-467C-B1E9-4381B27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2FCA82-33F3-4C1E-8A59-6C7D655B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B086D7-C9D1-4EBE-A88B-1D7D34B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7A5DD-72A3-4F49-BDC0-0E03DD1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E7796E-AC36-4E81-AB63-A78BD37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E7C2A0-CB4D-4663-BBA0-9A06C8A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965-DFF1-4E20-A82F-06C7A06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8AA759-2DF4-43F5-A862-B4E8BC0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F6BD2C-5203-401C-99B3-3ED6AFF5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4812C-E22D-494D-BFE7-A1C35242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0D26D4-59EF-4B41-9579-CFFAC5A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091840-044F-453A-B78E-CCFE483F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302B53-209C-49EE-960F-A21DA587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84B738-E76E-45F3-9BD0-2E7B3A75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629B43-BEA2-4D87-B586-49AA15C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1249E7-A7CA-4362-877F-27B850EB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564406-4C33-4371-A0CD-EC205B2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608-B37D-453C-A22A-48164F8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29E091-70C8-4064-B81B-7562968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730762-C1BE-4511-8ED6-FB6F463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B122AE-B0BF-4A1C-84EA-E82C73C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FCE6D4-70F7-4ABB-AEDF-A5F63C56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A0918E-7673-43C0-BEF9-74AFBC11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FD4F47-01A7-46EA-AEFF-B9010087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EC4831-A6FC-407C-BB62-3DFE9B5D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D86689-96A8-4078-896A-939A1C4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853228-BDBF-46C8-8DCC-71C1AD7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A25913-D9C8-469E-9B30-4901568D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4ACC-0297-4EF5-BD14-87258C0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FA4C9E-2CC4-4EAF-A15A-699883F7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FE984B-F8C8-4E29-BE7C-AC7DB47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A05A84-E056-4A05-BB8C-49DC835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DCD1F8-50E6-43F4-91FD-4149170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F7497-B172-4D98-BCAF-32E4124C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85B533-F01C-4102-93CB-1A08BBDE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6EDD99-4E91-4350-9382-3DF8587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7EB2EE-62B5-4FD7-92B3-2A782B81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EB6728-EBA8-4448-9D51-2FEDD6D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39E2ED-30EB-4B55-BFA8-85EC98AD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A28-AAE9-44AD-89B5-3332360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7ECA9C-4817-457F-BA30-CA5B598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8AD7FA-0B2F-465A-9DAB-63DA7F60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9BFCA0-D5BA-4DB2-923B-D1AE9ECA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77F5F5-2652-4531-9826-575DBBD4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07AA13-814D-4187-A502-27C0ACD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540960-559A-40CA-8928-BFA4C33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A43532-CCA4-4719-A730-F0B0784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24AEB4-5CBB-4E19-BD9D-5B57FED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357642-4A36-45F2-ADFA-B6744422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1B8-B7F0-49F7-A165-E8144C4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1928-8958-49C2-A578-10A9848E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5327-DFF7-408E-885E-33FCD54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49B4-CB76-46B5-B312-EF8CA74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1DD0-9732-4487-99A6-050A0958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7D2-EFF0-4507-8224-0F4551DC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2E8E-76CF-4AB3-91F6-25F2B1B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13D6-953B-4580-83C9-47CB836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067D-27FC-4141-834D-5AF75FF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F0CA-BBA4-474F-921B-654BC80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CE4A-61D2-447B-AE50-2D1EF6D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6DBC-52DB-4A74-9A7C-F79354D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87F3-D6BA-4F89-A43C-D530DC4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945B-CB0A-48C0-8C9D-40058D17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3497-9E57-46B1-B377-2CB1E943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4BAA-F3B6-4168-BA11-613E92D7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F6A-603A-44AC-B2C2-9A8178B2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B5B3-BF2C-4F15-B87B-1371111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CF0E-3796-4A32-81D6-2BB3C4B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37E5-5767-463A-9F75-343CA76D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9C45-2664-479E-9F40-EAA5B040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00B3-B423-441A-A266-F63BAE8B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F1D1-445D-4639-A344-5F81DA1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6261-6629-4485-B381-4214C52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84A3-56E0-4B21-B0E9-2DC32BD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3113-6E54-4FBB-8223-0CF56F3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BB3B-2B89-4C74-AA70-5A4A6030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3BE-452F-437F-915C-4F226BA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8536-17F9-48E9-8995-7DF1BE04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50F6-6B54-4FCA-A664-F8BA3917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ECAD-3EFC-4659-919B-382F2799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AD2B-FAE7-4C33-A013-60BFA28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BDB8-689A-41BA-9657-D5A87856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79E6-6721-4F38-A748-AEEC90E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6C67-B52A-459A-AA98-22D63560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C307-BC1F-4D4B-A935-81D11ED9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31CF-AA19-4CCE-9726-0C5C10E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A2FAB-2D3E-425E-8DA5-ED38728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84D-AA17-4636-817F-61DEF8D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F525-CBF8-49E9-83F1-BE89EA5F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3780-33E8-4FFA-8DE3-F5A1FE5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9A9A-5E01-42D0-BAA7-DB1E7FBC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79EB-BEC6-44A7-B366-1736FB6A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9DEB-BF84-44C2-9F19-F360859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CF75-85B8-40BD-95E2-1EB2830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35CA-C1E6-4A21-B3F4-588ED17B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C80CF-0FFF-4749-8CDB-43588E78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B2CD-1D22-4114-9195-F5867A6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763E-3705-485B-B2E2-7143BCC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7BF-FF59-4D73-B429-20A36FF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F92A-7551-4F86-91FC-B9AAFA8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B401-269C-48E7-9470-89443BD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12F9-2BF9-47A1-B980-64D66F7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FA690-1F28-4A6A-A25E-B2D11D83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F186-1764-492F-A2B1-0B1422F8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A081-BBBE-4022-A5EC-BEC3B07A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30D1-23AC-4BE0-8BB0-87F0ED9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FB65-9EDF-4A53-847E-9590BE2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E7AA-05D3-4BCE-9882-5A13B32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674B-C9BC-4461-A352-9255D12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A21-B485-474B-82EA-4AD3A0AD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881E-65B6-4F2C-9981-220FAC5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C5E3-6F06-49C2-9CFF-05F3F6E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3E9F-EE4C-4954-8658-2A9C2EF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C969-3BFB-4DFA-984E-B04E331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4DD7-5267-4CB3-A44E-264121DD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56993-BE50-46EA-A3FB-C3C8CEC2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D461-AF71-437C-9733-EF88ECC7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B3A4-FEBE-4949-B14D-80B441DF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495F-6FE0-4D45-BC19-A09B1FA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15F34-D8FD-4F7A-BCBE-76E65BC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2EEBE-7049-4CCD-B78D-F6097A1A42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8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0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10CE8-2A3D-4AE4-A6AC-9A830955965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5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7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8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DF20A-EB31-4472-B4D4-C52433AE505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2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3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3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5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F437F-DE64-4124-B642-D5B2353950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9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0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0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2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5F757-044F-4C5C-9C43-7DC7B0FB0D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6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7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CC70E-EF85-4499-85DC-52A3D22F61D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3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4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F568-8E16-463E-94CB-AF05CBAF892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1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44FC9-8EBD-4D16-A23B-951CC79862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8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91EA0-9AEC-4D0B-B6D3-3310D71E193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5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EB7D5-9FF5-4CB9-9E44-458BEE4AA3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5459-455E-4275-AA5D-080CFAC6E1FE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614-BBE7-47E5-89C5-E979577D6E2A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7410-32C2-4E53-9540-41F0D1009164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F17-D54F-4034-B5DB-7BA54EF5522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3591-7F64-4A2F-9105-419AE800C529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A9B0-8607-4FB9-8ACB-E4CF281EAEC2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dt" idx="7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ftr" idx="7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sldNum" idx="7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121-0454-4CEF-8575-24A9B2E3581F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dt" idx="7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ftr" idx="7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sldNum" idx="7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BFD4-84E9-43CE-9FAB-04532EB78E1D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dt" idx="7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ftr" idx="7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sldNum" idx="7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DD3-49CD-4FA0-8D87-0BEAFF4478A9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dt" idx="7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8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Num" idx="8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247D-F31A-4D1C-8BB8-FE005D286E3A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dt" idx="8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ftr" idx="8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sldNum" idx="8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862-1AD1-4B18-B073-28DF23A0620E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C9606-3476-4EE7-9436-80DCC9D55A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9ADC8-AD38-432B-B66F-80E62A8E36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4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5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102C4-BE39-4433-B6C2-4955322413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1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2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5344B-8CA0-487B-AD9C-E890FF2DDE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8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9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2CBDC-D471-4F03-8CFF-B16CD2A8107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5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6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6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7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28643-24AB-4E17-B77A-B6C4FA381F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1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3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3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4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0B61B-1CB8-44E1-A7EC-7F24AF37AC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Picture 4" descr="https://goods.kaypu.com/photo/5994b6dd384e1f50ba5c9b26.jpg"/>
          <p:cNvPicPr/>
          <p:nvPr/>
        </p:nvPicPr>
        <p:blipFill>
          <a:blip r:embed="rId1"/>
          <a:stretch/>
        </p:blipFill>
        <p:spPr>
          <a:xfrm>
            <a:off x="1738440" y="500040"/>
            <a:ext cx="1896840" cy="2638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2" name="Picture 4" descr="C:\Users\Ирина\Desktop\80404_1.jpg"/>
          <p:cNvPicPr/>
          <p:nvPr/>
        </p:nvPicPr>
        <p:blipFill>
          <a:blip r:embed="rId2"/>
          <a:stretch/>
        </p:blipFill>
        <p:spPr>
          <a:xfrm>
            <a:off x="4187880" y="803160"/>
            <a:ext cx="1827000" cy="2384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3" name="Picture 2" descr="C:\Users\Ирина\Desktop\54749114_prishvin_zhalka.jpg"/>
          <p:cNvPicPr/>
          <p:nvPr/>
        </p:nvPicPr>
        <p:blipFill>
          <a:blip r:embed="rId3"/>
          <a:stretch/>
        </p:blipFill>
        <p:spPr>
          <a:xfrm>
            <a:off x="7180200" y="249120"/>
            <a:ext cx="4130640" cy="334008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2" descr="https://astrocollege.ru/public/storage/books/cover/21/23/47/21234779.jpg"/>
          <p:cNvPicPr/>
          <p:nvPr/>
        </p:nvPicPr>
        <p:blipFill>
          <a:blip r:embed="rId4"/>
          <a:stretch/>
        </p:blipFill>
        <p:spPr>
          <a:xfrm>
            <a:off x="950760" y="3556080"/>
            <a:ext cx="2073600" cy="31384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5" name="Picture 14" descr="http://xn--90aamkbbnf2a4b.xn--b1afaboidnttn.xn--p1ai/images/ub2013_123.jpg"/>
          <p:cNvPicPr/>
          <p:nvPr/>
        </p:nvPicPr>
        <p:blipFill>
          <a:blip r:embed="rId5"/>
          <a:stretch/>
        </p:blipFill>
        <p:spPr>
          <a:xfrm>
            <a:off x="3454560" y="3630600"/>
            <a:ext cx="1963440" cy="3051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1646" name="Прямоугольник 8"/>
          <p:cNvSpPr/>
          <p:nvPr/>
        </p:nvSpPr>
        <p:spPr>
          <a:xfrm>
            <a:off x="6269040" y="3614760"/>
            <a:ext cx="592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c1e13"/>
                </a:solidFill>
                <a:latin typeface="Comic Sans MS"/>
              </a:rPr>
              <a:t>Михаил Михайлович Пришвин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c1e13"/>
                </a:solidFill>
                <a:latin typeface="Comic Sans MS"/>
              </a:rPr>
              <a:t>(1873–1954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7" name="Прямоугольник 9"/>
          <p:cNvSpPr/>
          <p:nvPr/>
        </p:nvSpPr>
        <p:spPr>
          <a:xfrm>
            <a:off x="5910120" y="4473720"/>
            <a:ext cx="63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а Пришвина в народе называют «певцом русской природы». Прожил долгую, насыщенную событиями жизнь. Родом он был из бедной купеческой семьи, проживавшей в Елецком уезде Орловской губернии. Получив хорошее естественно-научное образование, Михаил Михайлович работал агрономом, в течение нескольких лет был сельским учителем, библиотекарем. Все произведения писателя проникнуты большой любовью к природе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Прямоугольник 1"/>
          <p:cNvSpPr/>
          <p:nvPr/>
        </p:nvSpPr>
        <p:spPr>
          <a:xfrm>
            <a:off x="351000" y="5165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Работа по учебнику с. 6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9" name="Рисунок 2" descr=""/>
          <p:cNvPicPr/>
          <p:nvPr/>
        </p:nvPicPr>
        <p:blipFill>
          <a:blip r:embed="rId1"/>
          <a:stretch/>
        </p:blipFill>
        <p:spPr>
          <a:xfrm>
            <a:off x="2127240" y="1414440"/>
            <a:ext cx="2987640" cy="3565440"/>
          </a:xfrm>
          <a:prstGeom prst="rect">
            <a:avLst/>
          </a:prstGeom>
          <a:ln w="0">
            <a:noFill/>
          </a:ln>
        </p:spPr>
      </p:pic>
      <p:sp>
        <p:nvSpPr>
          <p:cNvPr id="1650" name="Прямоугольник 3"/>
          <p:cNvSpPr/>
          <p:nvPr/>
        </p:nvSpPr>
        <p:spPr>
          <a:xfrm>
            <a:off x="5811840" y="690480"/>
            <a:ext cx="44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Послушайте рассказ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М. Пришвин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«Осеннее утро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рямоугольник 4"/>
          <p:cNvSpPr/>
          <p:nvPr/>
        </p:nvSpPr>
        <p:spPr>
          <a:xfrm>
            <a:off x="1913040" y="1181160"/>
            <a:ext cx="9674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а-ра-ш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-ти-ком – парашютико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о-тыль-ком – мотылько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ало-помалу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шеп-чешь - шепчеш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о-буж-да-ет-ся – пробуждае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а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-ле-те-лись – разлетелис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он-чит-ся – кончи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а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520520" y="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Прочитайт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48:49Z</dcterms:modified>
  <cp:revision>39</cp:revision>
  <dc:subject/>
  <dc:title>Презентация PowerPoint</dc:title>
</cp:coreProperties>
</file>