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678-0937-49B9-B13D-F9BF85E6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1FD-70A9-481B-ADD3-5B0730F6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C98DE-DD7B-42D0-A0BB-A9812024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38B78-40A9-4E66-903E-B20F37DD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0E01D-399F-4D58-B090-1D18EADA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7ABA1-CC41-4406-8F0A-28ABB1D1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61F56-F07A-4D91-8532-9BA32085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5AB95-4728-4885-81DD-14C9BD28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544CC-C758-4D92-AFB3-9D24319A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A0D7F-6E25-401A-9EDA-94BB8581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F8DEF-8EC1-42B5-93C6-8BC4A19A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44532-29A6-48F1-800B-10A4A272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2DD-497A-4A32-85C6-906465BE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C51A1-EBA0-40B5-A9AE-E6B17C6F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8E581-8D96-4652-A6FB-8355A5C3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0CABA-2A0C-40C1-9F1D-F9B994C7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6B863-B3AF-40E2-B43E-A6F70E34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2CD30-D08A-47E7-B0A6-DE1596D0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E12A7-376C-4BFE-87D6-EF956215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D5476-5AC3-4CFF-80CC-74C254F3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26DA3-C760-4ED2-9497-B13236C1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0BECD-0634-4AAD-941E-2AD7E1E5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2E6F8-AAFC-48A4-ADD8-139861D5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02C-99D4-481F-96FE-EF00C686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54B0B-D648-4B14-99C3-010E50CF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B3163-E9F8-49E4-A53C-A78E91BE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3C01F-3821-4443-91C8-248C9269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23136-A638-46A2-A45B-D09C2F29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7A850-8725-4A2D-9B81-AD3CFDDA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4AE46-1A70-4847-89CD-5BFE14AA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604D3-7CE3-4301-87F7-C3CB9089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61835-8A42-4402-A569-0DCA04FC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08AB6-7F73-42F8-9137-5679F401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54FEF-65A8-49C7-8CC7-C0BEFFD8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C0881-10BB-4CBB-B589-759FBFF0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1D689-7BB6-4A7B-ACD5-B2F211E2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8B719-2A1F-4231-9E61-24AE2D3B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3D3CE-545F-46BF-9961-B47B6B63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3A163-C3C4-4E16-8FA1-39468774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4000B-654A-497E-896C-8EC8F014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E8A4C-B37D-4333-94C4-084702BD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8D96D-E395-453B-A056-DF2FDEC6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D2EC6-8C00-4810-92FE-BA14E0B1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C6274-EB9A-48E4-96DA-22AE517C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BCE47-2735-4BF7-BAE3-200EEC5F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B125D-0859-4A49-9DDD-A9B09F50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8FE24-0950-409B-AB77-8024D7E5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B8402-D94F-4CB5-B998-AA521E8D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AC3AE-F8E8-441B-A264-343A83ED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C71EC-33D4-450F-B402-86E56595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5AB18-9242-490B-8FB3-9E40B45F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35C63-4E13-4D32-948B-B0EB9620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6E03D-D6EB-41EF-999C-F89C7E67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42B0B-620A-471A-B275-F7BE7E91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EB6D8-0DA4-4D75-86FE-9774003B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FED62-4CA8-4B7E-97C8-E40AD2B2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1189E-0A9D-4398-ABF6-AC2462BD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8E1E2-FBC8-49C7-B0E3-A1893780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D2CAF-0E52-4583-A968-D8AF081D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7AF8B-7553-4268-AFEB-3EDFC6F4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A7545-12D4-4731-8DB0-607A01CD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D2BC8-2FEE-4782-B537-78AC1A5F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51323-2855-4FA1-920A-2E2C57CF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7A30B-643D-4D6C-8759-F1F6F865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D60C1-53ED-43B0-9236-9ED19AF2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CC695-7A13-477F-87EC-3F7E7AF1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DFE7D-0E8B-48FA-95E9-4F9425FD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62DBC-29CD-41DE-87EF-7C168778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DE522-6382-476D-85FF-1C3A4163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48660-56AB-4B92-B76D-83DA35D2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C7414-C46E-474F-8D83-135FECF2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DBA1F-96F2-44E0-9361-4DD9BE24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D20F0-AB28-44B2-A303-32270776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EA16AF-5227-40B4-9176-150DEC02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4F1A1-2372-46A6-B468-05992E5D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4AF47-57CC-4ED4-807E-09251BA2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BE737-D2B2-4980-A3DF-A4B8C349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00181-535B-4850-8E12-4A53EEB0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7E8D1-6089-4044-B2DC-1329C585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CD0A88-35AB-49D7-A5FC-4E684504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927C0-2B3D-490B-BDC6-84C13993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82D8C-CB30-4F45-9A5D-245D9E75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5E900C-E974-45C6-9070-7A948F61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B44036-C0C6-4B2F-BF6F-B02FCA60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57D42-F7A9-4779-8280-7DB6DD87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BA5A80-82C5-4EBA-98DD-60AEC4E7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36011E-2DDB-485A-972F-7CB2667D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20B196-D512-4627-A268-46DA9FC4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72D07-64AF-4AF7-8D6F-1A8BEF4A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BC81A-3FC6-4059-8C26-1F7BB54B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838C65-1298-4C08-AEF3-56A392A5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06DBDA-B88E-4A2E-9C38-673FEBF6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119D2-949F-46D9-B8CE-78F6D142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D93A75-8F5F-49E5-8C13-B6D7A413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F1BF8D-A968-463C-90A9-6A876DC2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5D7F8-0C0A-4268-96A6-329563EF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A8EADB-A52C-438A-9622-727EC2CF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D2DFF-9827-42AD-BCC4-040E69B7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84A69D-70EA-45E8-8F02-66088A0F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9A85A-C71F-48FD-8FF5-BC345CF7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9A6C14-9BC1-434C-9FAF-A8C03C8B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BA00E0-5FF7-4878-9AED-51363D1A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EBB47B-1E52-434E-ACB9-34E48FD8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C9D229-8859-402F-B816-7E348A7D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DDD-D164-461B-B41D-BA2E29B8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E45E1-8D7B-4D55-852A-14D6032F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25D3E9-B55D-43EE-9DBC-A503D574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A68C71-3CA0-4023-9925-D43F2966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4148E-E77A-4403-B415-528A4DED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4B4C7E-1F22-4628-B0AF-5F11910C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1663E7-0C26-4BB5-9538-3468E27B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88117A-9571-4AA8-9EE3-CEA93D50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5EFE2B-DC29-4D46-8F6B-B633F0A0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917BB9-04A5-4617-B0AC-9A11B7F2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09E416-CA7F-430F-BDBF-044AF142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C244CF-74EF-4ED9-BCAD-58DD04B4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E7C4AF-3AC1-4C3E-93C7-2E14FA39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01C97-E935-4CCE-8C26-6B321514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81E598-6540-499D-B86F-79733B59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A46425-1B50-4F0A-9BDD-F868190D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6FBEE8-3E21-4693-A5BF-0E2EE0F5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E328B-AF43-4FAB-8EB6-9BF9546F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E46780-239C-4301-8D17-3CFE3207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71ABA8-A89D-4045-9FFA-6D181177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1F43A5-573C-47FE-9BED-1E015F88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183B9-601F-43B9-A202-8EDF51B5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5520BA-7CB5-41F5-B1F9-EE19F0E4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DEB1FB-1696-46AC-9309-71CF3C16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512F40-F3F1-444B-8D63-6A92D7CE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28E88D-9FD7-43AD-A6ED-5E274CA7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F840CD-95D5-474A-823E-918AEE70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18080-081E-4153-A1DF-1996A516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124563-EBFE-4310-8888-B96491D3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B61994-EB77-4919-AB52-07B1C703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EC159-53CC-42E4-81A3-E0517C5F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D0BF6-D275-43E1-8AB2-14CF500A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C3405B-B5EF-4DAA-B4F4-590F5D9B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2E30DA-DDBE-4359-AAFD-27A6F94A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E6EB9B-567E-478C-81E6-4143E4CF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A9E32F-596D-45CD-AA59-15674248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7E3404-F36A-4007-AA52-1593EFC3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256C2-C804-4ADA-846D-E1612725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19AD3E-A403-4C92-8EE8-9A47594F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C91F1E-415D-4ED6-942B-114764AB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CFEE14-E564-49E2-BD32-2BBCB755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5EAB74-8F23-4EBE-93B0-69BD6481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31A1B8-8537-4C17-9629-50469ABB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F7F064-B5D7-48A1-BB5F-A69E6438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CDBE06-3AA2-41B7-9F49-77376317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B48EF6-5DC2-4BAA-81F5-4F00BB2A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3A36B2-B85F-40FE-B36A-9D5F2A89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43EB92-CE26-4578-AF56-CFCC4F4D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ED8F5B-8112-48F9-AF56-5803EC2C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BBEC44-4D9D-4FD3-A7D2-A51F8A6B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217CA3-9BAE-43A7-A57F-0B05AC24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558B-C20A-424D-A027-23674527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C5539F-08EC-426C-B2EE-C443CA7E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3D6203-F5B0-443A-8041-D18AD925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E58BA3-9F4D-4CC2-B9C5-171D647F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3D07E9-83E2-4B1F-8006-E24C3AC5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84CC8D-5C5D-4E8D-B742-21EB1C29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0C18FA-F83E-48FB-8C6D-809777A2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A8D80F-5769-4B9E-882B-A7E27E74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5D3E55-5DE7-47E9-B98A-19C10106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B08447-0915-486F-A57D-B3571183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CBC71A-AFA6-492D-8E5D-D74C0063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86C2-55EA-4464-81CA-BE832739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689D7E-98D7-4BBE-8534-86B5CCB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290391-A595-439F-A3AD-268BB55A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420F43-4D23-4106-9124-1479897C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4FA0D-CA3C-4DBF-BDC4-596AC216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20AA00-7273-4D40-BF11-16F335BA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11BD56-0C3C-406F-8DFC-88237FE3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241423-3253-4E5F-B99E-7EB8C875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C62627-65BE-4FFF-B348-B48B04EB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2A9668-7B10-4F40-BE07-E027D30D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DF49B6-9789-41EE-99DD-8ECFE274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9818-CDE3-4F8F-BE63-1A389FEE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80825C-C4E8-4BFF-AC40-C5B31799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CB705B-78D4-4589-BB1A-78539A48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EC857E-D5E1-4FE7-87C8-BB18D0A4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EA513F-1C0E-4A7C-99EA-11683813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066EFD-E375-464E-88F6-3DBF1919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A648D7-3B52-479C-BB0A-2618A79E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DB5397-20B3-42E1-BFEA-DFCA8747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C4FC3B-0C69-4F02-AAFE-CD1E31D0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D7759E-3632-433A-918A-A9EE3789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31B6E7-82FE-4287-BDBB-7905FDCE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0B74-5287-420C-B5E2-2FFD08A5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7F7843-3074-4819-B7BD-89652FC5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8CD4DC-6E51-4B77-8959-C4C92A57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FF6709-985F-4A61-9C99-356FC958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F121FD-A42E-4B24-8330-53D7AE17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DD7664-99D0-4C03-8D38-9D6EFCB5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898302-0DAB-4C75-9B93-CE6A9CA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CA242F-0C11-4CC5-A2EC-60CEC69E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64AA2F-2EEB-4510-8C6D-3549BDE5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493465-3964-4E52-AC05-DE48BCA5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85C84B-B53B-4AB4-B46E-BFDF880B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156D-5731-4917-80D9-F00921FD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8CE848-7C3E-43C0-AB3E-8704AF54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E7F185-48E1-400B-B626-1899BCAA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B96967-084D-4B9A-A10B-148D90D8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712FFA-2E8D-4C13-9282-7F447B96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66A34C-42A1-4836-883C-8DA2D732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1B8D3C-47C3-4F56-9462-B36793DD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26C649-96A4-4B5B-A0A6-54300DC4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CC0D75-8F30-45E6-B75A-806AAAB9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6F5006-B180-4F5C-803E-519208B2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0DC59D-9BD7-42F9-BF64-040EBC67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E92-D257-4AB3-9AF3-E78ABFB7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D828-8BEE-4C46-97DB-6C85F321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173CCF-AA19-49AD-9921-1B5CB9E9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9D3F8E-4352-4ED5-901F-98226E36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A77B2F-EC37-4726-908F-06276603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E30FEB-5119-4695-9625-E668F08C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C51C6A-9C20-4CBE-94D2-4F147497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9C6D25-1E7E-4E36-BD5F-29CD818E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B47F14-C3FB-47B1-A1F1-ECFB01DA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B625DC-B271-4FBD-BDF7-48B6F52A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DB99B2-6ACE-445D-98A7-4AC765B3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FB4E66-5D20-47A6-A455-E992D413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502E-3E5F-46D6-948B-F22F5416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2DE098-DBAF-46EF-918D-2063A6F6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D7A01C-F845-4F6F-A614-A0FDA69C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F37C14-B93C-4205-ABAB-A3FEDF95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ACF815-3574-47A9-9C2D-53E73A35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1D98A6-2B47-49F7-84DC-C66B9C0B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D5B12E-41EE-4F30-9D53-5FFD8717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77237E-68F2-472A-88E8-C012503A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32F77B-7401-4A05-9BB7-26B8E98C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C13AB2-7249-4A8A-9CBC-AF7D6E11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F87B0D-2DB2-434B-820D-BA751296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B8E3-AA21-4AE5-8E07-566E9BC4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8FDD41-2B10-48CA-97EE-9E5F201C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A78F35-A509-414B-B69A-8666F796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6BE9D3-7FBA-4B76-9611-9531C692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CE6F03-43A2-4AB6-AE9A-39D43665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7962F4-D9AF-4615-B900-1D5B3506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E5E892-DF51-405E-B0E1-97CC6A48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D0578A-AC89-4ABB-9FBF-0C5DDA1F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E4094C-DA5E-4D01-9C52-44DBB56A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232EE8-582F-4572-B9E3-C6E731C8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8A2FD2-1429-41B3-BDAB-A3B078D5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B0F2-5A49-420E-9055-A677A416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6D4D13-E88A-4539-A070-B927DD83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694BFF-B63C-4887-9A03-458BB318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EF9450-27C2-4096-B07F-ABE40615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622912-B296-4E11-885D-CF6DE074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D166E6-909B-46BC-9C0F-98A48C83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950E11-F9A8-4C5C-A946-AA4D0135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524E4B-877C-4CCE-B732-C2CD4E34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A63F40-2AB1-4311-BCAD-71691DF5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345DB5-2C25-4152-975C-52F02097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2BAEEC-6349-40E6-BF8A-52FF4F28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B09E-424F-4946-8DB9-7846EECE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6A9D94-CA4C-4695-9637-82AB7412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2249AD-FA20-4A4E-B34B-5324C57B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45E672-2AD2-46B7-8587-7FF8BFFC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1AA36E-118A-4DDB-A4C3-C005CD07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60C82D-3E1C-4B5D-9B09-EC67931E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5B6F8F-6107-4846-B7D1-94972846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C1DDEE-0817-4B41-A2A5-6DF4D121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88A014-AE36-4522-9371-A0556382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4FB745-D512-4C29-B893-EBCB3E49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C5D8-5133-4DDB-AC9E-FA6B645B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6B22-2512-4731-9140-A7D43F65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1E6D7-2DC7-41B3-9597-16E374FC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7ECB2-C319-4104-8EBA-FE9B0E5A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2548-1C8D-456D-943F-180696F7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7D9-3E91-486F-AEE7-23FE05AA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62DF-6BEB-4B3E-AA34-14E86D32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57855-DCAB-4A47-802D-24CCF249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57A10-1134-45A2-9AAE-2405A828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1FD74-4C75-4356-9D75-95751248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37322-CA8D-48B2-9C9A-9818A14E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CC16-42D9-40E8-8FB5-351882D5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9EC0-8E33-4E93-A8C9-F225B703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6004E-43A6-4AE5-9C18-BE7F9BFE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BA9D5-A5B8-47D6-BE50-456F2390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5D9E-7B03-4839-9F4C-27987DEE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F04-F039-4669-B6F8-E3295562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C585C-3D8C-4EBC-9573-9B7D3E99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DFE82-8F10-4A9C-9B36-C1580B6A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31B08-1569-499E-AD19-FDE7F0F8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2A366-588C-40E0-8FD9-9F1E1ECD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F2CEB-3F7A-4C7E-A937-46747F01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17B4C-C54F-4DC9-8312-E6B2B4EA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E81B1-F728-4210-9C72-C65A97D1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CCECB-BF95-4BC6-8BFB-C33F4823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08975-1647-4E65-AAAD-81C3FFE8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6E515-E172-4804-B3CE-2EA6E27D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301-243F-4605-AE16-57AEE730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F8133-71B1-4DB5-A63F-57372F91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CD3F1-1C2F-41D2-8925-46FACC11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653A5-CD12-4292-BA1F-462BB809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53DAD-5878-4145-9B8F-965C9238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75B7D-9800-40E9-B53B-A160F550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95016-6F00-40E6-ABA7-BB0238D0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BBDDB-D2BC-4B65-88DA-BCE6E4C0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DC181-2FA4-485B-8928-7380C690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5F3B2-1B61-46E4-8AD0-8BFF1773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D1504-D4F9-4E91-B620-6E4687D2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6F66-4E05-4E31-80E3-20620F4D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7FC1D-CEA0-4478-9620-AFA66C3B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62341-5E17-4E17-8642-16943FC7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1B1D6-54FF-453F-822C-12328AB3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7FCEB-D467-4C56-999A-C7CFA56D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71317-D54F-4CA5-B005-3C4832CA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5A247-1BD9-4962-B42D-7F84578D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933A9-908E-413F-925F-94EB1AFE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B03A2-5F0E-4FC5-9BEC-E2AF8DA2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BB8D9-BC8F-4276-B0CC-67DC9CE0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2C835-B7E5-49CB-9C65-20C8966F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8D1-510D-4694-97E9-E2E837C7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AD7B1-7B08-49E4-9619-45958C07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4DAAE-9860-422D-9F93-5C81E5B8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ABA21-87BC-45DC-BD6A-C6D3062E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C4511-496D-40CA-BE3A-F252686C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537D3-C765-433B-ADC0-6A974854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4BA51-52D0-40CD-9279-23FBBBAD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42138-7CFB-4976-A593-F8E48CCB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96B06-A9B4-4965-8033-21D6A7E9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C0285-2920-457A-82D6-6F99CADE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7854C-D59B-4327-ADE6-ECD7F563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00A-81E8-4F10-BF85-476C53F0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35F34-6940-4456-B881-F180D4BA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3CE34-D769-4C25-8D00-AB03CB9E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53213-8701-4411-A626-AE5D9CD3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3DB3E-FE2E-4A9D-AF7F-160DEB8B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651B9-A773-476C-892C-83B7DF21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57F9E-CFF6-4859-ACE6-9DF4AFCF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67356-1001-4A19-BCA5-D7ACEBCA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09FAE-CCAB-4188-BC9B-184F45B3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DC42E-C9E3-411E-BA12-191566BF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B9699-C3D2-45F2-9F4A-78F288AE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A27C6-6ACA-47DC-A954-1CAE117CC14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8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8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0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0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1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86BC7-1613-493E-8338-882CECCE090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5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5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5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6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6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70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3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4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8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DBFF2-F819-4A42-B7C4-272C4DD22EB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2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3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39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2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3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5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2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C16E7-1B19-430D-AC4C-F25F3777CBF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9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0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0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2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2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3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213B5-D813-4C61-B5BE-32F008EBE7E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6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7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79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2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3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9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39391-802F-482C-9320-5190AFACC86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3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4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4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6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1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2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3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F5EE5-C127-4A19-909E-61BC29F9548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0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0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0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0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19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2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3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A91F6-0A66-4B5D-83CF-8A42A0408ED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7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8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11868-838D-4682-848B-6D50249DFDD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4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5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57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0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1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6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C54EA-085A-4438-AAE9-0C1C8EE5B89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dt" idx="5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ftr" idx="5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 type="sldNum" idx="5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9D14-3D5B-4480-89F6-47DD3A4F6F2B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dt" idx="5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ftr" idx="5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sldNum" idx="5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963A-6177-43D7-A80E-EE3FBA8B025B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dt" idx="5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ftr" idx="5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sldNum" idx="6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86CD-658D-4717-A431-F3106A01CCF6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dt" idx="6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ftr" idx="6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 type="sldNum" idx="6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45A3-805C-4939-B5BD-7DA03A6E8A70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dt" idx="6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ftr" idx="6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 type="sldNum" idx="6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D62C-16D8-4B56-A8A9-01DAAFC4367B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dt" idx="6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ftr" idx="6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 type="sldNum" idx="6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85A5-FD07-408B-8F30-DD31440D1273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dt" idx="7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ftr" idx="7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 type="sldNum" idx="7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CAE9-567C-4F6C-9D61-905FE1960D69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dt" idx="7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ftr" idx="7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sldNum" idx="7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EA41-5A22-4CC7-8889-F20D571A5091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dt" idx="7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ftr" idx="7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sldNum" idx="7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0EFA-B288-46B9-8A93-DD731EE9273F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dt" idx="7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ftr" idx="8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 type="sldNum" idx="8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A267-34AC-433C-91DA-F209C89079D1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dt" idx="8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ftr" idx="8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sldNum" idx="8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2DC2-772B-44F3-BDC0-EEF41AD8E7E4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57AF3-5CE5-49AF-9BAF-7E53205458B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7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5F329-E4E6-4573-87DE-430BAADC3CC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4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5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56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9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0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CC381-5C44-4A47-8DCA-9CFA03F61F9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1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2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25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9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3A663-C9FC-4549-959E-C9180C102E4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8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9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0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7EC5B-79DB-403F-AF36-37BCC4EC81F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5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6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6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7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9B125-82CA-4C61-BD1F-88AE6B840AA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1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3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3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4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A54A9-2302-4B7C-AA57-FA567D8C360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1" name="Picture 4" descr="https://goods.kaypu.com/photo/5994b6dd384e1f50ba5c9b26.jpg"/>
          <p:cNvPicPr/>
          <p:nvPr/>
        </p:nvPicPr>
        <p:blipFill>
          <a:blip r:embed="rId1"/>
          <a:stretch/>
        </p:blipFill>
        <p:spPr>
          <a:xfrm>
            <a:off x="1738440" y="500040"/>
            <a:ext cx="1896840" cy="26384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1642" name="Picture 4" descr="C:\Users\Ирина\Desktop\80404_1.jpg"/>
          <p:cNvPicPr/>
          <p:nvPr/>
        </p:nvPicPr>
        <p:blipFill>
          <a:blip r:embed="rId2"/>
          <a:stretch/>
        </p:blipFill>
        <p:spPr>
          <a:xfrm>
            <a:off x="4187880" y="803160"/>
            <a:ext cx="1827000" cy="23846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1643" name="Picture 2" descr="C:\Users\Ирина\Desktop\54749114_prishvin_zhalka.jpg"/>
          <p:cNvPicPr/>
          <p:nvPr/>
        </p:nvPicPr>
        <p:blipFill>
          <a:blip r:embed="rId3"/>
          <a:stretch/>
        </p:blipFill>
        <p:spPr>
          <a:xfrm>
            <a:off x="7180200" y="249120"/>
            <a:ext cx="4130640" cy="334008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12" descr="https://astrocollege.ru/public/storage/books/cover/21/23/47/21234779.jpg"/>
          <p:cNvPicPr/>
          <p:nvPr/>
        </p:nvPicPr>
        <p:blipFill>
          <a:blip r:embed="rId4"/>
          <a:stretch/>
        </p:blipFill>
        <p:spPr>
          <a:xfrm>
            <a:off x="950760" y="3556080"/>
            <a:ext cx="2073600" cy="31384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1645" name="Picture 14" descr="http://xn--90aamkbbnf2a4b.xn--b1afaboidnttn.xn--p1ai/images/ub2013_123.jpg"/>
          <p:cNvPicPr/>
          <p:nvPr/>
        </p:nvPicPr>
        <p:blipFill>
          <a:blip r:embed="rId5"/>
          <a:stretch/>
        </p:blipFill>
        <p:spPr>
          <a:xfrm>
            <a:off x="3454560" y="3630600"/>
            <a:ext cx="1963440" cy="305136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sp>
        <p:nvSpPr>
          <p:cNvPr id="1646" name="Прямоугольник 8"/>
          <p:cNvSpPr/>
          <p:nvPr/>
        </p:nvSpPr>
        <p:spPr>
          <a:xfrm>
            <a:off x="6269040" y="3614760"/>
            <a:ext cx="592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c1e13"/>
                </a:solidFill>
                <a:latin typeface="Comic Sans MS"/>
              </a:rPr>
              <a:t>Михаил Михайлович Пришвин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c1e13"/>
                </a:solidFill>
                <a:latin typeface="Comic Sans MS"/>
              </a:rPr>
              <a:t>(1873–1954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7" name="Прямоугольник 9"/>
          <p:cNvSpPr/>
          <p:nvPr/>
        </p:nvSpPr>
        <p:spPr>
          <a:xfrm>
            <a:off x="5910120" y="4473720"/>
            <a:ext cx="63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а Пришвина в народе называют «певцом русской природы». Прожил долгую, насыщенную событиями жизнь. Родом он был из бедной купеческой семьи, проживавшей в Елецком уезде Орловской губернии. Получив хорошее естественно-научное образование, Михаил Михайлович работал агрономом, в течение нескольких лет был сельским учителем, библиотекарем. Все произведения писателя проникнуты большой любовью к природе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Прямоугольник 1"/>
          <p:cNvSpPr/>
          <p:nvPr/>
        </p:nvSpPr>
        <p:spPr>
          <a:xfrm>
            <a:off x="351000" y="516564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Работа по учебнику с. 6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49" name="Рисунок 2" descr=""/>
          <p:cNvPicPr/>
          <p:nvPr/>
        </p:nvPicPr>
        <p:blipFill>
          <a:blip r:embed="rId1"/>
          <a:stretch/>
        </p:blipFill>
        <p:spPr>
          <a:xfrm>
            <a:off x="2127240" y="1414440"/>
            <a:ext cx="2987640" cy="3565440"/>
          </a:xfrm>
          <a:prstGeom prst="rect">
            <a:avLst/>
          </a:prstGeom>
          <a:ln w="0">
            <a:noFill/>
          </a:ln>
        </p:spPr>
      </p:pic>
      <p:sp>
        <p:nvSpPr>
          <p:cNvPr id="1650" name="Прямоугольник 3"/>
          <p:cNvSpPr/>
          <p:nvPr/>
        </p:nvSpPr>
        <p:spPr>
          <a:xfrm>
            <a:off x="5811840" y="690480"/>
            <a:ext cx="446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Послушайте рассказ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М. Пришвина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omic Sans MS"/>
              </a:rPr>
              <a:t>«Осеннее утро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Прямоугольник 4"/>
          <p:cNvSpPr/>
          <p:nvPr/>
        </p:nvSpPr>
        <p:spPr>
          <a:xfrm>
            <a:off x="1913040" y="1181160"/>
            <a:ext cx="96742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па-ра-ш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ю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[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]</a:t>
            </a: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-ти-ком – парашютиком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мо-тыль-ком – мотыльком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мало-помалу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шеп-чешь - шепчешь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про-буж-да-ет-ся – пробуждае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ся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[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ца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раз-ле-те-лись – разлетелись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кон-чит-ся – кончи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ся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[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ца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2" name="Прямоугольник 4"/>
          <p:cNvSpPr/>
          <p:nvPr/>
        </p:nvSpPr>
        <p:spPr>
          <a:xfrm>
            <a:off x="4520520" y="0"/>
            <a:ext cx="31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Прочитайте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6T10:32:36Z</dcterms:created>
  <dc:creator>gavrilovainna@outlook.com</dc:creator>
  <dc:description/>
  <dc:language>en-US</dc:language>
  <cp:lastModifiedBy>gavrilovainna@outlook.com</cp:lastModifiedBy>
  <dcterms:modified xsi:type="dcterms:W3CDTF">2022-11-21T18:48:49Z</dcterms:modified>
  <cp:revision>39</cp:revision>
  <dc:subject/>
  <dc:title>Презентация PowerPoint</dc:title>
</cp:coreProperties>
</file>