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691F-C744-434F-B125-4582C273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9551-82E1-4780-91EC-071ECD1B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00578-33AA-451D-8FA7-1776A7A3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845D8-22A8-4834-B015-945FDD1B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94E62-935A-4D6A-85A5-AFD82F23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6A776-C887-4BA0-93CB-E2BF3112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9F399-1D68-43FA-BB33-C3D59045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686FE-B172-41E5-AE30-31347F74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4A6D5-6304-4F4D-89F2-0655DECD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24500-FB61-4527-9A1D-3B3C16C7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D7BDD-5B74-4224-878B-A05960A8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070A3-E306-4844-BDEB-E81728A1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79D1-A093-4706-8AE1-8B5EBD6D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0173A-96BB-4C65-AF9D-625A5A54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84BBF-272D-46C1-B181-6896ECBD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A3D68-129E-4A2D-8EFA-77BB38F0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E00FF-94C9-4D59-A51E-B0616074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ECBE9-3840-485C-A5D9-27D0CC10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47B9A-F904-4DA5-B506-E95B2946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5D7BC-AB93-4608-8F10-7857F796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D250E-F9CF-40E7-AC2B-594E1987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971C9-B917-49EA-A44D-69398DF7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85342-93E9-42C6-AAF0-34021105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CD33-3C98-4467-BFE9-DC81236B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D098B-5251-4210-A658-77EC075D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A8213-13BD-405F-9C2B-26847E33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9C41D-B664-4B64-8148-27F16B56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B3AA0-9C69-4BBF-BDCD-884B6BCE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E8AFA-6D12-4E03-BF4D-6AF6B85D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01D0E-2C20-48CF-853E-74A76703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CC0E2-F422-4057-A25E-E930388D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F17C6-5A11-48AE-AB77-B10E0A52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0BD0B-2406-46F4-AA30-54DE3A5F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29194-4079-4FC8-97B7-B4EEAC12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EFFD-8997-4A47-BFEF-43567C8D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D3FAE-80CB-4363-986D-0388958A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8176B-D5B1-4362-8A9F-324E5CA3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F8267-E8C5-4AE3-B220-F567486B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C797E-DEAD-4761-B5FE-6B8B4A4D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09979-2E9E-41D5-847D-B6D5B283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16860-96F1-4BF2-ACEA-76D6AD44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70F0C-6E5C-43D5-9764-99091205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2E5AB-43FB-47A5-9720-B0E89176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3321F-B25B-4B07-B319-09214538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7E976-FEB0-49D4-B38B-8EEFDE38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85BF-119E-4AD2-8691-71C616C5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3D10D-58B8-4B48-B418-7C0AEAED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D6EA5-4C1B-4B0D-BD12-5F3FC71F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16B84-8983-4CDF-A2F9-F7991FFD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2FF2F-6D2B-4576-ADE8-A39F700A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F7D2F-D812-4A36-B35B-D29E7D17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45B428-4A48-4C3A-81C7-AAF25301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F810B-1F20-4C63-894E-4A8C625B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A5F17-9F6F-48AD-A8C2-B9524334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0FACF5-868D-4C3B-92BD-561BC43B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3CC61-BEEA-400D-A938-A81278D1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4E88-40D0-492D-858F-BF96CE3C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16476-5F69-45B6-A24D-6F72BE86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8D67D-5B13-4686-B517-526C04BB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F8694-403F-4F41-9140-E823A6DF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FB7DA-533B-46B1-B2E5-2FB50D4E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40BB3-0A5B-43D6-BDBB-3044BC1A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3E2C5-8F72-4393-86C0-03134649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E5D7F-021D-4824-AB7C-B8E11B72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B9D88E-22EC-4893-A92D-EF89CD92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0F8D00-45ED-4940-8462-B2EEFD7A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137750-40CF-4F08-81C2-A5DED712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982B-2E58-4E8D-ADFD-AB7B2588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110EAA-2091-4542-8EAB-FB576F76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2C07B1-56AA-4A4E-87DE-5AC7C309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E64DE-499A-4137-8F02-7B83C961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C37234-87FC-40EC-B075-C7730A38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CA0C48-21CF-4975-B4CD-59E9C552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3ADE0-F7BD-4BBD-A7CD-69435271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DD82F3-CCD9-4D31-8E56-191A1225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612023-5293-4B96-97F7-04C23569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9BA0E5-FF9B-4E3D-B5D7-576B8D1C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B8D74-210D-4C76-8A0F-2F8602A2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A66D-5FD9-4F04-A6B4-341096AD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26E4DE-D842-4579-81DD-1AC382C0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A5A67F-CD71-4512-B51A-BE57228D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BC791E-A8CC-4DF6-ADE5-D523E4CE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FA1EB-AE4F-4A57-81E1-4D5CA225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AC9DA4-7CFA-43B5-A174-BAF0C837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88172-D09C-4B81-83FC-A1938453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C6340-ED12-4DE7-83D7-3B83FEDC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7AC8AB-DF7E-448A-AD0D-A428D4FF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3FB7CD-D5E5-4B80-B292-89E69655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EE867E-7494-477A-8D40-0E68722C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57B6-2714-42CB-B25F-302C8D00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EC1CB4-8451-4D05-BE65-A84B380B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F4A686-39C0-4654-B6F8-5406710A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AE975E-4D17-4395-9602-20BFD699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7F5BEF-A6C2-4631-8A41-CE9DD983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AE22F4-F7AA-47E0-882E-4937FBAE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0A22A7-532A-49DA-85BE-18A95F08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DFDDFF-5309-409D-8DEC-96C9BC62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5CF8C6-1328-4794-9FB4-BF1C915C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C962F5-6544-4F28-8C01-8A4162C1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903A99-8C73-47EE-96F5-D62A8885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3E69-67B2-4655-B798-A18F590D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168D25-FA5E-4894-9AE6-8B67F619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AEB8D9-B944-4BC8-A215-ABFB48C7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D5945E-B5EE-42B0-898C-830268D9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C3C497-AD41-4DC7-A33A-9E5CAD83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1D8202-336F-446B-A191-FAC53F93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32AAD5-D165-4F79-B8FD-E0E28672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3C1630-F4B4-42AE-A299-6B2AE11D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23ADD2-5ECA-42D0-AB69-9993B7C7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B6CA25-A267-4076-B2FA-BA016555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E84C29-6084-4408-BF83-436D7712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07F8-E06C-4084-BA3B-EC9B6A59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678C-CCE7-44B4-9D70-AD6EE3BB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2EF34B-1A5F-47EA-9264-03F19BCD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11EC41-D17E-4334-A70E-AC049577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71DA73-A565-48E8-9515-130B12DC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147C1E-F334-4EAB-AFE3-D84B38F2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C3663A-D412-4FF8-AB90-1E6988E8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F33C-4539-41DC-9478-4F09706C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F46A-425F-40E2-AC9A-DA1A47DD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C6BD-6182-44F1-AF9F-C9A7A0D2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4AA8-1771-4FD7-BE04-19BFE6FB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F6E27-FECF-4277-8F2B-7702EB4A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06084-71D1-43DC-88A3-298CC5FC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6BF41-ECCF-4166-A302-6CF81552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28FAC-4B81-4622-B9EA-C1B32339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D4395-9614-44A8-AD59-97CA0316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4D1-6CAF-4A6C-900D-D02B69E7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903C6-9E98-42EC-9DA5-3C068A16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F611E-8C24-498A-8DAC-515BDE5E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ABC4C-B4B2-499A-ADFE-D6D8B036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195E5-E2F9-4CAD-9A12-7EA38C46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F951B-659C-41F1-9297-41EE24BE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6972E-D2A6-4BB7-A410-E0CB6126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8EF29-3883-4255-8FDA-430B7CD8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6155E-5F78-47B8-9F22-1C7D35AA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E9DD6-12F7-4768-84E5-3430A202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31CC9-5352-4764-8B94-4315EA29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24CD-9E5D-469D-88EE-A30CAB1C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2E885-2209-4127-9950-E6A5D527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89C1B-7FAA-4B04-8E10-2FF2182A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7CE2A-E6CB-4047-85C6-6DA02D92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90235-6332-46D6-8454-6F849B35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20D11-9E16-4C50-AAB9-5AA7479F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E36EE-2879-4104-8A07-1AC3923A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E4AA0-E42D-4E02-9D0F-8B035FE8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5F7D0-21A0-4465-9718-C63ED22C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C5F01-617D-4CA6-AE40-D0E4D6DB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6DBC5-6748-4780-9479-168E1CB8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CDC-A647-4CE2-BC8B-F1E7652D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C3CAE-411C-47BC-B09E-CDD0CF41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97FF9-3C50-4C0B-B0AE-53297CA0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2DF0D-871D-45D3-9876-0235332D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D1A23-6B71-4DDF-BF2C-66F879CB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AB64D-1001-4254-97B0-A6DDE85E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F191C-CEA7-4203-8C3A-99AD34C4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3BA9D-2EA1-4BF4-94B5-3A2720F4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C605B-B49C-41DA-9F3B-EFBE2C49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2B191-2AD2-4A83-BBFC-693554E9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7968F-DFC2-4A0B-9696-0D17EEFF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B84-7224-4B44-8076-8C5E9E49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ADF01-659D-47C7-92A4-1E7495C9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9AE77-CC37-430C-A01C-95B3D3DC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945AC-C7D8-4544-A6E7-3EACB741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21F06-70E2-4B8F-B615-50E5AEBB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6C3E4-12CD-4519-BD90-7B78CD64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2FC7B-0E35-4873-80D2-9A14253B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2E210-1A05-471E-BF5B-5A48F272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329EA-128E-4273-A8D5-A79A7768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1FF62-362A-4AD4-BA9D-051E33A4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FCD31-1193-44A6-97BB-D51FA69C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571-5E36-4ECE-93EE-327FB9C1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B3454-526C-4763-9DFE-3A8833BC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F61B5-DA14-4C38-9770-83C9E614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EF44B-853C-4D83-A701-03DAA182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88C4C-560A-427C-9420-69AE2C0E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C930A-2A70-4ED2-9E4E-0226F4EF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7326B-5E84-4F46-AE5A-0B09E316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506AF-AA65-468E-83D8-3ED3A56B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7A85C-C868-467C-846B-E735C122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04FF2-FBCD-4D46-A26E-C6567891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2870D-AF95-4BC7-B7C2-A7F04113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E60-1DCD-4710-BED6-8C44DA7C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6739D-3D46-4D37-9F91-1FDD1CCF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D9215-DCD7-4753-9398-0D0A9295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F0941-6D4C-4173-B24E-6BB92467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AC2F5-6F6E-402D-9A75-DF89A311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91AA9-869A-485E-BA0C-0085B80A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F84D8-901B-4455-9A4E-2DA781DB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973ED-E0F0-49BE-8FA1-C1F13745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2163C-07CE-43DB-820F-7C528061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0C6DF-C1E9-43C4-BCA7-3DDD007F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3EEC4-E492-4739-9299-FB9BAFFC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4C2F-1A4B-4E8C-A9C0-5BBF0D0B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AF9B4-665D-4E4E-9298-B648F354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0503D-44FA-4593-925F-784E785F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4604E-56FC-4442-8044-BB4EF3AF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305DA-883E-41FA-8401-D99C4F6D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7577A-2E32-4773-9DB5-45743810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A7FDF-C89B-4FC9-8853-681AB578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BB2E8-14AD-4A93-B0B3-AEECBEAC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7A0E8-E22B-443A-AB11-D4F1E19A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1A906-F7FE-4090-90E3-17ED9165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38F60-D023-48AB-902D-1B0842D2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41920-E7E4-4F27-9A4D-839C43657B8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CD925-1409-47C7-BA51-A6D6BA8845E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4B2AF-32CA-419E-A898-4D2F574EC92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84018-E650-4988-9DEA-D0D1448549B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10FFF-5C05-4712-A4D7-929A434497B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1DD5F-C4E7-4CCD-B6AD-31A888C4C74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062F5-BD56-4E1A-9415-53DEEA1C2E9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2DCCA-33FC-47FA-838E-1D525804009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6ED90-25C5-4553-933B-559686F5CF6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D46EB-C506-423C-9D80-A97E725D8BC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D98A6-6FAC-45CF-AC38-DD6360F0A41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7006D-6D74-49D9-BFB4-E0A19ACF180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42F4B-7B48-4DC2-9802-A46DD649AF5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CC10F-3119-495F-A365-C293B073395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455B59-939E-49E7-A3DA-6B7D1257B33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0C193-029C-4A49-9C81-B26255D9FBD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91233-C24C-49E6-A952-42A2B465A13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Рисунок 2" descr="C:\Users\user\Desktop\осеннее утро\а вчера зарёй всё грачи летали да как сеть мелькали .jpg"/>
          <p:cNvPicPr/>
          <p:nvPr/>
        </p:nvPicPr>
        <p:blipFill>
          <a:blip r:embed="rId1"/>
          <a:stretch/>
        </p:blipFill>
        <p:spPr>
          <a:xfrm>
            <a:off x="7254720" y="603360"/>
            <a:ext cx="2157480" cy="1822320"/>
          </a:xfrm>
          <a:prstGeom prst="rect">
            <a:avLst/>
          </a:prstGeom>
          <a:ln w="0">
            <a:noFill/>
          </a:ln>
        </p:spPr>
      </p:pic>
      <p:pic>
        <p:nvPicPr>
          <p:cNvPr id="1177" name="Рисунок 3" descr="C:\Users\user\Desktop\осеннее утро\лишь вдали красуются там на дне долин кисти ярко-красные.jpg"/>
          <p:cNvPicPr/>
          <p:nvPr/>
        </p:nvPicPr>
        <p:blipFill>
          <a:blip r:embed="rId2"/>
          <a:stretch/>
        </p:blipFill>
        <p:spPr>
          <a:xfrm>
            <a:off x="2114640" y="487440"/>
            <a:ext cx="2597040" cy="1822320"/>
          </a:xfrm>
          <a:prstGeom prst="rect">
            <a:avLst/>
          </a:prstGeom>
          <a:ln w="0">
            <a:noFill/>
          </a:ln>
        </p:spPr>
      </p:pic>
      <p:pic>
        <p:nvPicPr>
          <p:cNvPr id="1178" name="Рисунок 4" descr=""/>
          <p:cNvPicPr/>
          <p:nvPr/>
        </p:nvPicPr>
        <p:blipFill>
          <a:blip r:embed="rId3"/>
          <a:stretch/>
        </p:blipFill>
        <p:spPr>
          <a:xfrm>
            <a:off x="7358040" y="3627360"/>
            <a:ext cx="2182680" cy="1878120"/>
          </a:xfrm>
          <a:prstGeom prst="rect">
            <a:avLst/>
          </a:prstGeom>
          <a:ln w="0">
            <a:noFill/>
          </a:ln>
        </p:spPr>
      </p:pic>
      <p:pic>
        <p:nvPicPr>
          <p:cNvPr id="1179" name="Рисунок 5" descr="C:\Users\user\Desktop\осеннее утро\лишь паутины тонкий волос блестит на праздной борозде.jpg"/>
          <p:cNvPicPr/>
          <p:nvPr/>
        </p:nvPicPr>
        <p:blipFill>
          <a:blip r:embed="rId4"/>
          <a:stretch/>
        </p:blipFill>
        <p:spPr>
          <a:xfrm>
            <a:off x="2279520" y="3535200"/>
            <a:ext cx="2305080" cy="1878120"/>
          </a:xfrm>
          <a:prstGeom prst="rect">
            <a:avLst/>
          </a:prstGeom>
          <a:ln w="0">
            <a:noFill/>
          </a:ln>
        </p:spPr>
      </p:pic>
      <p:sp>
        <p:nvSpPr>
          <p:cNvPr id="1180" name="Прямоугольник 6"/>
          <p:cNvSpPr/>
          <p:nvPr/>
        </p:nvSpPr>
        <p:spPr>
          <a:xfrm>
            <a:off x="1471680" y="5840280"/>
            <a:ext cx="4572000" cy="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Лишь паутины тонкий волос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Блестит на праздной борозде» (Ф.Тютчев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1" name="Прямоугольник 7"/>
          <p:cNvSpPr/>
          <p:nvPr/>
        </p:nvSpPr>
        <p:spPr>
          <a:xfrm>
            <a:off x="585720" y="2598840"/>
            <a:ext cx="545940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Лишь вдали красуются, там, на дне долин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исти ярко-красные вянущих рябин». (А.Толсто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й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2" name="Прямоугольник 8"/>
          <p:cNvSpPr/>
          <p:nvPr/>
        </p:nvSpPr>
        <p:spPr>
          <a:xfrm>
            <a:off x="9899640" y="1135080"/>
            <a:ext cx="22924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А вчера зарёй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ё грачи летали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 как сеть мелькали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н над той горой». (А.Фет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Прямоугольник 3" descr=""/>
          <p:cNvPicPr/>
          <p:nvPr/>
        </p:nvPicPr>
        <p:blipFill>
          <a:blip r:embed="rId1"/>
          <a:stretch/>
        </p:blipFill>
        <p:spPr>
          <a:xfrm>
            <a:off x="2414520" y="444600"/>
            <a:ext cx="7394760" cy="1755720"/>
          </a:xfrm>
          <a:prstGeom prst="rect">
            <a:avLst/>
          </a:prstGeom>
          <a:ln w="0">
            <a:noFill/>
          </a:ln>
        </p:spPr>
      </p:pic>
      <p:pic>
        <p:nvPicPr>
          <p:cNvPr id="1184" name="Рисунок 4" descr=""/>
          <p:cNvPicPr/>
          <p:nvPr/>
        </p:nvPicPr>
        <p:blipFill>
          <a:blip r:embed="rId2"/>
          <a:stretch/>
        </p:blipFill>
        <p:spPr>
          <a:xfrm>
            <a:off x="4595760" y="2371680"/>
            <a:ext cx="3273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6T10:32:36Z</dcterms:created>
  <dc:creator>gavrilovainna@outlook.com</dc:creator>
  <dc:description/>
  <dc:language>en-US</dc:language>
  <cp:lastModifiedBy>gavrilovainna@outlook.com</cp:lastModifiedBy>
  <dcterms:modified xsi:type="dcterms:W3CDTF">2022-11-21T18:32:32Z</dcterms:modified>
  <cp:revision>32</cp:revision>
  <dc:subject/>
  <dc:title>Презентация PowerPoint</dc:title>
</cp:coreProperties>
</file>