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11B-42A8-435D-978E-58EB33EA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583-DBAF-4441-872A-34550F5D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6A3ED-8629-4758-A712-BE58088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E4FE4-E78F-49AD-BD47-C642B847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9365B-EDF0-4BB0-B932-64C36E1E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7F696-9952-4CFF-877F-BB09C113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F545C-EEC7-4C5D-8DDB-68D9312F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DAC0C-0773-476B-AB58-A866893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CE6FE-1ADB-4D45-A019-9C91834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9E56E-9099-45C8-8002-60C626E0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D9205-7A08-49AA-8637-154756A5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A5CFA-3447-4D65-8C41-51C7BD90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435-C149-4A51-9657-D49687ED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E6F04-E080-42C2-824A-EB1A135D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70BEF-0054-48AF-AC79-1A1135B0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99911-ADD6-466C-A4E2-A934B595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EF104-14DA-4340-8559-52F36EA1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7116D-0831-4A67-AB0A-3B941104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5B00C-8F7F-404B-B96D-1978A5A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41FA0-2655-4CEB-861D-948A235D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A8D14-429A-496C-9D00-D859D1F4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3B7E3-8F77-4D90-A2F4-72F78E06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3AA08-C523-4CB7-9774-39C3B9BF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554-9D2D-4578-9D76-CABD93E0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C1BF5-4767-40E1-9FC5-84952BBB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0DD47-8CF6-4D9D-9E3F-F371CA6D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69CD2-D500-47AA-917A-99A4AFD7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D10CF-C8EE-4805-97B2-A89C4946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48696-7D33-4EFB-9EAA-82FF4BD7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89FEE-616B-4744-9311-FBD94787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38988-98EE-4B56-B202-71E0D85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F248C-AED1-4072-8371-E5C0CC3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3245F-40E1-4EB3-9B0A-D9DC451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598C3-15B5-4E08-9BDE-6FB30864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9248-8773-447B-8F98-C9142E4A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89B48-4780-4A19-9E38-FD8A8D98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76F24-F4BF-4F37-8207-AAFC1998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CD534-2254-42DC-9C15-DF59A36A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AFAD6-9819-4529-88E0-05D46C76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DDE3F-B2B1-48ED-B1AA-C0EDE075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AAD3B-C0FB-4995-8C6B-1146CD0A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2A9D5-674F-47AF-8164-648AB96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71912-3A43-430A-9B87-05DC9928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CC8B2-0CDE-4DA3-81F8-7391B9E2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2B89B-E11C-49EB-ADF6-7BB88DFD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08EE-2AB1-433B-88CF-CFF56FFF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10CF9-8493-43B8-BA9F-C8C7C5BC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B6E44-2F04-45EC-A36B-7EFB745E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C50E1-3225-4DA2-A698-72FDA60A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1711B-57EB-406C-8190-D53364B6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F483A-3477-42D6-8CB3-4E8A28D5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6D84B-268C-4820-8D52-97353B8A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7956D-6607-4E97-8EEC-46819291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25764-060A-411A-9F4B-5E83BB03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1FD80-2306-4D8B-B178-385EADE2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69A82-8540-48C1-9C04-F87614C4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55D9-6E6B-4D01-BD20-CED13F7E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07639-FC3C-45B2-9E9D-AA045344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E5B35-8323-4D2A-B2AA-0DDD701B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A1E5A-563E-42D0-B63E-7FE9939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8D072-62DA-4D42-B1C7-93A0EB1C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1C6EC-4406-4CEF-B278-222903D0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683D8-12FF-4D28-8D06-BE5DAFF9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37D20-ED29-4D24-8969-195572FC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D9F04-CF65-4142-9B5C-E6F1DB90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5A89B-3132-4A2D-9342-B0D0C1A5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4FD1F-F843-47C6-AD23-6DEB0998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DC65-0E30-45D9-8FEC-8A528C6E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B6B7B-4C5C-4EFB-865D-C07E2B7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F1277-9A0F-4429-A10A-6EB30180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CAA1B-D1F3-4FE9-A524-A63D5E7A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5AE0A-34AB-46A2-A391-C31ED3F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9EF48-6AEC-45A4-822B-A4DB77A1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2E1BD-3D8F-4708-9337-2A97E83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AE18D-EC6C-4049-9C8B-8F3B2B95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6F12A-3B48-43D3-B765-0E13A51D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5DA00-6007-49DC-AA00-42CC7170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FA644-FFB7-4587-A84F-2BE16083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0D42-E25E-4BC3-845E-4A0D4210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D7B6E-E114-41D4-BB20-0C36B952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39B87-E8D0-4386-8675-E3B5A4E8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C00D9-C2F1-4FD4-AC4C-E3E8BC21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4852E-797E-41AC-878F-2B62B36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CE6BE-6F04-4D92-8D98-69C3B2FE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370EE-1EDD-480D-9CFB-F87134E9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A116C-5809-4741-956A-A6B2083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8BE27-C6B9-46B3-8484-29B9796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547B0-24DC-49D4-AAB7-0340421C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37CE1-0686-49EA-A05D-95FEEF36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7D06-79CD-491F-8A2E-351F1A7B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E3F3D-7CBB-4DDC-9B8A-B12A314F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49955-426F-40B5-BD85-DAB502A8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9C956-EF37-483C-B5D7-C9F97D1C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27CE0-67C8-435C-B9B9-2B304218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3EB14-0A47-47B1-97A9-95DBC3A3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16B9A-695D-4C80-8E88-F32CE9C3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0CC05-BCDA-4AB8-865C-BD975385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F8673-41EB-485A-8018-280DC5C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821BF-E325-4C5A-82E4-79AF8BC1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A8FA0-7FF9-409D-AF82-F4C98E0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9E7D-0DF8-4ECF-8ED6-818CFA9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FF1E1-8153-4C82-B1D4-C6BF9178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41080-B185-4672-B423-456B33E0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C5FD8-41EA-4E97-BF74-DA36ADE9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D8DB0-E9D9-4516-956A-CCD6DDB4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501C3B-6CB8-41A8-9C4F-F6C6AAF5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807A51-57DF-4908-9C6E-49419822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5D9AA-1BCC-4F61-B617-98C36D7D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DD0E8-025E-4B9B-8761-62C51824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AB897-B95F-467B-8083-E7C426BF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8ADED-9EDD-4E30-AE97-C2A7DCF6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D5C-082C-45A5-9FB0-61ED5E32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3E7E-9FC4-46A4-9416-CAFA69F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01CAF-A5DB-4CA4-8307-AEF790AE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3FF00-A600-41A0-9982-7CF80813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B7ECE-FDAA-4E79-9004-B5B9563D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A9303-B706-4487-8F97-AAEA3C07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5CF741-0F57-444F-A031-DAC6D85A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8D69-A7DF-42CA-95DC-0128C3B6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7960-A94A-4669-A422-4991843F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4112-8D8C-483F-8A49-196E810B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159A-B3F1-4880-A86F-6A010526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5765-5D58-4C3C-BCEC-88ED5B6D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539D-77AE-43B6-BA56-47C2A548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24AC-F78E-4446-951C-171023C6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5316-0185-41E8-AB5D-06DA61FC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9C45-68B8-496F-BF23-6BAB095B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617-857C-4C81-B85E-F8E8B5D2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ACF27-1C31-4E24-A6E7-CB6CB86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5E23-B54A-44C9-8DD9-E641E483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8D56-4D11-45AD-A0FC-E10E0AB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9C01-DD41-4039-AB2E-BDA8E001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EC28-2903-4795-A267-BA6B36B0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1754-1220-4459-8C16-1472DAB0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BB03-0CA6-4CD6-8994-6551454A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7BE2-4100-40C4-9EDC-37C64DD1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25B7-35BC-4D00-9DAF-B5F448BA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98F7-5555-4D93-85C0-D193439A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865-DCA6-4E6F-8A45-F6915122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BBBB-C61F-455C-B14D-C2D88632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B574-939D-45FA-83C9-2FA718EF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39453-AA4F-4290-A1AF-742B8FEF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B8D7-3017-41AB-B6EA-BB3E6E13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899E-F162-46DF-A46F-B6719C78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CDCF-B31A-4F21-B522-51DA71B9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7C68-08F8-4955-850F-384E439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A22E-6731-4FF2-908C-6541B927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38181-CF8C-45EA-8DC5-3043EE8C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634E7-3525-4DBA-9FBC-F96B9CF1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DBD-BB01-4EE1-B3A5-D0C79518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4E04-0E13-43FC-82F1-14E28F14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D79E4-8130-46B3-BCF6-83AD02F5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9B3CC-FA34-4B46-9CF2-F5322E73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169FA-E254-4E41-8C7C-EE56C828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CDF08-7B57-44E2-8450-72B0467B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3282D-7923-4FC0-B31B-85306A6F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77668-C28A-42F8-8598-8041475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C40A8-6E73-400D-B6E8-C25EDCFB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F9DC6-77CD-4DF2-A680-22972072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C057B-145F-4117-AAB4-E474C814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C90-3DD4-40BD-8741-43C80482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8C2D0-E99E-4F2E-A471-BC1634DD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E7D1B-5387-4614-9D08-B64C0C2E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B9FED-270A-4240-899A-6D3E8984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D026C-7D92-4202-8BE8-5AA83A17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7633C-BDD4-4D33-B6B5-22048E28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80FC-1999-4DD3-8920-06E69844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A67A8-6F63-4B09-AA57-D9F1BC2F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E48B8-D480-4719-ADFD-B541E37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8030D-D0BE-42CE-B205-8FD246F4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EE674-4809-4CD4-8884-CA72B98A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FDF-62B7-486D-A287-181A9B8A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CB590-3266-4024-B52A-F463D95E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DF267-353A-4183-9487-DBCBE77E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A07A-3815-47B5-8922-0B24C1DF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663B2-37DF-4870-835D-3AFB2575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8AB3B-B138-4543-8330-6960321E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C8BD0-2D0E-4D83-8E9C-BC127EBF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59ACF-2CF3-4C62-8C46-B6FE518D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DDDF2-A6E0-4A98-BCA7-48F4D043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FA0A3-9500-439F-B0FE-0C950E3E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3F30B-89E7-44B6-9D40-AD51535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D09-1471-43BF-AD1E-E05C1FD5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37373-B7DF-4DE8-90BC-CF8EDD6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05618-B37C-492A-809F-439EADFE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5DB76-8AB1-426E-8BB6-2984C597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C3F17-01A7-446B-86D7-90564C4B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FAE60-F726-4C7B-809E-EF01D573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000EA-4751-494C-BB48-02D62C72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39900-74E1-4E9E-BB2D-713DD82D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DA483-38AE-4488-AB8D-7368838E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49E5C-1247-442A-B956-48432C28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778AA-CA6C-4635-A150-AC3FBAE2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AE3-B476-468F-BBF8-614BDAE3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7F006-6721-49D7-8D33-C2C136D0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63ED6-D3F7-426D-BA63-1CB6107A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27131-B7C4-4E0E-B07D-6CB65CE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51605-29B4-4744-B0E9-AB444E8A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383ED-8D24-4BEC-961A-0440346A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7B8F3-F361-4E66-82CC-A28B9266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9392C-3730-4056-9574-746271AA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8AABC-7B20-413F-8B11-070F20DB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46AA3-7132-4230-8C2C-0B7194A0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15E3A-722C-43D5-9590-05943316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1C0A3-E42D-4A7C-9972-7F0E75A4B92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A24B7-5358-4FFC-BB36-8D8ECE2EDB1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AB6BB-2F78-45C0-B51C-A743B81132E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D26CD-999F-4279-87AB-67F2F65053F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D4676-91E0-4802-BAA7-67014EE1AD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9B1D7-3B32-4CFF-8DB0-4CB11B48FAE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61667-13EC-4891-A0C0-8E4405A1519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9EE76-35B1-4E97-9F39-DBAD0AEE658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19CCB-19CD-4E51-996D-929F8ED80E9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CB0F2-94F7-48DB-9DF3-11C0EB23129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7FC3B-49B2-4F4B-8E1A-10F73A957D7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6B67D-B28E-4779-9725-2799E16A1A9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CD597-D9B0-457D-ADAE-6110DE28C54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37740-5582-4CF2-A2DE-DEDE8212894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4FC65-B806-45D6-BE2E-E50C1D60E3C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624FF-D9FD-4E0D-827D-70E974E2A1B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C87FF-E0B4-4FDF-9D52-94FCDBDCC69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Рисунок 2" descr="C:\Users\user\Desktop\осеннее утро\а вчера зарёй всё грачи летали да как сеть мелькали .jpg"/>
          <p:cNvPicPr/>
          <p:nvPr/>
        </p:nvPicPr>
        <p:blipFill>
          <a:blip r:embed="rId1"/>
          <a:stretch/>
        </p:blipFill>
        <p:spPr>
          <a:xfrm>
            <a:off x="7254720" y="603360"/>
            <a:ext cx="2157480" cy="1822320"/>
          </a:xfrm>
          <a:prstGeom prst="rect">
            <a:avLst/>
          </a:prstGeom>
          <a:ln w="0">
            <a:noFill/>
          </a:ln>
        </p:spPr>
      </p:pic>
      <p:pic>
        <p:nvPicPr>
          <p:cNvPr id="1177" name="Рисунок 3" descr="C:\Users\user\Desktop\осеннее утро\лишь вдали красуются там на дне долин кисти ярко-красные.jpg"/>
          <p:cNvPicPr/>
          <p:nvPr/>
        </p:nvPicPr>
        <p:blipFill>
          <a:blip r:embed="rId2"/>
          <a:stretch/>
        </p:blipFill>
        <p:spPr>
          <a:xfrm>
            <a:off x="2114640" y="487440"/>
            <a:ext cx="2597040" cy="1822320"/>
          </a:xfrm>
          <a:prstGeom prst="rect">
            <a:avLst/>
          </a:prstGeom>
          <a:ln w="0">
            <a:noFill/>
          </a:ln>
        </p:spPr>
      </p:pic>
      <p:pic>
        <p:nvPicPr>
          <p:cNvPr id="1178" name="Рисунок 4" descr=""/>
          <p:cNvPicPr/>
          <p:nvPr/>
        </p:nvPicPr>
        <p:blipFill>
          <a:blip r:embed="rId3"/>
          <a:stretch/>
        </p:blipFill>
        <p:spPr>
          <a:xfrm>
            <a:off x="7358040" y="3627360"/>
            <a:ext cx="2182680" cy="1878120"/>
          </a:xfrm>
          <a:prstGeom prst="rect">
            <a:avLst/>
          </a:prstGeom>
          <a:ln w="0">
            <a:noFill/>
          </a:ln>
        </p:spPr>
      </p:pic>
      <p:pic>
        <p:nvPicPr>
          <p:cNvPr id="1179" name="Рисунок 5" descr="C:\Users\user\Desktop\осеннее утро\лишь паутины тонкий волос блестит на праздной борозде.jpg"/>
          <p:cNvPicPr/>
          <p:nvPr/>
        </p:nvPicPr>
        <p:blipFill>
          <a:blip r:embed="rId4"/>
          <a:stretch/>
        </p:blipFill>
        <p:spPr>
          <a:xfrm>
            <a:off x="2279520" y="3535200"/>
            <a:ext cx="2305080" cy="1878120"/>
          </a:xfrm>
          <a:prstGeom prst="rect">
            <a:avLst/>
          </a:prstGeom>
          <a:ln w="0">
            <a:noFill/>
          </a:ln>
        </p:spPr>
      </p:pic>
      <p:sp>
        <p:nvSpPr>
          <p:cNvPr id="1180" name="Прямоугольник 6"/>
          <p:cNvSpPr/>
          <p:nvPr/>
        </p:nvSpPr>
        <p:spPr>
          <a:xfrm>
            <a:off x="1471680" y="5840280"/>
            <a:ext cx="457200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Лишь паутины тонкий волос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Блестит на праздной борозде» (Ф.Тютчев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Прямоугольник 7"/>
          <p:cNvSpPr/>
          <p:nvPr/>
        </p:nvSpPr>
        <p:spPr>
          <a:xfrm>
            <a:off x="585720" y="2598840"/>
            <a:ext cx="54594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Лишь вдали красуются, там, на дне долин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исти ярко-красные вянущих рябин». (А.Толсто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й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Прямоугольник 8"/>
          <p:cNvSpPr/>
          <p:nvPr/>
        </p:nvSpPr>
        <p:spPr>
          <a:xfrm>
            <a:off x="9899640" y="1135080"/>
            <a:ext cx="22924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 вчера зарёй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ё грачи летали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как сеть мелькали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н над той горой». (А.Фет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Прямоугольник 3" descr=""/>
          <p:cNvPicPr/>
          <p:nvPr/>
        </p:nvPicPr>
        <p:blipFill>
          <a:blip r:embed="rId1"/>
          <a:stretch/>
        </p:blipFill>
        <p:spPr>
          <a:xfrm>
            <a:off x="2414520" y="444600"/>
            <a:ext cx="7394760" cy="1755720"/>
          </a:xfrm>
          <a:prstGeom prst="rect">
            <a:avLst/>
          </a:prstGeom>
          <a:ln w="0">
            <a:noFill/>
          </a:ln>
        </p:spPr>
      </p:pic>
      <p:pic>
        <p:nvPicPr>
          <p:cNvPr id="1184" name="Рисунок 4" descr=""/>
          <p:cNvPicPr/>
          <p:nvPr/>
        </p:nvPicPr>
        <p:blipFill>
          <a:blip r:embed="rId2"/>
          <a:stretch/>
        </p:blipFill>
        <p:spPr>
          <a:xfrm>
            <a:off x="4595760" y="2371680"/>
            <a:ext cx="3273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0:32:36Z</dcterms:created>
  <dc:creator>gavrilovainna@outlook.com</dc:creator>
  <dc:description/>
  <dc:language>en-US</dc:language>
  <cp:lastModifiedBy>gavrilovainna@outlook.com</cp:lastModifiedBy>
  <dcterms:modified xsi:type="dcterms:W3CDTF">2022-11-21T18:32:32Z</dcterms:modified>
  <cp:revision>32</cp:revision>
  <dc:subject/>
  <dc:title>Презентация PowerPoint</dc:title>
</cp:coreProperties>
</file>