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C9C-DEDD-43F6-A5C8-8D46D628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8B4-D34D-4338-B7F4-A8D78C9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06EF-D22D-4229-8509-92CDCFB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52337-B95B-4A7C-A028-5DBE8D4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CA8B-BB75-4483-BD49-6C1262D2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45A4E-B09E-4044-B421-8C2C756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39AF6-8A6F-462C-9BE8-275C5F1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CDFB5-607C-46D4-91E2-D62FBCB2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0F500-CA55-48DD-94E7-75206C3E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EA37-4CA2-45B6-AF36-7953C4AB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E9CC4-C685-4CF9-B951-6CA347A1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62EC4-21F9-498B-A90E-03B1609A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779-792F-4D8F-99A7-C79B28E3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46AEC-F057-4E56-A9F9-ACAA662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05E9B-AB0D-4954-AA4C-0541B77C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39B46-1F39-4C86-8D06-ADF0892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57E5E-E2D9-4FC7-AACF-DC0597D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E7BA-4311-4A25-823D-E439C58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69664-27AC-4A06-B1BB-7C51FDD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7715-3FE0-4484-B651-49D3746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25D99-497F-4323-9BD4-B745D65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786B-B4B5-4861-810A-01326FD4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429B3-0DDE-4648-BE4E-6424239F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F0D-261A-4A36-8F66-780060B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40337-22EC-4C6C-A6FD-0D6E0804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745D9-23CD-4FCD-A422-C459754E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720F-3A28-436A-A48E-D4A0319F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851D8-6012-4FCE-A31B-8D6FA36D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3314-E5C1-43E1-BD56-595617B5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770B-718E-4CD7-B8B3-73E7B45E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2628D-5377-454E-8C5B-66987732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17D2-1C86-4DD0-BB57-575FBD3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9354A-B29E-4BF6-AC22-51E6207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55F68-4791-468F-A603-7ED25BF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DB42-DA7F-46B4-B086-A78648AF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0A377-DF7A-40E6-BE7C-A09771BD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BB99-B277-48EA-8F85-B1071266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C233-86D9-4257-B1D5-4BEBBE42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13CC-0E5B-4996-9C48-AC748E1D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48F32-E836-43C7-9DD6-EDD8C5C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D2248-16CD-498F-8FEE-C3C2A31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37CDD-5432-421B-9F3A-FB739AA1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85C85-19DB-4DAA-BBE1-B741EFAB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6FCFB-E882-4B17-9207-BA2AC32A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C18EF-32C5-4CD1-A4AD-E2884EE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2F5-F414-44FB-B0FA-A44E9784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B5A31-1CF4-4EB9-9208-A5293D6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7A3A4-F83E-4696-BE97-39313FA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132BF-FE34-43DA-AC13-53CB9B9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7AEC7-87A0-4868-A4E2-1F85E787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2CDBD-C137-4BBC-AAB8-1CC3A7B9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5824F-B5D0-441B-AF2F-865DA8BC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DD85B-4C36-48C5-A383-C3E496D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D612F-5CC9-4216-862C-68ABDEF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F7B7D-E262-4421-8AD3-3D0DEB3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027DD-3D99-4888-9458-653E57E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653-4FC6-4BCE-9BC6-3615F81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E35E8-5DE5-4D0F-9F19-737DFB9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7E48-C20D-4E93-8932-ADFD04C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4A7EC-5960-4013-AC98-EB1744C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920F1-172D-4281-BF1F-7F23644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2E7B9-40C7-4C44-A0CD-CD7F58E2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F49BC-928F-49F2-A29C-6F2C4A38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3C929-5721-44AB-8B04-0F7944AB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D80DE-6CA3-4EA2-A840-B342380F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E29AB-75F2-447E-88A4-B57734E3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52F58-7E01-4DF6-9886-12D8479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A0C1-5201-4CBE-A7E5-58D4BF3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05971-47B7-4E81-B940-741162EE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17464-BAC7-4D0B-B799-80E33AF5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3A436-D229-49B8-BCFA-E925CF0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25952-EA46-4B90-ACEE-E0DDC82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1E726-FBFF-4D14-81C7-ED4DEEB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35737-1381-4116-BF53-7461B75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1F593-694E-40DA-93A0-1A0C8534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86C71-68D5-49B9-B9AB-DD4DF24C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D419A-36D9-447D-A57F-D32C4771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4E4F7-EE69-4744-AE45-E33F6013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40A-2DBA-491A-B913-F6C9728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AF1DD-630C-4507-A095-4D55268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3FB26-53F1-40CF-940E-0724838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64DF0-4C6E-4F04-B95D-8DF414E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9663E-8B4E-426E-9F13-08D19BBE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94826-EF74-44FA-97E9-4D05177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98CE9-E1EB-4959-B686-D70A0DD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FF027-8073-4B7E-A3F9-677E6EE6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27E1D-9E55-4C26-B0E3-BEB1510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FA972-D610-4703-BEC2-8722DF59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7FA7B-6724-43F5-B627-CDA5690D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744-E912-4830-B1EA-284E9085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37310-6395-4CD8-BA1C-33E1DD86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49A39-1730-46D2-9209-3C1569C1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82807-F144-4440-9231-7C1D1370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72072-1B9F-449E-AF5C-5A0AAE4D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CA746-DA99-466E-A1EF-CD51B67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F564E-2678-4D21-89C7-A87D6441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33094-B615-4370-B352-C9234EFC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E2450-829A-48BA-81F5-3D8A9F5C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0B230-499A-442C-B218-980D569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5B997-D771-4BD3-9B16-EA1E6B5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0328-3AD6-4081-93C0-866EF44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969E1-1167-4D10-8FEA-D3BB702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96336-CCE2-438A-AF88-F4A555F8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A903D-913E-419C-ABDA-857B96D5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68AA7-81B6-4BE6-BB72-2848DC75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B6456-6F66-4A6E-8C3D-49BBDB2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3FBF7-C298-4A32-8465-79773FB8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65AD3-2E0E-45F9-8D0E-F3430C17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22A2D-D8B1-45D6-AAA4-A9C89CF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0EA07-FD5D-40C3-84F6-541D899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BD00F-57EF-4798-A4CF-33140BA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50E-9506-4670-8B82-45EA472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DEE6-36DF-4DB1-A1D5-A6221D1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9F1CF-F3CC-449A-B9CA-7E82547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2D63C-12B6-45F5-AEDE-CA545DA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F7023-276A-455F-A929-8D053E8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3E4D1-BDD3-47C3-B7CF-0816D3A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CF507-F274-4190-A625-6AEA98EC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1FFA5-D897-4ECA-A058-47CC9748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E5B37-9DC1-4A9B-8664-6BC37B35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D4E52-14FD-4489-86E3-75308D0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5F5EC-AAB2-4037-9966-1F90D9C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40EFA-AF61-4F7B-B7E1-56332A2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A093-E166-476C-BC24-470978B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536E7-9AA5-49D6-B7FB-B2F31EF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336A2-A342-4F9E-85BF-14AF3C3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82DEF-CEA4-499B-BD1D-97D0934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B065D-A5D6-4935-9189-B2E3523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76F88-CDA2-42BA-B1B0-9E81EC3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70B5B-E6FD-4402-BD57-CCEFCF8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32EBB-3E52-40A1-B9D6-64692430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33FD3-00A4-4E86-B05B-B2F889B9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2A4AE-1120-4EB9-A6AB-92146998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03A2E-8991-426C-9A1D-141AD3A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9189-B170-4D0E-9DE5-3B5B137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55478-2AC7-4CBC-AD8F-00100FD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C544B-CED6-491C-A969-1BF76CF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51B09-D17E-406B-9264-E9D80A34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C1811-5362-401D-9FA0-EE218DF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EC6D0-0335-41DA-8E36-5BD7754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3BF79-0BDC-4A4E-907D-9808906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F36D9-A6AB-401C-952A-1ED112E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6A924-79F7-46C7-BC84-72DB3379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6C8A3-57BB-4A65-8B56-3EDFBBCE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065E-6D11-4816-AA1D-CE5536FD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10A-75A9-48DF-B33C-54EEC0C0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B793-6DB3-414E-A902-890B2DB8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FAA4-CA22-47A7-9CA1-0476F34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90AB-DB91-4EE3-ADE5-A182BAF4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A1E4-061E-4A36-8F69-DD4C6940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0E4D-AE70-4E9A-8C26-6A81DD6D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DC4-AE6F-4C12-9948-18A001A1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F581-736F-4224-8597-DE6C7F4C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C456-E65A-4D1A-AA41-DA972978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6CDF-06EB-4A0F-9666-88DADA0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A0B8-18E9-4B9A-8D87-61D6DB4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DD1B-D85F-491C-AEB1-69199AD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BFB2-48F8-4739-8E3E-39490842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606E-5BCD-432A-858E-AACF5864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F666-339F-4D71-8DDB-AB107885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03E2-FBFB-4A97-B087-841E2C0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AE01-D814-43CA-845C-9B70E3BB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B1E-86C2-4D61-9BAA-6768F10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3EFE-66BB-471D-81A9-E6DB1BD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72BD-7E85-4FED-A49F-DE59A0A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0DF7-D257-4B80-8075-72D6531B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7FFA-DCEB-4187-BC2B-1933B01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C41A-6D8F-47C5-AC3D-11B3E8F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DC74-B5C4-4889-AE54-7D84B7B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DEAA-430C-4A71-A2AA-9960C40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3F6E-EF50-4737-B3FA-AA6ADF6B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F329-9BD0-4D75-BCA3-94BF1811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927D-7209-4C2D-8F21-479791FD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22D-E7BE-413F-98E9-15C05C1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F0DB-9C36-44D9-A2D6-91A1569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EC1D-9AE2-43AF-AA73-2604165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0FA6-72FD-4AF4-9560-CE1FA4D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0FC0-1D76-46F5-BB10-C5332A16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2570-3E88-48B3-A6BF-7DABE6B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62A0-5A59-4D53-9093-5D169DE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5E6E-C56F-4F8D-9665-701D018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DEF1-47E8-44B4-9178-1DB3593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3FEF-5B55-4971-9683-90C1648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7E3A-746A-43FE-A278-1BB9D580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A3F-C760-4F82-B5F7-227DC605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2AB4-F717-4EC4-B2EE-52BEC252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0CD9-6B27-4B3A-B54B-EA199998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A4A5-0765-486C-8578-F3BA24B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4DBF-9BDF-422A-9C90-B2E0A559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68C2-A1E2-453C-9191-2AF6683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F8F4-A4C0-4234-87EB-844906C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7AD5-8021-4B88-86B2-7780B0D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019C-FD6A-48FA-9DFB-73516215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2CEA-9D2F-4A11-A549-288EC86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1D939-847D-402C-A1AA-AFC71D9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B70-953D-492C-8C7C-1698CAC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D059-2539-4456-9F34-4A796F0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3978-DB03-43FF-9B2D-E12959DE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8711-EA08-4B14-8929-E1D429FC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00E6-D284-4AC9-A872-35F35FD3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4551-DAB0-4C2B-BD51-B88CDA9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73CE-A9A0-48EB-BD96-512C1E4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8A4B-C7FD-4260-8447-8352097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CA92-7D0D-4513-9319-7E8C46D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0A3A-ED2A-47BF-B767-2E2468F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4D7B-1E3E-4275-AA05-BCCB616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A48-8DDB-4690-959D-57AFD88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2E14C-8204-43CA-9831-87BDD3FD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A875-66E9-4811-A1CB-23369D2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4C99-A9C0-4FBB-B458-640C1362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9CD5-30B8-48B4-B34D-E634E62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D624-E7D8-4234-98EC-27892FEA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893D5-844B-4872-BD1D-334C3062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CA2E-D99D-46DF-91C0-CD45F3E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A77B-F7B3-4B73-82BC-086E8676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10AE-D435-4D35-9FE2-E51F15D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4B3F3-64E8-4E84-9EC2-310ED3B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70B-848D-485F-9315-645AB19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9876-D630-4E73-9388-EB66099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1210-50D2-4618-9235-C555B72C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661B-F779-474D-915E-7EE3E02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3572-944C-4DC0-A46A-64D6A6B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084E9-428B-4C3A-A46E-3030303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556B-59F7-4BAA-AB3B-6521F52B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2D79-C5DA-4A09-8D83-3EF41B7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6E926-0B2E-4EB7-BFB5-33A72FBE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331C-8161-4E4D-AF3F-A8685598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4E041-2AC0-4240-8C1F-EEF2D912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67A28-031A-467A-A8A6-A0AE968BA5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1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2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2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12C0B-124F-459B-9F83-AB350D3E346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9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0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6768D-7049-4E30-ACE6-98F24E47AC4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6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6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7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23EFB-6983-452A-B1DE-78A7447E82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1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3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3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97E26-CF28-4A01-84D9-77439ED4ACF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E9A13-A239-4B9C-BFE1-8F1F891A2C8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1C62D-97CF-4CFE-A607-0E0AED7980F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06B56-7FD7-438D-B213-0C5455DA63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E9706-691B-4090-BAFF-C2DB827F17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6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9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111B9-3C75-4FB6-B6DC-ACCAA87BB78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Group 2"/>
          <p:cNvGrpSpPr/>
          <p:nvPr/>
        </p:nvGrpSpPr>
        <p:grpSpPr>
          <a:xfrm>
            <a:off x="0" y="0"/>
            <a:ext cx="12191760" cy="6934320"/>
            <a:chOff x="0" y="0"/>
            <a:chExt cx="12191760" cy="6934320"/>
          </a:xfrm>
        </p:grpSpPr>
        <p:sp>
          <p:nvSpPr>
            <p:cNvPr id="1237" name="Freeform 3"/>
            <p:cNvSpPr/>
            <p:nvPr/>
          </p:nvSpPr>
          <p:spPr>
            <a:xfrm>
              <a:off x="0" y="3505320"/>
              <a:ext cx="532296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8" name="Freeform 4"/>
            <p:cNvSpPr/>
            <p:nvPr/>
          </p:nvSpPr>
          <p:spPr>
            <a:xfrm>
              <a:off x="0" y="3962520"/>
              <a:ext cx="447012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9" name="Freeform 5"/>
            <p:cNvSpPr/>
            <p:nvPr/>
          </p:nvSpPr>
          <p:spPr>
            <a:xfrm>
              <a:off x="4428000" y="5132520"/>
              <a:ext cx="776376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0" name="Freeform 6"/>
            <p:cNvSpPr/>
            <p:nvPr/>
          </p:nvSpPr>
          <p:spPr>
            <a:xfrm>
              <a:off x="0" y="831960"/>
              <a:ext cx="20595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1" name="Freeform 7"/>
            <p:cNvSpPr/>
            <p:nvPr/>
          </p:nvSpPr>
          <p:spPr>
            <a:xfrm>
              <a:off x="6747840" y="1440"/>
              <a:ext cx="543960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2" name="Freeform 8"/>
            <p:cNvSpPr/>
            <p:nvPr/>
          </p:nvSpPr>
          <p:spPr>
            <a:xfrm>
              <a:off x="7461000" y="1440"/>
              <a:ext cx="462528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3" name="Freeform 9"/>
            <p:cNvSpPr/>
            <p:nvPr/>
          </p:nvSpPr>
          <p:spPr>
            <a:xfrm>
              <a:off x="0" y="1030320"/>
              <a:ext cx="172692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4" name="Freeform 10"/>
            <p:cNvSpPr/>
            <p:nvPr/>
          </p:nvSpPr>
          <p:spPr>
            <a:xfrm>
              <a:off x="0" y="2452680"/>
              <a:ext cx="16128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5" name="Freeform 11"/>
            <p:cNvSpPr/>
            <p:nvPr/>
          </p:nvSpPr>
          <p:spPr>
            <a:xfrm>
              <a:off x="4897800" y="5446800"/>
              <a:ext cx="673524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406440" y="20160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Rectangle 13"/>
            <p:cNvSpPr/>
            <p:nvPr/>
          </p:nvSpPr>
          <p:spPr>
            <a:xfrm>
              <a:off x="432000" y="20808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0" y="640080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0" y="6400800"/>
              <a:ext cx="1219176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0" y="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1077480" y="363600"/>
              <a:ext cx="674784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2844720" y="465120"/>
              <a:ext cx="453780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6205680" y="2743200"/>
              <a:ext cx="598608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688800" y="2952720"/>
              <a:ext cx="457632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5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5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5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3DE-31A0-4F17-AD7B-6B3D02173C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12191760" cy="6934320"/>
            <a:chOff x="0" y="0"/>
            <a:chExt cx="12191760" cy="6934320"/>
          </a:xfrm>
        </p:grpSpPr>
        <p:sp>
          <p:nvSpPr>
            <p:cNvPr id="69" name="Freeform 3"/>
            <p:cNvSpPr/>
            <p:nvPr/>
          </p:nvSpPr>
          <p:spPr>
            <a:xfrm>
              <a:off x="0" y="3505320"/>
              <a:ext cx="532296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0" y="3962520"/>
              <a:ext cx="447012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4428000" y="5132520"/>
              <a:ext cx="776376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0" y="831960"/>
              <a:ext cx="20595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6747840" y="1440"/>
              <a:ext cx="543960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461000" y="1440"/>
              <a:ext cx="462528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0" y="1030320"/>
              <a:ext cx="172692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0" y="2452680"/>
              <a:ext cx="16128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4897800" y="5446800"/>
              <a:ext cx="673524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406440" y="20160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432000" y="20808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0" y="640080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0" y="6400800"/>
              <a:ext cx="1219176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0" y="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1077480" y="363600"/>
              <a:ext cx="674784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2844720" y="465120"/>
              <a:ext cx="453780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6205680" y="2743200"/>
              <a:ext cx="598608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6688800" y="2952720"/>
              <a:ext cx="457632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2CB3-B827-4BBE-91FD-6EE9D2CE41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E1859-ED2D-4DA0-A94F-D1DB46D8A2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2C557-0454-443B-93FB-81037AD6E9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6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6FFD8-72C5-48F3-B892-3C8B2ADC64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3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4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1BD14-DFE2-41D9-A949-7E4D18AFF9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0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1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6E003-4282-45FD-9C75-2492CC497D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7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8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8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773ED-29EF-4872-BFEA-CAD1FB782A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4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5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5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68AF1-5ABB-4568-91DB-1BC9693BFB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3" descr="C:\Users\Ирина\Desktop\reWalls.com-7984.jpg"/>
          <p:cNvPicPr/>
          <p:nvPr/>
        </p:nvPicPr>
        <p:blipFill>
          <a:blip r:embed="rId1"/>
          <a:stretch/>
        </p:blipFill>
        <p:spPr>
          <a:xfrm>
            <a:off x="1795320" y="1622520"/>
            <a:ext cx="3205440" cy="2435040"/>
          </a:xfrm>
          <a:prstGeom prst="rect">
            <a:avLst/>
          </a:prstGeom>
          <a:ln w="0">
            <a:noFill/>
          </a:ln>
        </p:spPr>
      </p:pic>
      <p:sp>
        <p:nvSpPr>
          <p:cNvPr id="1297" name="Прямоугольник 3"/>
          <p:cNvSpPr/>
          <p:nvPr/>
        </p:nvSpPr>
        <p:spPr>
          <a:xfrm>
            <a:off x="2928240" y="58150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«День открывает глаза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8" name="Рисунок 4" descr=""/>
          <p:cNvPicPr/>
          <p:nvPr/>
        </p:nvPicPr>
        <p:blipFill>
          <a:blip r:embed="rId2"/>
          <a:stretch/>
        </p:blipFill>
        <p:spPr>
          <a:xfrm>
            <a:off x="5724360" y="1625760"/>
            <a:ext cx="4067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Рисунок 1" descr=""/>
          <p:cNvPicPr/>
          <p:nvPr/>
        </p:nvPicPr>
        <p:blipFill>
          <a:blip r:embed="rId1"/>
          <a:srcRect l="31087" t="56165" r="43265" b="10220"/>
          <a:stretch/>
        </p:blipFill>
        <p:spPr>
          <a:xfrm>
            <a:off x="6321600" y="4192560"/>
            <a:ext cx="2157120" cy="211932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2" descr="C:\Users\Ирина\Desktop\PO-16_pict_main.jpg"/>
          <p:cNvPicPr/>
          <p:nvPr/>
        </p:nvPicPr>
        <p:blipFill>
          <a:blip r:embed="rId2"/>
          <a:srcRect l="21268" t="17985" r="23385" b="7782"/>
          <a:stretch/>
        </p:blipFill>
        <p:spPr>
          <a:xfrm>
            <a:off x="7620120" y="712800"/>
            <a:ext cx="2884320" cy="2898720"/>
          </a:xfrm>
          <a:prstGeom prst="rect">
            <a:avLst/>
          </a:prstGeom>
          <a:ln w="60480">
            <a:solidFill>
              <a:srgbClr val="808000"/>
            </a:solidFill>
            <a:miter/>
          </a:ln>
        </p:spPr>
      </p:pic>
      <p:pic>
        <p:nvPicPr>
          <p:cNvPr id="1301" name="Picture 2" descr="C:\Users\Ирина\Desktop\babochki_fon_zheltyy_letayut_2560x1800.jpg"/>
          <p:cNvPicPr/>
          <p:nvPr/>
        </p:nvPicPr>
        <p:blipFill>
          <a:blip r:embed="rId3"/>
          <a:stretch/>
        </p:blipFill>
        <p:spPr>
          <a:xfrm>
            <a:off x="2178000" y="3575160"/>
            <a:ext cx="3111480" cy="218736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1302" name="Picture 2" descr="C:\Users\Ирина\Desktop\235ZR556-196.jpg"/>
          <p:cNvPicPr/>
          <p:nvPr/>
        </p:nvPicPr>
        <p:blipFill>
          <a:blip r:embed="rId4"/>
          <a:stretch/>
        </p:blipFill>
        <p:spPr>
          <a:xfrm>
            <a:off x="2201760" y="763560"/>
            <a:ext cx="2984760" cy="1979640"/>
          </a:xfrm>
          <a:prstGeom prst="rect">
            <a:avLst/>
          </a:prstGeom>
          <a:ln w="475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2358360" y="228600"/>
            <a:ext cx="7599600" cy="5814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ЛЕКСИЧЕСКОЕ  ЗНАЧЕНИЕ  СЛОВ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4" name="WordArt 3"/>
          <p:cNvSpPr txBox="1"/>
          <p:nvPr/>
        </p:nvSpPr>
        <p:spPr>
          <a:xfrm>
            <a:off x="1457280" y="3397320"/>
            <a:ext cx="52354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БАБЬЕ   ЛЕ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05" name="Rectangle 4"/>
          <p:cNvSpPr/>
          <p:nvPr/>
        </p:nvSpPr>
        <p:spPr>
          <a:xfrm>
            <a:off x="1523880" y="5105520"/>
            <a:ext cx="9144000" cy="13230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ЛИТЕЛЬНЫЙ   ПЕРИОД   ТЁПЛОЙ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И СУХОЙ  ПОГОДЫ  В  КОНЦЕ СЕНТЯБР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4239720" y="896760"/>
            <a:ext cx="171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3190320" y="190512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.   ЛИСТОПА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8" name="Rectangle 4"/>
          <p:cNvSpPr/>
          <p:nvPr/>
        </p:nvSpPr>
        <p:spPr>
          <a:xfrm>
            <a:off x="3139560" y="320040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2.   ПРОЩ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9" name="Rectangle 5"/>
          <p:cNvSpPr/>
          <p:nvPr/>
        </p:nvSpPr>
        <p:spPr>
          <a:xfrm>
            <a:off x="3186360" y="449568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3.  ВСЁ   КОНЧИТСЯ 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Прямоугольник 1"/>
          <p:cNvSpPr/>
          <p:nvPr/>
        </p:nvSpPr>
        <p:spPr>
          <a:xfrm>
            <a:off x="1590840" y="104760"/>
            <a:ext cx="9474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 объединяет рассказ М. Пришвина со стихами русских поэтов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331920" y="1378080"/>
          <a:ext cx="11582280" cy="5283000"/>
        </p:xfrm>
        <a:graphic>
          <a:graphicData uri="http://schemas.openxmlformats.org/drawingml/2006/table">
            <a:tbl>
              <a:tblPr/>
              <a:tblGrid>
                <a:gridCol w="2332080"/>
                <a:gridCol w="1523880"/>
                <a:gridCol w="1560600"/>
                <a:gridCol w="3528720"/>
                <a:gridCol w="26370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КТО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ЖАН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Выразительные сред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Настро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изведения русских поэ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ОЭ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Об ос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Хрустальны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Золотые лис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Туча небо кро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Словно бабочек лёгкая с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Да как сеть мельк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восторг и грусть по ушедшему л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М. Пришвин «Осеннее утр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Об ос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буждается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День открывает гл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Летит парашютиком, мотыльком, винти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Летящая паут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грусть по ушедшему л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</a:tr>
            </a:tbl>
          </a:graphicData>
        </a:graphic>
      </p:graphicFrame>
      <p:sp>
        <p:nvSpPr>
          <p:cNvPr id="1312" name="Прямоугольник 3"/>
          <p:cNvSpPr/>
          <p:nvPr/>
        </p:nvSpPr>
        <p:spPr>
          <a:xfrm>
            <a:off x="4187880" y="4505400"/>
            <a:ext cx="1523880" cy="1789200"/>
          </a:xfrm>
          <a:prstGeom prst="rect">
            <a:avLst/>
          </a:prstGeom>
          <a:solidFill>
            <a:srgbClr val="f4b76e"/>
          </a:solidFill>
          <a:ln cap="rnd" w="15840">
            <a:solidFill>
              <a:srgbClr val="aa6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3" name="Рисунок 6" descr=""/>
          <p:cNvPicPr/>
          <p:nvPr/>
        </p:nvPicPr>
        <p:blipFill>
          <a:blip r:embed="rId1"/>
          <a:stretch/>
        </p:blipFill>
        <p:spPr>
          <a:xfrm>
            <a:off x="5802480" y="4505400"/>
            <a:ext cx="3420720" cy="177624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7" descr=""/>
          <p:cNvPicPr/>
          <p:nvPr/>
        </p:nvPicPr>
        <p:blipFill>
          <a:blip r:embed="rId2"/>
          <a:stretch/>
        </p:blipFill>
        <p:spPr>
          <a:xfrm>
            <a:off x="9326520" y="4484520"/>
            <a:ext cx="24940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59:52Z</dcterms:modified>
  <cp:revision>35</cp:revision>
  <dc:subject/>
  <dc:title>Презентация PowerPoint</dc:title>
</cp:coreProperties>
</file>