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915-4F19-411E-BE5D-0CE94C71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2AB-BD1B-4EAD-915B-C3FFB013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E1E82-7506-469F-A933-D965B19C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D8AF-DF71-41D5-B1FB-B016FE4D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14056-8DC8-46B8-AAAC-3F70B8A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513EF-4766-417A-8C73-E256C7E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784D8-A7DA-4317-9E07-0A3CD20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F15B3-22BD-45ED-980B-542FCF0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D04A-B8E1-48B4-8F0E-FC03AF7B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395E6-3202-4284-86E7-DB8EC9E7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04F1-4395-4940-87C1-A879D994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C5591-D5CE-41AE-9047-4B948B25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EA8-12AA-4453-89AF-B1CB2BAA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9EB5-0B66-49E6-9E77-2F93AC4A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0D9E2-23B7-4EFE-85E9-2948FED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4268B-8E29-40D7-ADCF-30D53E5A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C6466-86B1-49E7-9B23-79CC4F0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286C5-8BAE-4BFD-A294-86C0653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1C60A-73DC-4116-B989-24AFD9A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C8C25-F3F0-45C0-8197-FE8EE2F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78D69-5A32-4055-8C92-3AD6C3D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A89A9-B64B-4D20-B4C7-CDA0CD8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76BDF-A525-451A-AB41-AA81DF44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205-AE56-46E2-9A72-89918E7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79883-7CC2-4ED3-95B0-145B64C1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95FA1-1645-41E4-AD0A-4AEC5220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0741B-8F9B-49BD-AD1C-5AF6E54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81E3B-A226-48FB-B13B-FE6CEAAF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043DF-490C-4969-BE18-857F0007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CA85B-0963-45E6-9E6A-8701BC4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45CF5-C2E8-4813-94F5-62B267DF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9CD3A-982A-4FF4-AC32-EF2BFD4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6CCB8-6365-454F-9975-F46AEF7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31FFA-8058-4234-9CF4-2E17D57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4523-AE1E-4CCB-AFBB-A356D6E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6851-AD7E-43BE-BA10-D704985E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E19C7-13AE-49A2-906E-1C20A193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498FF-00AD-42A2-9D4B-E50CA964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9CD9-4C17-496D-B30D-60AC42E5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06DB6-F57B-4D10-AF6F-098652E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211FB-1E69-49CB-9850-AAC26256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9F495-8914-44D0-A433-348882C0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2830-91AA-4014-9AA4-3FFC9B0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EEAD2-5467-47C3-9AFE-CA9A646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5C3FE-BCD5-425A-BC97-6ADD3D0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AB7-7FAA-41E3-AC7E-F14819D8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62EBA-8AB0-4432-9751-C609E38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72737-83B6-464A-9913-03D8131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B12A8-6F97-4C40-A4DA-40FF2D2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3CEE7-BC4F-4C22-ACA1-D03F5185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634AE-541B-4E38-B390-30291795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A614D-6845-48CC-A8B8-9B1FF9C7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BAF9A-F5A2-46B4-894B-35AA1348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8FD72-0D17-4F0D-87B9-ACE089F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6DE7B-E51F-4ED2-88DE-0CAA943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719E2-93D5-4EF4-81FE-7E6AA1F0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FC8-EA44-49CE-817E-50E77470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D62D5-BB12-4382-8C91-62CA9BC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77078-5033-408F-94C7-66B1FFE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A6B5E-9837-4E24-9967-317B41B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43EDB-C29E-430F-91A2-726FF69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6F039-687B-4848-A2B8-6480D93E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ACF2E-516F-4C79-8EFF-444DBF9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19A8F-A348-4591-AF90-2A8598B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7925C-8FC3-4660-B1B1-34EEEF38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D1984-96F5-49D5-BE4C-7222526B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3A782-0500-4632-A43A-4873889A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00A-B10F-4E4C-8CE5-B8F7ADA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00D9F-0293-449B-8257-882A4AC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65115-6CD3-4D44-B71C-5DD98A9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89476-B9F2-41F7-BCCB-3FBE461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92156-BE5A-4B38-9C91-AEB8AC2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59EC5-24A3-41E9-A423-5034D1B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D84C1-F23B-4752-B9BC-718213A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2DFFF-8014-4678-9656-48533A1D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3D67E-A987-415D-9207-F546EED4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65027-F5B4-4735-9941-E7604801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52A99-1640-4B0E-83ED-991B131D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826-0570-40A0-BE79-6CD253B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478B3-CB17-4ADA-AAF4-EC733D6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C4470-9469-46D5-AD5F-8EAE0768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9266D-D2E2-4FA5-8D24-EF1EBBD8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11166-7521-4193-B953-E4B2D96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B4D14-DA13-43E3-AE60-34D3C9D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9B305-C9D7-4B65-B1D0-3C73293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B2790-0420-4D16-9C28-243197A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CED81-9297-4F6F-81ED-729E916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E8640-6BA3-4FBE-B4A0-372E4463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25AE1-937C-465B-81D4-C09B36E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415-3CA8-4DE7-B1BC-50D996CC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8431A-CE58-4D78-9379-B46E4333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AA258-1B1E-4C18-B006-9B7FF269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C304E-142E-4565-890D-422B8F87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015DF-FDC5-4657-B7E0-901AE33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FB4C7-6125-4AB4-B6AB-1C2FF13C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95E57-54BD-442B-8CDC-DC4373A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CA598-8723-4F16-9A62-690FF513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AD84B-D048-457E-AB2E-17B5369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91BCE-5F6E-46B0-8E64-B629739D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B2E7E-B772-45B9-8FE7-6E2629F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0FA1-5204-40CF-A88D-51B8C2C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94DF1-815D-4F49-9715-0372BBD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79BDB-4D01-47C0-81D5-9066474A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EF339-E6CE-4A4D-BD3E-0860E58A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53017-2F55-4E59-92F7-E974ABC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0AE37-20A3-4B50-B58D-CAC069D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50270-A2F9-45CD-8EFD-6DB3584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0E1B8-345F-4007-BE8B-EA11814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903A8-736C-47CF-8D03-3195C4D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266C1-58DE-4760-B53A-688F8BD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71133-7858-40FA-BAFB-1861CBD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B25-6AB1-4704-B81E-A108098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765B-6A70-48DA-B5D9-00CC2B4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22249-76A1-4F5B-994E-F26658F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03AA2-9E03-41B2-9299-9EC1706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04000-ECFC-4DF2-B1ED-01A57A98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D35D7-21C3-43F7-B87D-34A7D96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AC5C7-D8E3-4FB3-ADED-5706789B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3A9E4-735C-42F8-A356-41866127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8A4DE-38DE-45F8-804D-29982D17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0C182-F932-4ACD-BD48-68A4D0F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DD78B-88D3-4188-ADAD-ADC1AC0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9C21B-241A-4A17-B621-066A591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1996-4628-44A4-ACB7-4BE03B4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92419-05AF-454B-B2A5-D545694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1D707-EB74-41FD-9B2C-1944C92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B2F08-A0E1-4511-AA29-BF3A930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B94A8-0456-4112-A685-6EE91FB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72AD9-A6A8-4905-9B14-86CDFF7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6B4AD-CB4F-4898-BE51-6E589E7E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F7AF3-7644-4E29-85A9-E85CB561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546DC-4706-420B-BE3D-ED8C27C2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8CEBA-8D3D-401C-9F01-94A7AAC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B0188-007D-4B3B-93FC-06357A7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FCC-5959-4C34-987A-6DE236E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90E92-5D44-4DFE-BDCF-7111B37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7C7BA-430E-41C7-AA13-0C114565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8979A-7EB2-476F-BD34-60189BC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CE92C-3A24-44FC-96BF-0A8D6F1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43A77-9B9D-46B8-92B1-D927B60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2DCF7-F8CF-47C9-8568-3FD9EEE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AAEF9-952B-4C26-895B-16DD075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B4B23-B6D4-4031-8218-224B48DD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098F9-D113-4F9E-A0F4-27863B16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5E44-1B85-4131-8C5F-55B7AD7B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1F1F-CBE1-4662-9C25-237C7ED2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D335-C06D-42E9-8907-1D4BCC89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5B17-6A0B-45DD-9B2E-4A37D67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49D3-ED54-4D60-8839-6D57FAC1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88B7-5DEC-474E-A5AD-A94D7E0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71E1-C95A-4945-8731-5DBEB48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CA0-58DE-49BE-8D6B-FF37FB6D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FAB8-0825-4D04-BB4E-37B115A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CC43-F1AA-4C11-92B1-2CE61EC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FE34-2DE3-4913-A482-3FE0BB5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345F-6FE0-42DB-B071-86642DF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D4FC-9595-43C8-92F3-9EB894AB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E1C3-F44C-4BCC-8EB8-5D580816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215F-A928-44C7-B7E4-140370F0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3DC27-0C13-46DB-83A5-5DB52B5D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DB1E-A2B5-4E44-8C89-17196E3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9B86-A5B0-4321-93A0-EFFB044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204-E222-4358-97DB-25ACBE3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DB07-F384-4DFD-BE59-D3375DF3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18AA-5D17-49FB-A8A1-7464017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74CB-B862-45BE-B5DF-981816D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C2DCA-6B52-448A-9005-0010CEF8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116F-5A64-4EBA-9061-3955FCB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1BEA-E5C3-4291-A136-60D152D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4B3C-914E-4DA9-A13B-C7D4C65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50A0-9AC4-462E-B7F8-7F839862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7133-C5AC-48E4-9238-F4C415C6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375D-8380-4400-97B8-CA5AA4EA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37B-8504-46C5-849B-505DBC12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007B-06B4-4D1D-9822-75A3DAC8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704A-8300-44BD-A56D-A29940C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E407-89ED-4D1C-A608-08F53F1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39A2-E68C-4506-884F-DCA9E27C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0F64-A92E-4FC4-99BD-185783E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33EC8-827D-4090-84B0-3193400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22A5-F8B3-4458-B99D-04D5FF4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BFBB-86D6-43BD-AB2F-5DD5407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05BDF-64E8-4F12-BEB4-1AB3B747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3ECD-BE85-4432-8B39-EC250CE4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5FF-A58C-4C60-8B44-01C4ED9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01C9-3A2B-4549-90C4-4F66B32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C5F1-9FE6-4D04-A032-452D013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B3DA-0515-430F-8F92-77C639C2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EF9B-C5AF-445B-83BB-27A6D5E2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2306D-9D1B-4BB3-98DF-FD1A5861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CFC9-63C8-4FA0-A0A7-3602107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76AB8-20A8-4837-B09F-A290DE5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3B84F-7D95-4321-923A-5E3BEC2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69FA-53F8-48EA-A88E-9FB5835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2C8A-0B04-4628-925F-5F06D74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19-2D7A-48A1-9F0C-9128383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EDCF-B9F3-44BC-896C-827DB81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7323-79AC-4149-8579-37E6B0E0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9A83-2CE3-427A-9978-E4F22E24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81547-6C3E-4228-9C3E-77180C0D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740A-F4E1-4A30-9785-FD3C264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4CDB-C321-4ABC-A314-C29FE27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8718-F21B-4739-9D7E-6F75F036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CFA9-AFDD-445C-A530-C68E386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41AA-5211-4C9B-80B4-67FE6765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AC06-1467-4734-B310-6B191BF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969-33ED-4D9A-93D8-9E6F1D82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8CC6-4A47-4BCD-B107-D54B7BD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EB599-664B-42D1-9E1E-0DCEAB5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062BB-9E76-4A0A-9DAC-054E289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9E69-33A2-4A35-AD7C-16D5C477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70DE-2C44-41FB-8137-88C8278F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68F2-0D16-48AF-B63D-9A49ADFD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3ED6-724E-4AFA-A8A1-A9EEE8F4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9573-704B-44D9-899D-3F2A9C8F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B802-B4B3-4B51-B9AA-F1718258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555B6-E1A4-4024-80CC-589ED43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F25-159F-411B-BDD8-2921BF8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64444-7811-4D72-BCA1-B637BB34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345EE-36F2-40A0-AE2F-70610A0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A7A6-801B-42B0-8591-ECFF16AC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ABA3-D799-4ABC-9714-9949A7D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8B2BF-2DD0-4C34-85EE-C5F22A1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4144-5EE7-4607-9B29-A80BE96B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D3845-C5ED-4638-A113-D143DC0C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AB71D-23F2-4097-90E3-A9FA9246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0D781-2C2D-4424-B413-5A361172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23235-1384-4F1D-B3D4-920FC207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6E208-D61C-49D5-8353-AF0FA475CD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1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2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2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F1F3F-C1EB-4322-9C37-B26235FA8FA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9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0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4DCC-849F-4BC6-9D57-651A447AF6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6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6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7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E8380-4D0F-4683-87DB-E4B78D61DEC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1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3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3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524D9-3D24-4EF8-8238-76BC059886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A7281-F86D-447C-8B78-DE75213F73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90353-1141-4BE4-9E04-AF1A535105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EFA73-3C4D-46ED-B712-169A38AB16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0D826-B29C-44DB-A0E4-C688548A8E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6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9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735E5-7588-4D6C-9CEF-7CFCFAE4B0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Group 2"/>
          <p:cNvGrpSpPr/>
          <p:nvPr/>
        </p:nvGrpSpPr>
        <p:grpSpPr>
          <a:xfrm>
            <a:off x="0" y="0"/>
            <a:ext cx="12191760" cy="6934320"/>
            <a:chOff x="0" y="0"/>
            <a:chExt cx="12191760" cy="6934320"/>
          </a:xfrm>
        </p:grpSpPr>
        <p:sp>
          <p:nvSpPr>
            <p:cNvPr id="1237" name="Freeform 3"/>
            <p:cNvSpPr/>
            <p:nvPr/>
          </p:nvSpPr>
          <p:spPr>
            <a:xfrm>
              <a:off x="0" y="3505320"/>
              <a:ext cx="532296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8" name="Freeform 4"/>
            <p:cNvSpPr/>
            <p:nvPr/>
          </p:nvSpPr>
          <p:spPr>
            <a:xfrm>
              <a:off x="0" y="3962520"/>
              <a:ext cx="447012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9" name="Freeform 5"/>
            <p:cNvSpPr/>
            <p:nvPr/>
          </p:nvSpPr>
          <p:spPr>
            <a:xfrm>
              <a:off x="4428000" y="5132520"/>
              <a:ext cx="776376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0" name="Freeform 6"/>
            <p:cNvSpPr/>
            <p:nvPr/>
          </p:nvSpPr>
          <p:spPr>
            <a:xfrm>
              <a:off x="0" y="831960"/>
              <a:ext cx="20595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1" name="Freeform 7"/>
            <p:cNvSpPr/>
            <p:nvPr/>
          </p:nvSpPr>
          <p:spPr>
            <a:xfrm>
              <a:off x="6747840" y="1440"/>
              <a:ext cx="543960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2" name="Freeform 8"/>
            <p:cNvSpPr/>
            <p:nvPr/>
          </p:nvSpPr>
          <p:spPr>
            <a:xfrm>
              <a:off x="7461000" y="1440"/>
              <a:ext cx="462528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3" name="Freeform 9"/>
            <p:cNvSpPr/>
            <p:nvPr/>
          </p:nvSpPr>
          <p:spPr>
            <a:xfrm>
              <a:off x="0" y="1030320"/>
              <a:ext cx="172692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4" name="Freeform 10"/>
            <p:cNvSpPr/>
            <p:nvPr/>
          </p:nvSpPr>
          <p:spPr>
            <a:xfrm>
              <a:off x="0" y="2452680"/>
              <a:ext cx="16128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5" name="Freeform 11"/>
            <p:cNvSpPr/>
            <p:nvPr/>
          </p:nvSpPr>
          <p:spPr>
            <a:xfrm>
              <a:off x="4897800" y="5446800"/>
              <a:ext cx="673524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406440" y="20160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Rectangle 13"/>
            <p:cNvSpPr/>
            <p:nvPr/>
          </p:nvSpPr>
          <p:spPr>
            <a:xfrm>
              <a:off x="432000" y="20808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0" y="640080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0" y="6400800"/>
              <a:ext cx="1219176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0" y="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1077480" y="363600"/>
              <a:ext cx="674784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2844720" y="465120"/>
              <a:ext cx="453780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6205680" y="2743200"/>
              <a:ext cx="598608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688800" y="2952720"/>
              <a:ext cx="457632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5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5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5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8D3C-905E-4F3E-B386-19127FB510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12191760" cy="6934320"/>
            <a:chOff x="0" y="0"/>
            <a:chExt cx="12191760" cy="6934320"/>
          </a:xfrm>
        </p:grpSpPr>
        <p:sp>
          <p:nvSpPr>
            <p:cNvPr id="69" name="Freeform 3"/>
            <p:cNvSpPr/>
            <p:nvPr/>
          </p:nvSpPr>
          <p:spPr>
            <a:xfrm>
              <a:off x="0" y="3505320"/>
              <a:ext cx="532296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0" y="3962520"/>
              <a:ext cx="447012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4428000" y="5132520"/>
              <a:ext cx="776376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0" y="831960"/>
              <a:ext cx="20595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6747840" y="1440"/>
              <a:ext cx="543960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461000" y="1440"/>
              <a:ext cx="462528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0" y="1030320"/>
              <a:ext cx="172692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0" y="2452680"/>
              <a:ext cx="16128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4897800" y="5446800"/>
              <a:ext cx="673524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406440" y="20160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432000" y="208080"/>
              <a:ext cx="180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0" y="640080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0" y="6400800"/>
              <a:ext cx="1219176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0" y="0"/>
              <a:ext cx="1219176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1077480" y="363600"/>
              <a:ext cx="674784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2844720" y="465120"/>
              <a:ext cx="453780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6205680" y="2743200"/>
              <a:ext cx="598608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6688800" y="2952720"/>
              <a:ext cx="457632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628C-0DA1-41ED-823D-1C7EE2E16A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64601-5ECA-4191-8D67-E6AF0DD5B5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47D25-1529-48A2-BBE1-B01D22DC6C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6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6D5B6-28E5-4445-A5AC-2D7BCD999B2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3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4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E8428-E11E-4D59-8906-E292AE3199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0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1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0BEC7-5FC6-462D-A661-9BF79EC149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7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8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8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B221D-FDF6-4371-BDDC-E040BF995B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4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5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5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C5F4E-BDF9-4B8E-BEBB-EFC1A092044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3" descr="C:\Users\Ирина\Desktop\reWalls.com-7984.jpg"/>
          <p:cNvPicPr/>
          <p:nvPr/>
        </p:nvPicPr>
        <p:blipFill>
          <a:blip r:embed="rId1"/>
          <a:stretch/>
        </p:blipFill>
        <p:spPr>
          <a:xfrm>
            <a:off x="1795320" y="1622520"/>
            <a:ext cx="3205440" cy="2435040"/>
          </a:xfrm>
          <a:prstGeom prst="rect">
            <a:avLst/>
          </a:prstGeom>
          <a:ln w="0">
            <a:noFill/>
          </a:ln>
        </p:spPr>
      </p:pic>
      <p:sp>
        <p:nvSpPr>
          <p:cNvPr id="1297" name="Прямоугольник 3"/>
          <p:cNvSpPr/>
          <p:nvPr/>
        </p:nvSpPr>
        <p:spPr>
          <a:xfrm>
            <a:off x="2928240" y="58150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«День открывает глаза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8" name="Рисунок 4" descr=""/>
          <p:cNvPicPr/>
          <p:nvPr/>
        </p:nvPicPr>
        <p:blipFill>
          <a:blip r:embed="rId2"/>
          <a:stretch/>
        </p:blipFill>
        <p:spPr>
          <a:xfrm>
            <a:off x="5724360" y="1625760"/>
            <a:ext cx="4067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Рисунок 1" descr=""/>
          <p:cNvPicPr/>
          <p:nvPr/>
        </p:nvPicPr>
        <p:blipFill>
          <a:blip r:embed="rId1"/>
          <a:srcRect l="31087" t="56165" r="43265" b="10220"/>
          <a:stretch/>
        </p:blipFill>
        <p:spPr>
          <a:xfrm>
            <a:off x="6321600" y="4192560"/>
            <a:ext cx="2157120" cy="211932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2" descr="C:\Users\Ирина\Desktop\PO-16_pict_main.jpg"/>
          <p:cNvPicPr/>
          <p:nvPr/>
        </p:nvPicPr>
        <p:blipFill>
          <a:blip r:embed="rId2"/>
          <a:srcRect l="21268" t="17985" r="23385" b="7782"/>
          <a:stretch/>
        </p:blipFill>
        <p:spPr>
          <a:xfrm>
            <a:off x="7620120" y="712800"/>
            <a:ext cx="2884320" cy="2898720"/>
          </a:xfrm>
          <a:prstGeom prst="rect">
            <a:avLst/>
          </a:prstGeom>
          <a:ln w="60480">
            <a:solidFill>
              <a:srgbClr val="808000"/>
            </a:solidFill>
            <a:miter/>
          </a:ln>
        </p:spPr>
      </p:pic>
      <p:pic>
        <p:nvPicPr>
          <p:cNvPr id="1301" name="Picture 2" descr="C:\Users\Ирина\Desktop\babochki_fon_zheltyy_letayut_2560x1800.jpg"/>
          <p:cNvPicPr/>
          <p:nvPr/>
        </p:nvPicPr>
        <p:blipFill>
          <a:blip r:embed="rId3"/>
          <a:stretch/>
        </p:blipFill>
        <p:spPr>
          <a:xfrm>
            <a:off x="2178000" y="3575160"/>
            <a:ext cx="3111480" cy="218736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1302" name="Picture 2" descr="C:\Users\Ирина\Desktop\235ZR556-196.jpg"/>
          <p:cNvPicPr/>
          <p:nvPr/>
        </p:nvPicPr>
        <p:blipFill>
          <a:blip r:embed="rId4"/>
          <a:stretch/>
        </p:blipFill>
        <p:spPr>
          <a:xfrm>
            <a:off x="2201760" y="763560"/>
            <a:ext cx="2984760" cy="1979640"/>
          </a:xfrm>
          <a:prstGeom prst="rect">
            <a:avLst/>
          </a:prstGeom>
          <a:ln w="475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2"/>
          <p:cNvSpPr/>
          <p:nvPr/>
        </p:nvSpPr>
        <p:spPr>
          <a:xfrm>
            <a:off x="2358360" y="228600"/>
            <a:ext cx="7599600" cy="5814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ЛЕКСИЧЕСКОЕ  ЗНАЧЕНИЕ  СЛОВ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4" name="WordArt 3"/>
          <p:cNvSpPr txBox="1"/>
          <p:nvPr/>
        </p:nvSpPr>
        <p:spPr>
          <a:xfrm>
            <a:off x="1457280" y="3397320"/>
            <a:ext cx="52354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БАБЬЕ   ЛЕТ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05" name="Rectangle 4"/>
          <p:cNvSpPr/>
          <p:nvPr/>
        </p:nvSpPr>
        <p:spPr>
          <a:xfrm>
            <a:off x="1523880" y="5105520"/>
            <a:ext cx="9144000" cy="13230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ЛИТЕЛЬНЫЙ   ПЕРИОД   ТЁПЛОЙ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И СУХОЙ  ПОГОДЫ  В  КОНЦЕ СЕНТЯБР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2"/>
          <p:cNvSpPr/>
          <p:nvPr/>
        </p:nvSpPr>
        <p:spPr>
          <a:xfrm>
            <a:off x="4239720" y="896760"/>
            <a:ext cx="171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3190320" y="190512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1.   ЛИСТОПА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8" name="Rectangle 4"/>
          <p:cNvSpPr/>
          <p:nvPr/>
        </p:nvSpPr>
        <p:spPr>
          <a:xfrm>
            <a:off x="3139560" y="320040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2.   ПРОЩ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9" name="Rectangle 5"/>
          <p:cNvSpPr/>
          <p:nvPr/>
        </p:nvSpPr>
        <p:spPr>
          <a:xfrm>
            <a:off x="3186360" y="449568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3.  ВСЁ   КОНЧИТСЯ 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Прямоугольник 1"/>
          <p:cNvSpPr/>
          <p:nvPr/>
        </p:nvSpPr>
        <p:spPr>
          <a:xfrm>
            <a:off x="1590840" y="104760"/>
            <a:ext cx="9474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 объединяет рассказ М. Пришвина со стихами русских поэтов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331920" y="1378080"/>
          <a:ext cx="11582280" cy="5283000"/>
        </p:xfrm>
        <a:graphic>
          <a:graphicData uri="http://schemas.openxmlformats.org/drawingml/2006/table">
            <a:tbl>
              <a:tblPr/>
              <a:tblGrid>
                <a:gridCol w="2332080"/>
                <a:gridCol w="1523880"/>
                <a:gridCol w="1560600"/>
                <a:gridCol w="3528720"/>
                <a:gridCol w="26370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КТО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ЖАН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Выразительные сред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Настро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изведения русских поэ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ОЭ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Об ос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Хрустальны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Золотые лис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Туча небо кро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Словно бабочек лёгкая с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Да как сеть мельк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восторг и грусть по ушедшему л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М. Пришвин «Осеннее утро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Об ос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Пробуждается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День открывает гл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Летит парашютиком, мотыльком, винти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Летящая паут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грусть по ушедшему л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76e"/>
                    </a:solidFill>
                  </a:tcPr>
                </a:tc>
              </a:tr>
            </a:tbl>
          </a:graphicData>
        </a:graphic>
      </p:graphicFrame>
      <p:sp>
        <p:nvSpPr>
          <p:cNvPr id="1312" name="Прямоугольник 3"/>
          <p:cNvSpPr/>
          <p:nvPr/>
        </p:nvSpPr>
        <p:spPr>
          <a:xfrm>
            <a:off x="4187880" y="4505400"/>
            <a:ext cx="1523880" cy="1789200"/>
          </a:xfrm>
          <a:prstGeom prst="rect">
            <a:avLst/>
          </a:prstGeom>
          <a:solidFill>
            <a:srgbClr val="f4b76e"/>
          </a:solidFill>
          <a:ln cap="rnd" w="15840">
            <a:solidFill>
              <a:srgbClr val="aa6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13" name="Рисунок 6" descr=""/>
          <p:cNvPicPr/>
          <p:nvPr/>
        </p:nvPicPr>
        <p:blipFill>
          <a:blip r:embed="rId1"/>
          <a:stretch/>
        </p:blipFill>
        <p:spPr>
          <a:xfrm>
            <a:off x="5802480" y="4505400"/>
            <a:ext cx="3420720" cy="177624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7" descr=""/>
          <p:cNvPicPr/>
          <p:nvPr/>
        </p:nvPicPr>
        <p:blipFill>
          <a:blip r:embed="rId2"/>
          <a:stretch/>
        </p:blipFill>
        <p:spPr>
          <a:xfrm>
            <a:off x="9326520" y="4484520"/>
            <a:ext cx="24940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59:52Z</dcterms:modified>
  <cp:revision>35</cp:revision>
  <dc:subject/>
  <dc:title>Презентация PowerPoint</dc:title>
</cp:coreProperties>
</file>