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AAC9-25B3-46D4-B80D-6267947EA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D166-EFB2-497A-89E2-9AF3FE97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73C8F-7658-413D-A15F-0D60B0C6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3932D2-440E-430C-8914-AF0567BD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EF83B8-1A3C-47EF-834C-9AB35A62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198C0-C902-4911-81B9-198FE042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B214F-F962-4B38-8132-2EFE018A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B578F0-8EE0-4EA3-A39B-E4DF60C6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8EC44-29F8-4531-8D5E-1E91D26A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ECE14C-B0CE-4B73-920F-41E6E91B1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0A0E7-B83E-493B-9D5C-E3CDDD72C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123C31-7B0A-4333-AB2A-C82D39CB7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7ADA-FC26-4D41-8AF2-3DC80E0A6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82E53D-A46B-49AA-9CE7-036CA573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2B5BCA-DF9B-4D0D-8F1E-74560A9C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7B242B-5A32-4A36-938C-BB6AA008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668572-85AA-48E8-AB1A-583536DD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D4991-49BB-440E-BBC3-3876786A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803BC5-BAD5-4B20-93F0-EE656C50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66D5D-564A-4C64-B528-7FE1271C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2C0793-1395-40B3-A316-08D4B797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9B8D2-6385-4EB8-959E-B97C7849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8753F5-3CFD-4BF6-8AFE-EED71FA0D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9AB2-FAF7-4BE3-A904-47FE246F0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063BB-C2AA-46C4-BE9D-659C81B9E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79826-AE37-43C5-B895-4558D75C4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47615-61E0-4D19-8996-50F4BA2A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B1AE9-4167-4843-9C82-D6200594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52AB3-DFBE-4BD7-9588-9118C14F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68C41-D70B-4449-9934-636D787E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0B6A1-0AD1-4BC0-8B68-CB58BAAB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9437F-0FD1-4B04-ADE8-945F176F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9C42AB-D8ED-4BF6-8DD0-18E850A9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80258-306D-4BAF-A464-F54CBCF1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D0C1-97F7-46B6-ADBC-2C05B108C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E49FA-1A61-40DF-A448-47312757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8F11B-B0B8-42FF-9B78-D07173F6A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D7205-73D8-40C5-9AC4-A7D7455B4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21B88-36F7-49A2-96B2-7452D832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4C7925-1381-4A17-AE1D-85173653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F9DC14-AD9F-4943-AD6E-236269A6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89ED7A-02FA-4BE8-8165-F7AAB350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63829B-9B89-4151-B8DC-282C0E81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EA6A48-9217-47F8-BD7A-96ED5E6F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0A1D0F-A181-4CDA-838E-A3E257A5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14F8-1AA8-4152-8EAA-E2902F64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AD913A-3192-4854-9FE1-AE8AAE4A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0192FC-850D-47CC-BD55-6709404A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43AE0-91E9-4D80-B4B1-75A54F72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AB2791-CED8-4718-8DA6-1D03E2B89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D86FB8-0253-420E-8842-D03E2B7D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033177-71AA-484C-81A4-50CB136BC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0EB706-FFDA-4F1E-A487-B9C6AA11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EF0307-4D79-43E3-AC05-788BE1E5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6DCD4D-816F-4BD7-9E6E-AF2C1620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691335-E130-4D96-A330-CC6968F8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7762-1E5C-4CD6-B5A7-6F94E2B3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946C60-A5A8-4767-B963-5F4F1AA5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23F7B1-4B34-48D5-9EB6-1D35E9A1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A27B54-6F12-4D91-861A-F44F1BA0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488760-6055-4B93-BF64-01CA5E5F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AAAE67-D0E7-4147-85D3-9746E7EC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D7987C-A999-4F63-B955-159AC2274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9B3501-F207-41D2-8211-7A1C1CFF1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351ABA-EFED-4A65-B09C-B56D08F15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F33B88-E2DD-498B-8B81-418601A5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2E241D-B4DD-4E71-9E82-3628FFB4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64AB-354C-4829-9131-62FD3E27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400269-D3E4-4275-A0F8-A68B2EA7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C0A02F-E67F-4895-9C00-91AF4373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CBE5FF-7E6D-4D2B-9E1D-D8D01F7E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1B6FD3-0A98-4773-84D8-2E87DC9A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6AECA5-E4EE-4C3B-9612-FE21BF25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6DEE04-C357-4906-9B7B-3A8AFC81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F1BE31-D079-4F5B-BB1D-ED1E1B87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A8593D-4D7D-41A6-996A-78D6DCA14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6ADA1E-5383-4336-A7F1-0C9D9F390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BC148A-B3E2-44E2-A88C-291286442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AD7E-21E0-4AAA-A7F3-C80EE8FA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C4952A-57AA-48C2-8F93-6F11BD6C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74CD70-6639-4036-B4BF-33A3B5F8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548F53-E361-4A86-8D60-B9043515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545C33-F982-4289-8B40-247A1227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A4EDF1-7CB6-498E-9A50-B958743A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C4E514-CF1E-4126-A358-245CB229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9A6CB5-4BBF-4930-BA34-EB862367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C2787F-EC7B-457F-A04A-BC96E7D9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E2FC5B-6CAF-42BB-A3CE-61FEFB5D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45AB02-D41A-4BA7-9C83-D739BB28F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E696-9B80-42AE-88D0-0537517D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CECAAA-FBB5-4FFB-AE7A-80151C1F7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9956ED-847A-400C-9B67-7FBB5D9E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2077C6-B014-4850-B99C-90273EE8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1E46D5-5131-4456-BA5E-C5307C2C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9831E6-64A4-4D18-B942-F4ED9183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7830DD-DB1E-4FBB-BA42-EAF258A5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6C7A81-86BA-4A19-9141-BE594744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74C91E-73DA-44FB-AAC5-4F092D57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EC6E6E-9143-43CE-ACAF-2AAE2B95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461A03-56EB-47CE-8669-8C44F7E3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2040-7D91-4EC0-AEDB-3A6229AA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FACBFD-6E70-4E67-92F9-F7C93A90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75A721-B402-43D4-A844-2625240EF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6474D2-FDA3-4AE9-8DD1-B40017B34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2A3C6F-5F3E-49E5-A41D-D7EFCAD06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51D437-9775-4EE5-AE4C-FF01640B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8B94BD-078A-477A-8D68-7AB1BA89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873890-75E7-4CD4-8169-508486D7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09F741-36C8-401B-899E-84EAA152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A2B3B8-4D7F-416F-9963-E7676CB6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076EE9-D0B4-4492-96E2-945380D7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137C-26A3-4AC8-8EF7-7E41EADB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8F05-EC0E-4C68-A6BE-57CF9B4D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787C7A-C1C1-4D68-8D77-94102FBA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F61D3A-F9A2-4AAD-AB97-C63D63BC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2F5484-A56C-4D33-8230-5F49F538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46E59E-B1EE-4BA1-B245-C72BC323D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52F8C3-0976-449C-9E35-0E6B673A3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9FAFB9-8E83-417D-BD5A-4E9165559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132C26-0B81-4E4C-A894-6617BE07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BE63D7-047F-4E89-BE2B-D5380F90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85675E-74E8-460C-9734-EB0AA002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1F6650-5818-41BC-9D35-888A1D78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D3B0-0562-4B21-A8C2-AC02C837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212ED0-0F11-4C8B-B054-DF8423FC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989479-5699-4822-B127-5C7606B2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13E2E0-755A-4896-A283-F4619FAA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BA72B8-469E-4D52-8F2B-95BF02A2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4C0DBE-08A7-415E-AF9D-AC3D74DF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15281E-60EF-4BAB-9255-71B6F4641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0478BD-059F-414C-AA22-64ABCAC0E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4536-EAB9-494D-A9BF-D50BEE65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D7A1-EDAB-4D25-9934-EFD36A916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DF7E-9298-4FA8-BDDA-F3AF0C78E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012CD-BFE1-465E-AF0B-C2041197F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41DF2-5F31-4AE6-B3E7-EB4DE593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DC920-E545-4D01-8825-35C8C789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120FB-BE58-4578-A104-5774C151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69D86-1904-4C72-B78C-1A48CB1F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CD60-F695-45ED-813C-DAB37705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D694E-A8E6-4FF6-B8B8-E18540E7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4C687-2FB3-4E88-882B-B3510E35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5B94F-37C1-49AD-A8C0-9AFB1CD7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1DDD6-6E3F-4588-9024-4C6B284A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6A8ED-7AEE-4F18-BD41-061FC91F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1BB31-B321-40D9-AAAA-B71C28C5B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6997B-146F-418D-98E0-0195ECE87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0061B-0AB5-4E63-A912-C2AFAF65B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A63C1-415A-41E0-A3CF-7A30D0EF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50EFF-A88D-42B4-81EA-CA5E5DB3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39DC-29B4-42C4-8120-11EF6154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6CEAD-7893-4948-93D8-45C56DBC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DCBDC-91B3-4F90-9E9C-3FB29BD2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019DB-B817-44D8-9136-A4DA0C1D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F5423-C072-4543-8526-24A31EDD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EBF1E-7D98-405A-8D15-B0D64EEA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72179-676A-42F1-AA85-F567D820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FDDE8-469F-4765-9281-986DA6A5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94673-52AE-410A-B82E-5AB786C46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D21D2-2693-4F89-9E54-B21E41774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792A0-A381-457A-B46E-9195DFEAD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9901-F295-4D01-927B-BE148F20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EA2DE-8EEF-44AA-BF99-2A2E0F58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3B765-CFC9-4D01-AD7E-400F9965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DADEA-2B91-4545-8D23-738C1E42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363ED-CCBD-4A6A-9124-FD356F5A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C850E-F2D4-4431-AA6F-B9E480EA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8A0ED-EB4D-434B-9C7D-7E676D89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F6321-57AD-49A4-915C-47DA9298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561C0-3F1C-4D44-90DE-B469985B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8CE90-6E67-44D0-B11E-79073E77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68E03-D1BA-4AFA-B873-73A6635C9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E4AA-8EBD-45D7-A191-5EB6C200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DA1A5-2186-490F-AC50-A16FCF563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25EB1-95B2-42A7-9657-C8E7EC4A2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B3E3F-937C-4C0B-BDB5-F2CF9DBE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45EDB-CC08-4B12-BCA0-40D53083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59075-DAD4-45B1-A273-F6956A30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B9A5C-38D6-45CB-8289-C0729409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7000E-40BE-4738-9A2C-923651F9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21454-5448-4D61-B471-E0372612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32A9C-EBD6-48A6-B28E-70771D43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B74AD-92CD-4678-B89A-23FBC7B0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9220-7B81-46CC-A8A9-BD87AF65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C190E-9495-4C5D-88FA-4DB3473D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6B299-AEE7-48D9-88B2-BC6965CD5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D1BF2-439A-46F2-8F0F-36BA8473C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07957-1686-408B-B7E4-ADDE65126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46948-27B7-4EEF-A81D-4D542A5E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1AA19-0727-435E-BC9B-4AF279F7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79FD9-5837-4E6A-A506-E9DC6094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07E32-8234-48E0-90B2-1C04D87C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DE197-B8EE-4EFF-8800-F98553E8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32BAD-D1B5-43A1-937E-62E3FC8E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9B1C-E014-43B2-8CF3-9081770B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88639-7AB6-413D-8D20-6E39C058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4E9FD-03DE-4062-8833-5C664A88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18010-B908-426D-B4BC-AE48CAC6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ECB47-6F26-4069-B402-C259CD173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9A63D-1446-4D48-B9CB-6C42F1FAB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7EB2F-007D-496B-8067-614A7E469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92014-E936-4EB8-A615-5587F602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A646E-B10A-4CCB-BC02-6F1D7292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E5D46-2A8E-4FDA-911A-41A705F7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C2BDA-F419-45BD-AE5B-725B46D0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6647-860D-40E0-8004-9CCCE50E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07D8F-5751-4719-A0AD-24E91186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762CF-645C-4869-B58D-8B00D9E1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C5630-273E-4984-8CFF-79C9AFF4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3619D-D45D-4085-BD69-F2193232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3026F-D26F-4FD7-8D43-8CD798F8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77202-6A76-4753-9851-EBC4FF530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FE238-8E9C-49AD-BDAC-51A081BB5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773E1-2141-4BA9-9EA3-F880B4C0B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DC9CF-9E71-436B-8717-C3709DF4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B4DCDE-6DC8-4945-9C84-B1542378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404F50-1322-42FD-AAD5-0B2230619F9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F9B036-ECDF-4D0D-A648-F4844ED2DAE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598856-A7B3-4AE9-9189-3CB78399462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000F12-306E-4ACB-8F13-0482C5C7D47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3E0F3A-07C1-415C-B3CA-D36FF22E764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D59D86-EB20-421C-B14F-0C62811F982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DB2123-FD4D-4B54-8944-09AF053BAA9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DA2EFC-F10F-4C9A-9165-15F25BAF007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CFC63B-0B41-43A8-A35C-B9C4DF65F23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7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8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90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0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4BFAC0-50D2-41E4-9A4C-2B361DAA556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949A86-2D1D-416F-8A95-A9E60FA0702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BB4C7F-D38E-4484-BFD2-38A8A7BC904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98FE39-90A4-496A-BA16-808B9341618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2AE936-F6FB-4E4E-A563-A7AC58F7DDC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5EA3D3-5B0D-47C2-BFB1-55EBE045020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846DFF-0FA4-44A2-85D0-CA32DD66A93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7FDF77-4A8B-45B6-81ED-CB9D0C0D7E6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967009-3BB5-4C28-B3D6-9EE5AB67214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0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oyuz-pisatelei.ru/_bl/18/86972058.jpg" TargetMode="External"/><Relationship Id="rId2" Type="http://schemas.openxmlformats.org/officeDocument/2006/relationships/hyperlink" Target="http://www.wanshehui.com/uploads/allimg/121205/235ZR556-196.jpg" TargetMode="External"/><Relationship Id="rId3" Type="http://schemas.openxmlformats.org/officeDocument/2006/relationships/hyperlink" Target="http://dic.academic.ru/pictures/wiki/files/80/PO-16_pict_main.jpg" TargetMode="External"/><Relationship Id="rId4" Type="http://schemas.openxmlformats.org/officeDocument/2006/relationships/hyperlink" Target="http://buziza.ru/g/42/babochki_fon_zheltyy_letayut_2560x1800.jpg" TargetMode="External"/><Relationship Id="rId5" Type="http://schemas.openxmlformats.org/officeDocument/2006/relationships/hyperlink" Target="http://kards.qip.ru/images/wallpaper/fa/05/132602_prev_425.jpg" TargetMode="External"/><Relationship Id="rId6" Type="http://schemas.openxmlformats.org/officeDocument/2006/relationships/hyperlink" Target="http://www.extrabooks.ru/wp-content/uploads/2010/02/prishvin.jpg" TargetMode="External"/><Relationship Id="rId7" Type="http://schemas.openxmlformats.org/officeDocument/2006/relationships/hyperlink" Target="http://www.knigograd.com.ua/images/detailed/6113171552104e82318a4f4fb.jpg" TargetMode="External"/><Relationship Id="rId8" Type="http://schemas.openxmlformats.org/officeDocument/2006/relationships/hyperlink" Target="http://www.bookin.org.ru/book/507686.jpg" TargetMode="External"/><Relationship Id="rId9" Type="http://schemas.openxmlformats.org/officeDocument/2006/relationships/hyperlink" Target="http://www.internationaltoys.com/pictures/80404_1.jpg" TargetMode="External"/><Relationship Id="rId10" Type="http://schemas.openxmlformats.org/officeDocument/2006/relationships/hyperlink" Target="http://www.audiobooks.ua/pimages/32/300/112420.jpg" TargetMode="External"/><Relationship Id="rId11" Type="http://schemas.openxmlformats.org/officeDocument/2006/relationships/hyperlink" Target="http://eois.mskobr.ru/book_images/img_103579.jpg" TargetMode="External"/><Relationship Id="rId1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Прямоугольник 3"/>
          <p:cNvSpPr/>
          <p:nvPr/>
        </p:nvSpPr>
        <p:spPr>
          <a:xfrm>
            <a:off x="4465800" y="655560"/>
            <a:ext cx="74484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В общении с природой человек как бы заново открывает и самого себя, причём подчас с неожиданной стороны, глубже проникает в свой собственный внутренний мир».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ихаил Михайлович Пришвин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45" name="Рисунок 4" descr=""/>
          <p:cNvPicPr/>
          <p:nvPr/>
        </p:nvPicPr>
        <p:blipFill>
          <a:blip r:embed="rId1"/>
          <a:stretch/>
        </p:blipFill>
        <p:spPr>
          <a:xfrm>
            <a:off x="971640" y="469800"/>
            <a:ext cx="282420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6" name="Picture 4" descr="http://rusbuk.ru/uploads/books/322114/a06712a0dcea395c7ef9b387869b9d6ad487a078Mid.jpg"/>
          <p:cNvPicPr/>
          <p:nvPr/>
        </p:nvPicPr>
        <p:blipFill>
          <a:blip r:embed="rId1"/>
          <a:stretch/>
        </p:blipFill>
        <p:spPr>
          <a:xfrm>
            <a:off x="9131400" y="1389240"/>
            <a:ext cx="2557440" cy="4089240"/>
          </a:xfrm>
          <a:prstGeom prst="rect">
            <a:avLst/>
          </a:prstGeom>
          <a:ln w="57240">
            <a:solidFill>
              <a:srgbClr val="c00000"/>
            </a:solidFill>
            <a:miter/>
          </a:ln>
        </p:spPr>
      </p:pic>
      <p:pic>
        <p:nvPicPr>
          <p:cNvPr id="1247" name="Рисунок 3" descr=""/>
          <p:cNvPicPr/>
          <p:nvPr/>
        </p:nvPicPr>
        <p:blipFill>
          <a:blip r:embed="rId2"/>
          <a:stretch/>
        </p:blipFill>
        <p:spPr>
          <a:xfrm>
            <a:off x="2917800" y="227160"/>
            <a:ext cx="4621320" cy="3205080"/>
          </a:xfrm>
          <a:prstGeom prst="rect">
            <a:avLst/>
          </a:prstGeom>
          <a:ln w="0">
            <a:noFill/>
          </a:ln>
        </p:spPr>
      </p:pic>
      <p:sp>
        <p:nvSpPr>
          <p:cNvPr id="1248" name="Прямоугольник 4"/>
          <p:cNvSpPr/>
          <p:nvPr/>
        </p:nvSpPr>
        <p:spPr>
          <a:xfrm>
            <a:off x="2371680" y="3490920"/>
            <a:ext cx="5870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нин Иван Алексеевич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70—1953)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заик, поэт, переводчик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9" name="Заголовок 3"/>
          <p:cNvSpPr/>
          <p:nvPr/>
        </p:nvSpPr>
        <p:spPr>
          <a:xfrm>
            <a:off x="3843360" y="5602320"/>
            <a:ext cx="8136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Сегодня так светло кругом…»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 txBox="1"/>
          <p:nvPr/>
        </p:nvSpPr>
        <p:spPr>
          <a:xfrm>
            <a:off x="1992240" y="197280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404040"/>
                </a:solidFill>
                <a:latin typeface="Century Gothic"/>
              </a:rPr>
              <a:t>Лиловый -</a:t>
            </a:r>
            <a:endParaRPr b="0" lang="en-US" sz="5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404040"/>
                </a:solidFill>
                <a:latin typeface="Century Gothic"/>
              </a:rPr>
              <a:t>Багряный -</a:t>
            </a:r>
            <a:endParaRPr b="0" lang="en-US" sz="5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404040"/>
                </a:solidFill>
                <a:latin typeface="Century Gothic"/>
              </a:rPr>
              <a:t>Золотой -</a:t>
            </a:r>
            <a:endParaRPr b="0" lang="en-US" sz="5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51" name="Рисунок 3" descr=""/>
          <p:cNvPicPr/>
          <p:nvPr/>
        </p:nvPicPr>
        <p:blipFill>
          <a:blip r:embed="rId1"/>
          <a:stretch/>
        </p:blipFill>
        <p:spPr>
          <a:xfrm>
            <a:off x="7142040" y="87480"/>
            <a:ext cx="3387960" cy="1885680"/>
          </a:xfrm>
          <a:prstGeom prst="rect">
            <a:avLst/>
          </a:prstGeom>
          <a:ln w="0">
            <a:noFill/>
          </a:ln>
        </p:spPr>
      </p:pic>
      <p:pic>
        <p:nvPicPr>
          <p:cNvPr id="1252" name="Рисунок 4" descr=""/>
          <p:cNvPicPr/>
          <p:nvPr/>
        </p:nvPicPr>
        <p:blipFill>
          <a:blip r:embed="rId2"/>
          <a:stretch/>
        </p:blipFill>
        <p:spPr>
          <a:xfrm>
            <a:off x="7232760" y="4581360"/>
            <a:ext cx="3255840" cy="2046600"/>
          </a:xfrm>
          <a:prstGeom prst="rect">
            <a:avLst/>
          </a:prstGeom>
          <a:ln w="0">
            <a:noFill/>
          </a:ln>
        </p:spPr>
      </p:pic>
      <p:pic>
        <p:nvPicPr>
          <p:cNvPr id="1253" name="Рисунок 6" descr=""/>
          <p:cNvPicPr/>
          <p:nvPr/>
        </p:nvPicPr>
        <p:blipFill>
          <a:blip r:embed="rId3"/>
          <a:stretch/>
        </p:blipFill>
        <p:spPr>
          <a:xfrm>
            <a:off x="7142040" y="2401920"/>
            <a:ext cx="34369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2433600" y="15984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Средства художественной выразительности </a:t>
            </a:r>
            <a:br>
              <a:rPr sz="2500"/>
            </a:br>
            <a:r>
              <a:rPr b="1" lang="ru-RU" sz="25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 рассказе М. Пришвина «Осеннее утро»</a:t>
            </a:r>
            <a:br>
              <a:rPr sz="2500"/>
            </a:b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55" name=""/>
          <p:cNvGraphicFramePr/>
          <p:nvPr/>
        </p:nvGraphicFramePr>
        <p:xfrm>
          <a:off x="1496880" y="1127160"/>
          <a:ext cx="10204560" cy="5267160"/>
        </p:xfrm>
        <a:graphic>
          <a:graphicData uri="http://schemas.openxmlformats.org/drawingml/2006/table">
            <a:tbl>
              <a:tblPr/>
              <a:tblGrid>
                <a:gridCol w="5288040"/>
                <a:gridCol w="4916520"/>
              </a:tblGrid>
              <a:tr h="827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равнени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00"/>
                      </a:solidFill>
                    </a:lnL>
                    <a:lnR w="9360">
                      <a:solidFill>
                        <a:srgbClr val="ffff00"/>
                      </a:solidFill>
                    </a:lnR>
                    <a:lnT w="9360">
                      <a:solidFill>
                        <a:srgbClr val="ffff00"/>
                      </a:solidFill>
                    </a:lnT>
                    <a:lnB w="9360">
                      <a:solidFill>
                        <a:srgbClr val="ffff00"/>
                      </a:solidFill>
                    </a:lnB>
                    <a:solidFill>
                      <a:srgbClr val="f5d5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олицетвор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00"/>
                      </a:solidFill>
                    </a:lnL>
                    <a:lnR w="9360">
                      <a:solidFill>
                        <a:srgbClr val="ffff00"/>
                      </a:solidFill>
                    </a:lnR>
                    <a:lnT w="9360">
                      <a:solidFill>
                        <a:srgbClr val="ffff00"/>
                      </a:solidFill>
                    </a:lnT>
                    <a:lnB w="9360">
                      <a:solidFill>
                        <a:srgbClr val="ffff00"/>
                      </a:solidFill>
                    </a:lnB>
                    <a:solidFill>
                      <a:srgbClr val="c8c382">
                        <a:alpha val="50000"/>
                      </a:srgbClr>
                    </a:solidFill>
                  </a:tcPr>
                </a:tc>
              </a:tr>
              <a:tr h="199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летит парашютико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00"/>
                      </a:solidFill>
                    </a:lnL>
                    <a:lnR w="9360">
                      <a:solidFill>
                        <a:srgbClr val="ffff00"/>
                      </a:solidFill>
                    </a:lnR>
                    <a:lnT w="9360">
                      <a:solidFill>
                        <a:srgbClr val="ffff00"/>
                      </a:solidFill>
                    </a:lnT>
                    <a:lnB w="9360">
                      <a:solidFill>
                        <a:srgbClr val="ffff00"/>
                      </a:solidFill>
                    </a:lnB>
                    <a:solidFill>
                      <a:srgbClr val="f5d5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день открывает глаз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00"/>
                      </a:solidFill>
                    </a:lnL>
                    <a:lnR w="9360">
                      <a:solidFill>
                        <a:srgbClr val="ffff00"/>
                      </a:solidFill>
                    </a:lnR>
                    <a:lnT w="9360">
                      <a:solidFill>
                        <a:srgbClr val="ffff00"/>
                      </a:solidFill>
                    </a:lnT>
                    <a:lnB w="9360">
                      <a:solidFill>
                        <a:srgbClr val="ffff00"/>
                      </a:solidFill>
                    </a:lnB>
                    <a:solidFill>
                      <a:srgbClr val="c8c382">
                        <a:alpha val="50000"/>
                      </a:srgbClr>
                    </a:solidFill>
                  </a:tcPr>
                </a:tc>
              </a:tr>
              <a:tr h="115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летит мотылько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00"/>
                      </a:solidFill>
                    </a:lnL>
                    <a:lnR w="9360">
                      <a:solidFill>
                        <a:srgbClr val="ffff00"/>
                      </a:solidFill>
                    </a:lnR>
                    <a:lnT w="9360">
                      <a:solidFill>
                        <a:srgbClr val="ffff00"/>
                      </a:solidFill>
                    </a:lnT>
                    <a:lnB w="9360">
                      <a:solidFill>
                        <a:srgbClr val="ffff00"/>
                      </a:solidFill>
                    </a:lnB>
                    <a:solidFill>
                      <a:srgbClr val="f5d5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00"/>
                      </a:solidFill>
                    </a:lnL>
                    <a:lnR w="9360">
                      <a:solidFill>
                        <a:srgbClr val="ffff00"/>
                      </a:solidFill>
                    </a:lnR>
                    <a:lnT w="9360">
                      <a:solidFill>
                        <a:srgbClr val="ffff00"/>
                      </a:solidFill>
                    </a:lnT>
                    <a:lnB w="9360">
                      <a:solidFill>
                        <a:srgbClr val="ffff00"/>
                      </a:solidFill>
                    </a:lnB>
                    <a:solidFill>
                      <a:srgbClr val="c8c382">
                        <a:alpha val="50000"/>
                      </a:srgbClr>
                    </a:solidFill>
                  </a:tcPr>
                </a:tc>
              </a:tr>
              <a:tr h="1291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летит винтико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00"/>
                      </a:solidFill>
                    </a:lnL>
                    <a:lnR w="9360">
                      <a:solidFill>
                        <a:srgbClr val="ffff00"/>
                      </a:solidFill>
                    </a:lnR>
                    <a:lnT w="9360">
                      <a:solidFill>
                        <a:srgbClr val="ffff00"/>
                      </a:solidFill>
                    </a:lnT>
                    <a:lnB w="9360">
                      <a:solidFill>
                        <a:srgbClr val="ffff00"/>
                      </a:solidFill>
                    </a:lnB>
                    <a:solidFill>
                      <a:srgbClr val="f5d5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00"/>
                      </a:solidFill>
                    </a:lnL>
                    <a:lnR w="9360">
                      <a:solidFill>
                        <a:srgbClr val="ffff00"/>
                      </a:solidFill>
                    </a:lnR>
                    <a:lnT w="9360">
                      <a:solidFill>
                        <a:srgbClr val="ffff00"/>
                      </a:solidFill>
                    </a:lnT>
                    <a:lnB w="9360">
                      <a:solidFill>
                        <a:srgbClr val="ffff00"/>
                      </a:solidFill>
                    </a:lnB>
                    <a:solidFill>
                      <a:srgbClr val="c8c38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256" name="Прямоугольник 6"/>
          <p:cNvSpPr/>
          <p:nvPr/>
        </p:nvSpPr>
        <p:spPr>
          <a:xfrm>
            <a:off x="7166520" y="3919680"/>
            <a:ext cx="432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ень пробуждается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7" name="Заголовок 1" descr=""/>
          <p:cNvPicPr/>
          <p:nvPr/>
        </p:nvPicPr>
        <p:blipFill>
          <a:blip r:embed="rId1"/>
          <a:stretch/>
        </p:blipFill>
        <p:spPr>
          <a:xfrm>
            <a:off x="2590920" y="622440"/>
            <a:ext cx="8912160" cy="1285560"/>
          </a:xfrm>
          <a:prstGeom prst="rect">
            <a:avLst/>
          </a:prstGeom>
          <a:ln w="0">
            <a:noFill/>
          </a:ln>
        </p:spPr>
      </p:pic>
      <p:sp>
        <p:nvSpPr>
          <p:cNvPr id="1258" name=""/>
          <p:cNvSpPr txBox="1"/>
          <p:nvPr/>
        </p:nvSpPr>
        <p:spPr>
          <a:xfrm>
            <a:off x="503280" y="3340080"/>
            <a:ext cx="3379680" cy="8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AGReverance"/>
              </a:rPr>
              <a:t>Урок был полезным и интересным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9" name="Содержимое 2"/>
          <p:cNvSpPr/>
          <p:nvPr/>
        </p:nvSpPr>
        <p:spPr>
          <a:xfrm>
            <a:off x="4359240" y="3379680"/>
            <a:ext cx="33796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198720" indent="-1987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GReverance"/>
              </a:rPr>
              <a:t>Остались некоторые вопросы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0" name="Содержимое 2"/>
          <p:cNvSpPr/>
          <p:nvPr/>
        </p:nvSpPr>
        <p:spPr>
          <a:xfrm>
            <a:off x="8137440" y="3405240"/>
            <a:ext cx="33782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GReverance"/>
              </a:rPr>
              <a:t>Тема не понятн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1" name="Капля 2"/>
          <p:cNvSpPr/>
          <p:nvPr/>
        </p:nvSpPr>
        <p:spPr>
          <a:xfrm>
            <a:off x="1263600" y="1647720"/>
            <a:ext cx="1435320" cy="1581120"/>
          </a:xfrm>
          <a:custGeom>
            <a:avLst/>
            <a:gdLst/>
            <a:ahLst/>
            <a:rect l="l" t="t" r="r" b="b"/>
            <a:pathLst>
              <a:path w="1435100" h="1581150">
                <a:moveTo>
                  <a:pt x="0" y="790575"/>
                </a:moveTo>
                <a:cubicBezTo>
                  <a:pt x="0" y="353952"/>
                  <a:pt x="321258" y="0"/>
                  <a:pt x="717550" y="0"/>
                </a:cubicBezTo>
                <a:lnTo>
                  <a:pt x="1435100" y="0"/>
                </a:lnTo>
                <a:lnTo>
                  <a:pt x="1435100" y="790575"/>
                </a:lnTo>
                <a:cubicBezTo>
                  <a:pt x="1435100" y="1227198"/>
                  <a:pt x="1113842" y="1581150"/>
                  <a:pt x="717550" y="1581150"/>
                </a:cubicBezTo>
                <a:cubicBezTo>
                  <a:pt x="321258" y="1581150"/>
                  <a:pt x="0" y="1227198"/>
                  <a:pt x="0" y="790575"/>
                </a:cubicBezTo>
                <a:close/>
              </a:path>
            </a:pathLst>
          </a:custGeom>
          <a:solidFill>
            <a:srgbClr val="00b050"/>
          </a:solidFill>
          <a:ln cap="rnd" w="15840">
            <a:solidFill>
              <a:srgbClr val="aa62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2" name="Капля 6"/>
          <p:cNvSpPr/>
          <p:nvPr/>
        </p:nvSpPr>
        <p:spPr>
          <a:xfrm>
            <a:off x="5124600" y="1771560"/>
            <a:ext cx="1490400" cy="1548000"/>
          </a:xfrm>
          <a:custGeom>
            <a:avLst/>
            <a:gdLst/>
            <a:ahLst/>
            <a:rect l="l" t="t" r="r" b="b"/>
            <a:pathLst>
              <a:path w="1490663" h="1547813">
                <a:moveTo>
                  <a:pt x="0" y="773907"/>
                </a:moveTo>
                <a:cubicBezTo>
                  <a:pt x="0" y="346490"/>
                  <a:pt x="333697" y="0"/>
                  <a:pt x="745332" y="0"/>
                </a:cubicBezTo>
                <a:lnTo>
                  <a:pt x="1490663" y="0"/>
                </a:lnTo>
                <a:lnTo>
                  <a:pt x="1490663" y="773907"/>
                </a:lnTo>
                <a:cubicBezTo>
                  <a:pt x="1490663" y="1201324"/>
                  <a:pt x="1156966" y="1547814"/>
                  <a:pt x="745331" y="1547814"/>
                </a:cubicBezTo>
                <a:cubicBezTo>
                  <a:pt x="333696" y="1547814"/>
                  <a:pt x="-1" y="1201324"/>
                  <a:pt x="-1" y="773907"/>
                </a:cubicBezTo>
                <a:lnTo>
                  <a:pt x="0" y="773907"/>
                </a:lnTo>
                <a:close/>
              </a:path>
            </a:pathLst>
          </a:custGeom>
          <a:solidFill>
            <a:srgbClr val="e78712"/>
          </a:solidFill>
          <a:ln cap="rnd" w="15840">
            <a:solidFill>
              <a:srgbClr val="aa62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3" name="Капля 7"/>
          <p:cNvSpPr/>
          <p:nvPr/>
        </p:nvSpPr>
        <p:spPr>
          <a:xfrm>
            <a:off x="8602560" y="1647720"/>
            <a:ext cx="1625760" cy="1581120"/>
          </a:xfrm>
          <a:custGeom>
            <a:avLst/>
            <a:gdLst/>
            <a:ahLst/>
            <a:rect l="l" t="t" r="r" b="b"/>
            <a:pathLst>
              <a:path w="1625600" h="1581150">
                <a:moveTo>
                  <a:pt x="0" y="790575"/>
                </a:moveTo>
                <a:cubicBezTo>
                  <a:pt x="0" y="353952"/>
                  <a:pt x="363903" y="0"/>
                  <a:pt x="812800" y="0"/>
                </a:cubicBezTo>
                <a:lnTo>
                  <a:pt x="1625600" y="0"/>
                </a:lnTo>
                <a:lnTo>
                  <a:pt x="1625600" y="790575"/>
                </a:lnTo>
                <a:cubicBezTo>
                  <a:pt x="1625600" y="1227198"/>
                  <a:pt x="1261697" y="1581150"/>
                  <a:pt x="812800" y="1581150"/>
                </a:cubicBezTo>
                <a:cubicBezTo>
                  <a:pt x="363903" y="1581150"/>
                  <a:pt x="0" y="1227198"/>
                  <a:pt x="0" y="790575"/>
                </a:cubicBezTo>
                <a:close/>
              </a:path>
            </a:pathLst>
          </a:custGeom>
          <a:solidFill>
            <a:srgbClr val="ff0000"/>
          </a:solidFill>
          <a:ln cap="rnd" w="15840">
            <a:solidFill>
              <a:srgbClr val="aa62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4" name="Минус 9"/>
          <p:cNvSpPr/>
          <p:nvPr/>
        </p:nvSpPr>
        <p:spPr>
          <a:xfrm rot="18848400">
            <a:off x="759240" y="2837520"/>
            <a:ext cx="914400" cy="661680"/>
          </a:xfrm>
          <a:custGeom>
            <a:avLst/>
            <a:gdLst/>
            <a:ahLst/>
            <a:rect l="l" t="t" r="r" b="b"/>
            <a:pathLst>
              <a:path w="914400" h="661988">
                <a:moveTo>
                  <a:pt x="121204" y="253144"/>
                </a:moveTo>
                <a:lnTo>
                  <a:pt x="793196" y="253144"/>
                </a:lnTo>
                <a:lnTo>
                  <a:pt x="793196" y="408844"/>
                </a:lnTo>
                <a:lnTo>
                  <a:pt x="121204" y="408844"/>
                </a:lnTo>
                <a:lnTo>
                  <a:pt x="121204" y="253144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5" name="Минус 10"/>
          <p:cNvSpPr/>
          <p:nvPr/>
        </p:nvSpPr>
        <p:spPr>
          <a:xfrm rot="19149000">
            <a:off x="4581360" y="2865600"/>
            <a:ext cx="914400" cy="718920"/>
          </a:xfrm>
          <a:custGeom>
            <a:avLst/>
            <a:gdLst/>
            <a:ahLst/>
            <a:rect l="l" t="t" r="r" b="b"/>
            <a:pathLst>
              <a:path w="914400" h="719137">
                <a:moveTo>
                  <a:pt x="121204" y="274998"/>
                </a:moveTo>
                <a:lnTo>
                  <a:pt x="793196" y="274998"/>
                </a:lnTo>
                <a:lnTo>
                  <a:pt x="793196" y="444139"/>
                </a:lnTo>
                <a:lnTo>
                  <a:pt x="121204" y="444139"/>
                </a:lnTo>
                <a:lnTo>
                  <a:pt x="121204" y="274998"/>
                </a:ln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6" name="Минус 11"/>
          <p:cNvSpPr/>
          <p:nvPr/>
        </p:nvSpPr>
        <p:spPr>
          <a:xfrm rot="19377600">
            <a:off x="8097840" y="2879280"/>
            <a:ext cx="914400" cy="606600"/>
          </a:xfrm>
          <a:custGeom>
            <a:avLst/>
            <a:gdLst/>
            <a:ahLst/>
            <a:rect l="l" t="t" r="r" b="b"/>
            <a:pathLst>
              <a:path w="914400" h="606425">
                <a:moveTo>
                  <a:pt x="121204" y="231897"/>
                </a:moveTo>
                <a:lnTo>
                  <a:pt x="793196" y="231897"/>
                </a:lnTo>
                <a:lnTo>
                  <a:pt x="793196" y="374528"/>
                </a:lnTo>
                <a:lnTo>
                  <a:pt x="121204" y="374528"/>
                </a:lnTo>
                <a:lnTo>
                  <a:pt x="121204" y="23189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Список используемых интернет-ресурсов</a:t>
            </a:r>
            <a:br>
              <a:rPr sz="2400"/>
            </a:b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68" name=""/>
          <p:cNvGraphicFramePr/>
          <p:nvPr/>
        </p:nvGraphicFramePr>
        <p:xfrm>
          <a:off x="1784520" y="1185840"/>
          <a:ext cx="8807400" cy="4846680"/>
        </p:xfrm>
        <a:graphic>
          <a:graphicData uri="http://schemas.openxmlformats.org/drawingml/2006/table">
            <a:tbl>
              <a:tblPr/>
              <a:tblGrid>
                <a:gridCol w="2395440"/>
                <a:gridCol w="64119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еннее утр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865331"/>
                      </a:solidFill>
                    </a:lnL>
                    <a:lnR w="5760">
                      <a:solidFill>
                        <a:srgbClr val="865331"/>
                      </a:solidFill>
                    </a:lnR>
                    <a:lnT w="5760">
                      <a:solidFill>
                        <a:srgbClr val="865331"/>
                      </a:solidFill>
                    </a:lnT>
                    <a:lnB w="12240">
                      <a:solidFill>
                        <a:srgbClr val="86533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dab2a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http://soyuz-pisatelei.ru/_bl/18/86972058.jp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865331"/>
                      </a:solidFill>
                    </a:lnL>
                    <a:lnR w="5760">
                      <a:solidFill>
                        <a:srgbClr val="865331"/>
                      </a:solidFill>
                    </a:lnR>
                    <a:lnT w="5760">
                      <a:solidFill>
                        <a:srgbClr val="865331"/>
                      </a:solidFill>
                    </a:lnT>
                    <a:lnB w="12240">
                      <a:solidFill>
                        <a:srgbClr val="865331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дающ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енний ли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865331"/>
                      </a:solidFill>
                    </a:lnL>
                    <a:lnR w="5760">
                      <a:solidFill>
                        <a:srgbClr val="865331"/>
                      </a:solidFill>
                    </a:lnR>
                    <a:lnT w="12240">
                      <a:solidFill>
                        <a:srgbClr val="865331"/>
                      </a:solidFill>
                    </a:lnT>
                    <a:lnB w="5760">
                      <a:solidFill>
                        <a:srgbClr val="865331"/>
                      </a:solidFill>
                    </a:lnB>
                    <a:solidFill>
                      <a:srgbClr val="865331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dab2a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http://www.wanshehui.com/uploads/allimg/121205/235ZR556-196.jp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865331"/>
                      </a:solidFill>
                    </a:lnL>
                    <a:lnR w="5760">
                      <a:solidFill>
                        <a:srgbClr val="865331"/>
                      </a:solidFill>
                    </a:lnR>
                    <a:lnT w="12240">
                      <a:solidFill>
                        <a:srgbClr val="865331"/>
                      </a:solidFill>
                    </a:lnT>
                    <a:lnB w="5760">
                      <a:solidFill>
                        <a:srgbClr val="865331"/>
                      </a:solidFill>
                    </a:lnB>
                    <a:solidFill>
                      <a:srgbClr val="865331">
                        <a:alpha val="20000"/>
                      </a:srgbClr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тит парашюти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865331"/>
                      </a:solidFill>
                    </a:lnL>
                    <a:lnR w="5760">
                      <a:solidFill>
                        <a:srgbClr val="865331"/>
                      </a:solidFill>
                    </a:lnR>
                    <a:lnT w="5760">
                      <a:solidFill>
                        <a:srgbClr val="865331"/>
                      </a:solidFill>
                    </a:lnT>
                    <a:lnB w="5760">
                      <a:solidFill>
                        <a:srgbClr val="86533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dab2a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http://dic.academic.ru/pictures/wiki/files/80/PO-16_pict_main.jp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865331"/>
                      </a:solidFill>
                    </a:lnL>
                    <a:lnR w="5760">
                      <a:solidFill>
                        <a:srgbClr val="865331"/>
                      </a:solidFill>
                    </a:lnR>
                    <a:lnT w="5760">
                      <a:solidFill>
                        <a:srgbClr val="865331"/>
                      </a:solidFill>
                    </a:lnT>
                    <a:lnB w="5760">
                      <a:solidFill>
                        <a:srgbClr val="865331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тит мотыль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865331"/>
                      </a:solidFill>
                    </a:lnL>
                    <a:lnR w="5760">
                      <a:solidFill>
                        <a:srgbClr val="865331"/>
                      </a:solidFill>
                    </a:lnR>
                    <a:lnT w="5760">
                      <a:solidFill>
                        <a:srgbClr val="865331"/>
                      </a:solidFill>
                    </a:lnT>
                    <a:lnB w="5760">
                      <a:solidFill>
                        <a:srgbClr val="865331"/>
                      </a:solidFill>
                    </a:lnB>
                    <a:solidFill>
                      <a:srgbClr val="865331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dab2a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http://buziza.ru/g/42/babochki_fon_zheltyy_letayut_2560x1800.jp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865331"/>
                      </a:solidFill>
                    </a:lnL>
                    <a:lnR w="5760">
                      <a:solidFill>
                        <a:srgbClr val="865331"/>
                      </a:solidFill>
                    </a:lnR>
                    <a:lnT w="5760">
                      <a:solidFill>
                        <a:srgbClr val="865331"/>
                      </a:solidFill>
                    </a:lnT>
                    <a:lnB w="5760">
                      <a:solidFill>
                        <a:srgbClr val="865331"/>
                      </a:solidFill>
                    </a:lnB>
                    <a:solidFill>
                      <a:srgbClr val="865331">
                        <a:alpha val="20000"/>
                      </a:srgbClr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открывает гл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865331"/>
                      </a:solidFill>
                    </a:lnL>
                    <a:lnR w="5760">
                      <a:solidFill>
                        <a:srgbClr val="865331"/>
                      </a:solidFill>
                    </a:lnR>
                    <a:lnT w="5760">
                      <a:solidFill>
                        <a:srgbClr val="865331"/>
                      </a:solidFill>
                    </a:lnT>
                    <a:lnB w="5760">
                      <a:solidFill>
                        <a:srgbClr val="86533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dab2a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http://kards.qip.ru/images/wallpaper/fa/05/132602_prev_425.jp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865331"/>
                      </a:solidFill>
                    </a:lnL>
                    <a:lnR w="5760">
                      <a:solidFill>
                        <a:srgbClr val="865331"/>
                      </a:solidFill>
                    </a:lnR>
                    <a:lnT w="5760">
                      <a:solidFill>
                        <a:srgbClr val="865331"/>
                      </a:solidFill>
                    </a:lnT>
                    <a:lnB w="5760">
                      <a:solidFill>
                        <a:srgbClr val="865331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трет М. Пришв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865331"/>
                      </a:solidFill>
                    </a:lnL>
                    <a:lnR w="5760">
                      <a:solidFill>
                        <a:srgbClr val="865331"/>
                      </a:solidFill>
                    </a:lnR>
                    <a:lnT w="5760">
                      <a:solidFill>
                        <a:srgbClr val="865331"/>
                      </a:solidFill>
                    </a:lnT>
                    <a:lnB w="5760">
                      <a:solidFill>
                        <a:srgbClr val="865331"/>
                      </a:solidFill>
                    </a:lnB>
                    <a:solidFill>
                      <a:srgbClr val="865331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dab2a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http://www.extrabooks.ru/wp-content/uploads/2010/02/prishvin.jp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865331"/>
                      </a:solidFill>
                    </a:lnL>
                    <a:lnR w="5760">
                      <a:solidFill>
                        <a:srgbClr val="865331"/>
                      </a:solidFill>
                    </a:lnR>
                    <a:lnT w="5760">
                      <a:solidFill>
                        <a:srgbClr val="865331"/>
                      </a:solidFill>
                    </a:lnT>
                    <a:lnB w="5760">
                      <a:solidFill>
                        <a:srgbClr val="865331"/>
                      </a:solidFill>
                    </a:lnB>
                    <a:solidFill>
                      <a:srgbClr val="865331">
                        <a:alpha val="20000"/>
                      </a:srgbClr>
                    </a:solidFill>
                  </a:tcPr>
                </a:tc>
              </a:tr>
              <a:tr h="631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ная кап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865331"/>
                      </a:solidFill>
                    </a:lnL>
                    <a:lnR w="5760">
                      <a:solidFill>
                        <a:srgbClr val="865331"/>
                      </a:solidFill>
                    </a:lnR>
                    <a:lnT w="5760">
                      <a:solidFill>
                        <a:srgbClr val="865331"/>
                      </a:solidFill>
                    </a:lnT>
                    <a:lnB w="5760">
                      <a:solidFill>
                        <a:srgbClr val="86533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dab2a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http://www.knigograd.com.ua/images/detailed/6113171552104e82318a4f4fb.jp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865331"/>
                      </a:solidFill>
                    </a:lnL>
                    <a:lnR w="5760">
                      <a:solidFill>
                        <a:srgbClr val="865331"/>
                      </a:solidFill>
                    </a:lnR>
                    <a:lnT w="5760">
                      <a:solidFill>
                        <a:srgbClr val="865331"/>
                      </a:solidFill>
                    </a:lnT>
                    <a:lnB w="5760">
                      <a:solidFill>
                        <a:srgbClr val="865331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ота за бабочк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865331"/>
                      </a:solidFill>
                    </a:lnL>
                    <a:lnR w="5760">
                      <a:solidFill>
                        <a:srgbClr val="865331"/>
                      </a:solidFill>
                    </a:lnR>
                    <a:lnT w="5760">
                      <a:solidFill>
                        <a:srgbClr val="865331"/>
                      </a:solidFill>
                    </a:lnT>
                    <a:lnB w="5760">
                      <a:solidFill>
                        <a:srgbClr val="865331"/>
                      </a:solidFill>
                    </a:lnB>
                    <a:solidFill>
                      <a:srgbClr val="865331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dab2a"/>
                          </a:solidFill>
                          <a:uFillTx/>
                          <a:latin typeface="Times New Roman"/>
                          <a:ea typeface="Times New Roman"/>
                          <a:hlinkClick r:id="rId8"/>
                        </a:rPr>
                        <a:t>http://www.bookin.org.ru/book/507686.jp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865331"/>
                      </a:solidFill>
                    </a:lnL>
                    <a:lnR w="5760">
                      <a:solidFill>
                        <a:srgbClr val="865331"/>
                      </a:solidFill>
                    </a:lnR>
                    <a:lnT w="5760">
                      <a:solidFill>
                        <a:srgbClr val="865331"/>
                      </a:solidFill>
                    </a:lnT>
                    <a:lnB w="5760">
                      <a:solidFill>
                        <a:srgbClr val="865331"/>
                      </a:solidFill>
                    </a:lnB>
                    <a:solidFill>
                      <a:srgbClr val="865331">
                        <a:alpha val="20000"/>
                      </a:srgbClr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 птиц и звер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865331"/>
                      </a:solidFill>
                    </a:lnL>
                    <a:lnR w="5760">
                      <a:solidFill>
                        <a:srgbClr val="865331"/>
                      </a:solidFill>
                    </a:lnR>
                    <a:lnT w="5760">
                      <a:solidFill>
                        <a:srgbClr val="865331"/>
                      </a:solidFill>
                    </a:lnT>
                    <a:lnB w="5760">
                      <a:solidFill>
                        <a:srgbClr val="86533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dab2a"/>
                          </a:solidFill>
                          <a:uFillTx/>
                          <a:latin typeface="Times New Roman"/>
                          <a:ea typeface="Times New Roman"/>
                          <a:hlinkClick r:id="rId9"/>
                        </a:rPr>
                        <a:t>http://www.internationaltoys.com/pictures/80404_1.jp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865331"/>
                      </a:solidFill>
                    </a:lnL>
                    <a:lnR w="5760">
                      <a:solidFill>
                        <a:srgbClr val="865331"/>
                      </a:solidFill>
                    </a:lnR>
                    <a:lnT w="5760">
                      <a:solidFill>
                        <a:srgbClr val="865331"/>
                      </a:solidFill>
                    </a:lnT>
                    <a:lnB w="5760">
                      <a:solidFill>
                        <a:srgbClr val="865331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ичкин хле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865331"/>
                      </a:solidFill>
                    </a:lnL>
                    <a:lnR w="5760">
                      <a:solidFill>
                        <a:srgbClr val="865331"/>
                      </a:solidFill>
                    </a:lnR>
                    <a:lnT w="5760">
                      <a:solidFill>
                        <a:srgbClr val="865331"/>
                      </a:solidFill>
                    </a:lnT>
                    <a:lnB w="5760">
                      <a:solidFill>
                        <a:srgbClr val="865331"/>
                      </a:solidFill>
                    </a:lnB>
                    <a:solidFill>
                      <a:srgbClr val="865331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dab2a"/>
                          </a:solidFill>
                          <a:uFillTx/>
                          <a:latin typeface="Times New Roman"/>
                          <a:ea typeface="Times New Roman"/>
                          <a:hlinkClick r:id="rId10"/>
                        </a:rPr>
                        <a:t>http://www.audiobooks.ua/pimages/32/300/112420.jp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865331"/>
                      </a:solidFill>
                    </a:lnL>
                    <a:lnR w="5760">
                      <a:solidFill>
                        <a:srgbClr val="865331"/>
                      </a:solidFill>
                    </a:lnR>
                    <a:lnT w="5760">
                      <a:solidFill>
                        <a:srgbClr val="865331"/>
                      </a:solidFill>
                    </a:lnT>
                    <a:lnB w="5760">
                      <a:solidFill>
                        <a:srgbClr val="865331"/>
                      </a:solidFill>
                    </a:lnB>
                    <a:solidFill>
                      <a:srgbClr val="865331">
                        <a:alpha val="20000"/>
                      </a:srgbClr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ята и утя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865331"/>
                      </a:solidFill>
                    </a:lnL>
                    <a:lnR w="5760">
                      <a:solidFill>
                        <a:srgbClr val="865331"/>
                      </a:solidFill>
                    </a:lnR>
                    <a:lnT w="5760">
                      <a:solidFill>
                        <a:srgbClr val="865331"/>
                      </a:solidFill>
                    </a:lnT>
                    <a:lnB w="5760">
                      <a:solidFill>
                        <a:srgbClr val="86533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dab2a"/>
                          </a:solidFill>
                          <a:uFillTx/>
                          <a:latin typeface="Times New Roman"/>
                          <a:ea typeface="Times New Roman"/>
                          <a:hlinkClick r:id="rId11"/>
                        </a:rPr>
                        <a:t>http://eois.mskobr.ru/book_images/img_103579.jp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865331"/>
                      </a:solidFill>
                    </a:lnL>
                    <a:lnR w="5760">
                      <a:solidFill>
                        <a:srgbClr val="865331"/>
                      </a:solidFill>
                    </a:lnR>
                    <a:lnT w="5760">
                      <a:solidFill>
                        <a:srgbClr val="865331"/>
                      </a:solidFill>
                    </a:lnT>
                    <a:lnB w="5760">
                      <a:solidFill>
                        <a:srgbClr val="86533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0-16T10:32:36Z</dcterms:created>
  <dc:creator>gavrilovainna@outlook.com</dc:creator>
  <dc:description/>
  <dc:language>en-US</dc:language>
  <cp:lastModifiedBy>gavrilovainna@outlook.com</cp:lastModifiedBy>
  <dcterms:modified xsi:type="dcterms:W3CDTF">2022-11-21T19:00:27Z</dcterms:modified>
  <cp:revision>29</cp:revision>
  <dc:subject/>
  <dc:title>Презентация PowerPoint</dc:title>
</cp:coreProperties>
</file>