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1E3-ECD2-405E-B4BE-3DA5B502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F1F-C23C-4D90-952D-904B9CF6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5148F-3FAE-49DC-9D19-1DE2DE3A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B59EA-05F4-4E50-86B1-FCAAC7D1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CE972-BB98-4C46-A8F1-142861CA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9E1F2-B082-401C-A031-D1D1168E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B279A-4159-461E-94BD-F2AD4CF8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14E0A-94E6-4628-A272-F8307C5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CA141-C717-4D7A-8C43-86035A15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55C7C-1033-4BB1-8955-8B2C8158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FBE27-66B9-4D61-9BBD-E7821287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320D3-CB2F-43C7-8824-B0B9AA84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911-E8AA-4EA4-848D-C2BE805F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B21C7-916C-4F97-A2F4-54E9FC4B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BBE77-1C5B-42D3-A987-1055880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D4BEE-C1B4-4570-81B3-516AE735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0D6DE-F80A-4D0B-BA09-1C3A9B0A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5A23A-D804-463B-9263-3247CBA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20D07-D7DB-4BD9-AC5D-70DC7A02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69F09-7EF4-4408-B051-6D28B730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0C5DF-5CAD-4FA8-8D92-0F03DB40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91C4A-6487-4201-9078-D4E780A5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09E39-3A34-4042-B0C5-413CA57A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E7D-AB8E-4773-BA15-67844E9A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A21DD-3389-471C-B2F7-0C8B87B4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64622-B9FF-4D74-9C46-99530254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2D938-4101-4740-8044-8ACC7A86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8B8AC-4B81-42AF-B133-FE4E90BB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B2491-2627-43F1-9049-DE021333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59F89-8D60-4044-94B8-6B8F2224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D2584-5ED7-4758-AEED-3FD5431A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59054-93A0-48AB-B720-1B21F6C7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EDB26-8F6A-46D9-A0B7-FA50EFB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1ADB6-F024-451A-85A1-0921176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C6A9-261C-47CA-8F2C-14FAEB12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0757A-138D-4CFD-B4B5-C326421A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091DB-3317-4863-AF20-B8A6693C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FB2F7-050F-418E-9273-BCB1A290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5ADDB-BE83-40A1-8906-43740F14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66928-4556-4D77-ADC1-D6FB28CC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E2370-9D48-4874-8864-2A14734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22247-F005-4ECF-8CBE-1CA05FAA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8AEB4-4AF0-463E-989A-18117172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C6404-8F36-419F-AFB5-463143EB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8F371-7A3E-46E7-AF7A-6D1803A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3EDF-DE0F-4385-BE41-3F770C0D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3EAFD-12FA-4903-8C1B-D3753380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BDD97-A8FC-4D6D-A8DA-70674D2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50EBA-D382-4F13-91F5-731F7DC9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93426-D983-4CCB-9AA6-F4F4EF7F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3484C-4C1E-4AF6-A3E5-586205C1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C928E-3AFD-49E3-9E06-E313F2EA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11795-A04D-417B-B27D-397DAD72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51629-CFB1-4C9F-AC37-D1EA457E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5A5E6-3328-429A-B767-469A35EE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35EEA-8A6C-4E1E-BBB2-6D511500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9EDF-B5E2-4F8A-9F15-026F4CA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62018-E0D0-4B95-96B2-406788E5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F15C9-0F2D-42E8-A993-8BDE073D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18FB2-5A59-49F1-9779-354D62B9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D73D1-E5CB-48C9-8FE7-64D60CC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C0770-9CE6-4D36-91CC-D17AA6EB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413B7-7EE6-4062-9B74-66655A10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89065-FD22-4E49-A19D-6FEE4617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4C578-AEAC-4002-B0C3-ABBCBA83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21DE5-BAB8-4BF5-98A2-B650199E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7A236-8991-4169-AF00-6269F420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FC7F-9866-44BC-9C99-C4ABDB6F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FA913-D153-4E42-BAD6-4D696101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C1690-BF28-44B1-951F-038BE083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28859-C985-436B-A8F7-7B29925B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15CAB-3AE6-42FE-92D3-EDD0993A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CA38E-37DA-48E1-B75E-FD0A9951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1F027-6ABD-47ED-AC1E-F6533A73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D553E-0FFE-4D25-948D-2CF0D7EC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68659-EF39-461B-8777-1561460A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42F41-FDC6-45E6-B16B-6766E651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F9993-E3FD-4032-9714-DAC1FFB2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7414-3712-4B5A-9EF4-C101409C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7901F-AB42-41F1-914F-FE02B66D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3E7BD-E507-4737-8F61-9F98F4DB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B26B4-35DE-4FAD-A005-1A3D4A69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89C8C-8EC0-4129-ADCF-FA98EEFC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3D75B-246E-423C-84C8-5F301178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F947B-2B0C-4078-8197-5C238711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45E6E-36DB-42C9-BCF6-64B3822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DD51B-2E37-4A60-B17D-E92FBC5B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3ADF4-0A29-4568-B86B-B025F4D3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84763-A211-4ABA-853B-2E0B437D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BC8B-EDEB-42F6-9AE7-907807BA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CBB1D-5897-47EA-8CE6-32A5C1DD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9102E-DE12-465E-976B-A80FEB81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F9D79-1912-4616-BCF1-5C16E502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72EB1-8DA8-47FC-AEC4-AD4B612F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3BD10-8B39-454C-BAFB-B6B657DB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A2593-009E-4336-8081-383F2F2F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6C50D-BB93-4150-81C3-30472FE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E82B5-4DFB-4695-89C5-0B058A33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0059C-B8DB-447F-915F-0C5EA03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7D24B-2B95-47A4-9989-5D78EB7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35EF-7C1A-4429-B41B-701E385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9FB23-F1D4-4683-9BE3-C1DE28E2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3E7A6-03E6-4AE3-BE24-D7A5001E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A8176-D43E-4B7A-B8C6-194734B3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BFC33-0B02-453A-B411-65499AD6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AF686-E658-4B32-8362-82ABD68D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3BF3E-EE9E-4796-AC0F-C7C85F1A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918C34-19F5-4A6E-BD40-6A65A22F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26E76-76C3-405E-8E1F-05299FF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39F4D-8642-405C-BAE3-A95E5AEF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93801-BEF9-4979-8CEB-3888E02D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9DF-A1DA-4D76-B442-D7B343E3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21B2-26E2-4F1C-A2E9-BB541204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9E1D6-16F3-4DDC-ADFC-F5EDFBC3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3DC17-49B1-48B0-B7E4-D7C2C0E0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F3523-1039-44CB-9DC8-9B553D52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5C049-54D0-415D-8160-2CAB8D1F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999CA-5B28-4F4D-8AE2-CDE92977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3A324-EA1F-485B-888D-4728EE9A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D79ED-786C-4238-AB35-5169AD40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99708-D64A-4AD7-AB81-379371F7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E5F8C-2D2F-46EC-80E9-2A619645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04F3F-60B1-4F46-B991-AF4D648A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A34A-F185-42FE-B1A4-B7FEFD8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77259A-FA3A-4199-9C24-66C0723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DD0CE-0CE0-45B6-956B-43DC7E47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07452-51BB-4DED-A14E-53FBF3D5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1A94A7-2A2A-4B98-8F94-F18DA9BE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697A4C-37FF-47D6-AE07-DC919DC2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A146D2-868A-4D13-8D5C-8DDE0CAE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B81227-481F-4469-AAE7-327B858C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A56B-5BD0-4273-A96E-42DE71B5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475C-A1CF-4CEC-AEFD-F36D05C1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3B81-BF9D-497F-9FE0-6E916896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2F12-58B7-44D4-98B1-BD22278D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DBC8-BE3B-416B-B2B8-DCAD1361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51B5-397F-4555-99B8-EC0BB661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AC58-E27D-480A-9EA3-5AFF37C7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7ED4-DB58-4CA8-B054-4274122B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104-D196-4909-A1F4-FC1B5564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07FBE-23CA-496D-BD1E-F614CA33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FAA5-37C7-457C-BDE1-13A245CB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28EC-C83E-4480-9569-CB0663E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F20A-9B6F-42F6-BD02-A6043B8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1520-61E6-4700-9FF2-DA1867AE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499E-0D63-4327-A223-F49F27E4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8672-8C4C-4C4E-A994-1686B544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20A8F-451E-423D-A310-103B9349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E8F9-64DA-4976-9B0D-0C45340E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5FB7-7D0E-436E-89AD-E8BC85A2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EBC-7A2B-4768-AE28-AADE7905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DC0B8-025C-4A0A-8EA3-BD5F10D6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9FBE-847D-459D-ADD1-F626518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B0E7-239A-472E-86ED-D18B093A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D846-D170-4A26-BFC0-0C79687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7EEAE-206B-4CB5-8156-CF6282AA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EEB5-2945-430C-A743-34D01F8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8029-F8E5-4280-AD18-0CC76EF7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205E-6FE0-4E80-AEBF-3DDD8E50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33BF-FB96-4AB3-A583-D505192A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523A5-332D-4AA9-A913-00DCEF29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45B-2930-455F-94ED-82294CA6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B98DF-D6F8-4CA0-AC16-2D497CA3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6D07A-BD2B-46FD-906C-A4079D75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422B-D141-476E-A582-689DE8B3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9A7A8-7D31-4B51-99C9-3A9EEC1F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8AB6A-9871-446C-BF1D-6D3E4A78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906B1-7E0F-4AEC-B473-18CA4FB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21FF-2E73-45EC-9634-E6130C91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945F7-9100-4D08-B83C-C712E57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3E7E-F58F-4434-927B-F57940F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C449B-6357-4834-90EB-1F0EF144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B83-B210-4865-9E70-B3DBE62B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4537-1D92-4872-82A0-EE444B0C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1DB8-4E0C-4BC2-AA1A-B74E6758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A98E9-0690-4B3E-AD25-99F1BEBD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6686-2DF0-46D1-8E9A-A8EC4D22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E6A8-AB00-4032-9032-F6C4B0DC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1EE80-F280-4494-9EDB-B3F90EB0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2AD6-EA1A-4859-9F41-BF45F4B0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39494-ADA4-4A7E-AD65-B8CA6A79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AC899-5810-40D3-ADA1-A5D852F0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CF0A8-2F31-466A-BB66-BB02C68B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7FC-33E3-48B1-AB0E-DA0FF863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38226-68A7-41AF-B379-06E6DC35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48D03-B501-44DA-9700-5F55B246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C287-40AF-4625-A82D-F912CDBB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8D59C-067B-4D47-8CC7-86702152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1E0F7-41CA-44DA-BAAC-5307FD8E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B529-D9B3-45E2-B4FC-E4B886A3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0E0BD-3978-43F4-871C-BD10B9F1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53CE-E6EF-4620-8720-05907134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24732-39BD-4588-94D6-D6CD637B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2E63D-5F95-4A04-8218-5C839D3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E5D-2BDD-4C36-A220-1573964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C2F1-DE1E-4457-89D0-638F159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656DE-DCCA-4D67-BE4C-D60CEE74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614B7-95B8-44C5-A8F4-4470C760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1DBBB-9BB8-44E7-BAE8-FF4355C4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9CAD8-3957-4284-873E-E8621834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9BA48-F8E5-490A-82A4-77ED7C12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D55B2-495D-42E6-A2A5-3E2E3BC8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B4615-702C-4D59-AA23-9F0F8122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97629-11CB-4C69-ABEC-36F18DDB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BAD4C-4320-476E-83C8-F7B845D5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DB8-DF2B-4E58-AD6B-9345C93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F2300-482A-449B-8495-56BAEE0B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EEF0A-9BA5-464A-9CDA-F412D307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D1484-3602-4B0D-A022-D30796C1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A93C1-EF55-45E6-977D-FD05D035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3B7A1-C5C9-4D45-A8C4-8B1FA7CC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250EE-F77D-4E9F-AB52-BCCEC467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4BD29-3F2C-4E9F-A0B6-383731DC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34693-80C1-4FB0-BE9B-9A57F3EA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61697-17C5-4482-8BD6-03920691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CE728-0825-4013-83CC-FAAB6968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50776-136C-4481-8F22-7593A5A1D8F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9FE2B-385A-4DC9-9EAD-DB8FD7C5F12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558FD-CBB2-4347-8772-79805F806FE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5852E-B776-481B-A539-64A376D1F0D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0EB6C-EB80-4C1E-A5A4-9FA8C48FE25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7F319-B59B-4FEF-9CA1-1D9EE1D1252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CBC27-55D3-4932-8692-A763E65028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A4F8B-D937-4DB1-B891-F48BA5FCEB7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6576A-60A1-40A4-838C-BA02C061A33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B4379-061B-45F6-8BA6-5ACC044145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73F52-ECB3-4766-8006-FA967F0F6DC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242DE-B51C-462C-85CA-D7D7DAEAA57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90701-76AF-434B-A788-4D430073A77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E9163-4EDE-4956-9F07-4A85F6E18B0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BE70C-C9B7-4DFF-8F81-EEB7DC7D06B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46716-B3BC-46E2-BC06-E5CCAA0944E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5376E-2B11-484F-AB86-A4E15706A1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8D86F-C7A6-4782-B766-67833091CD0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oyuz-pisatelei.ru/_bl/18/86972058.jpg" TargetMode="External"/><Relationship Id="rId2" Type="http://schemas.openxmlformats.org/officeDocument/2006/relationships/hyperlink" Target="http://www.wanshehui.com/uploads/allimg/121205/235ZR556-196.jpg" TargetMode="External"/><Relationship Id="rId3" Type="http://schemas.openxmlformats.org/officeDocument/2006/relationships/hyperlink" Target="http://dic.academic.ru/pictures/wiki/files/80/PO-16_pict_main.jpg" TargetMode="External"/><Relationship Id="rId4" Type="http://schemas.openxmlformats.org/officeDocument/2006/relationships/hyperlink" Target="http://buziza.ru/g/42/babochki_fon_zheltyy_letayut_2560x1800.jpg" TargetMode="External"/><Relationship Id="rId5" Type="http://schemas.openxmlformats.org/officeDocument/2006/relationships/hyperlink" Target="http://kards.qip.ru/images/wallpaper/fa/05/132602_prev_425.jpg" TargetMode="External"/><Relationship Id="rId6" Type="http://schemas.openxmlformats.org/officeDocument/2006/relationships/hyperlink" Target="http://www.extrabooks.ru/wp-content/uploads/2010/02/prishvin.jpg" TargetMode="External"/><Relationship Id="rId7" Type="http://schemas.openxmlformats.org/officeDocument/2006/relationships/hyperlink" Target="http://www.knigograd.com.ua/images/detailed/6113171552104e82318a4f4fb.jpg" TargetMode="External"/><Relationship Id="rId8" Type="http://schemas.openxmlformats.org/officeDocument/2006/relationships/hyperlink" Target="http://www.bookin.org.ru/book/507686.jpg" TargetMode="External"/><Relationship Id="rId9" Type="http://schemas.openxmlformats.org/officeDocument/2006/relationships/hyperlink" Target="http://www.internationaltoys.com/pictures/80404_1.jpg" TargetMode="External"/><Relationship Id="rId10" Type="http://schemas.openxmlformats.org/officeDocument/2006/relationships/hyperlink" Target="http://www.audiobooks.ua/pimages/32/300/112420.jpg" TargetMode="External"/><Relationship Id="rId11" Type="http://schemas.openxmlformats.org/officeDocument/2006/relationships/hyperlink" Target="http://eois.mskobr.ru/book_images/img_103579.jpg" TargetMode="External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Прямоугольник 3"/>
          <p:cNvSpPr/>
          <p:nvPr/>
        </p:nvSpPr>
        <p:spPr>
          <a:xfrm>
            <a:off x="4465800" y="655560"/>
            <a:ext cx="74484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 общении с природой человек как бы заново открывает и самого себя, причём подчас с неожиданной стороны, глубже проникает в свой собственный внутренний мир»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Михайлович Пришвин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5" name="Рисунок 4" descr=""/>
          <p:cNvPicPr/>
          <p:nvPr/>
        </p:nvPicPr>
        <p:blipFill>
          <a:blip r:embed="rId1"/>
          <a:stretch/>
        </p:blipFill>
        <p:spPr>
          <a:xfrm>
            <a:off x="971640" y="469800"/>
            <a:ext cx="28242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" descr="http://rusbuk.ru/uploads/books/322114/a06712a0dcea395c7ef9b387869b9d6ad487a078Mid.jpg"/>
          <p:cNvPicPr/>
          <p:nvPr/>
        </p:nvPicPr>
        <p:blipFill>
          <a:blip r:embed="rId1"/>
          <a:stretch/>
        </p:blipFill>
        <p:spPr>
          <a:xfrm>
            <a:off x="9131400" y="1389240"/>
            <a:ext cx="2557440" cy="408924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247" name="Рисунок 3" descr=""/>
          <p:cNvPicPr/>
          <p:nvPr/>
        </p:nvPicPr>
        <p:blipFill>
          <a:blip r:embed="rId2"/>
          <a:stretch/>
        </p:blipFill>
        <p:spPr>
          <a:xfrm>
            <a:off x="2917800" y="227160"/>
            <a:ext cx="4621320" cy="3205080"/>
          </a:xfrm>
          <a:prstGeom prst="rect">
            <a:avLst/>
          </a:prstGeom>
          <a:ln w="0">
            <a:noFill/>
          </a:ln>
        </p:spPr>
      </p:pic>
      <p:sp>
        <p:nvSpPr>
          <p:cNvPr id="1248" name="Прямоугольник 4"/>
          <p:cNvSpPr/>
          <p:nvPr/>
        </p:nvSpPr>
        <p:spPr>
          <a:xfrm>
            <a:off x="2371680" y="3490920"/>
            <a:ext cx="587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нин Иван Алексеевич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70—1953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, поэт, переводчик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9" name="Заголовок 3"/>
          <p:cNvSpPr/>
          <p:nvPr/>
        </p:nvSpPr>
        <p:spPr>
          <a:xfrm>
            <a:off x="3843360" y="5602320"/>
            <a:ext cx="8136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егодня так светло кругом…»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1992240" y="197280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Century Gothic"/>
              </a:rPr>
              <a:t>Лиловый -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Century Gothic"/>
              </a:rPr>
              <a:t>Багряный -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Century Gothic"/>
              </a:rPr>
              <a:t>Золотой -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1" name="Рисунок 3" descr=""/>
          <p:cNvPicPr/>
          <p:nvPr/>
        </p:nvPicPr>
        <p:blipFill>
          <a:blip r:embed="rId1"/>
          <a:stretch/>
        </p:blipFill>
        <p:spPr>
          <a:xfrm>
            <a:off x="7142040" y="87480"/>
            <a:ext cx="3387960" cy="1885680"/>
          </a:xfrm>
          <a:prstGeom prst="rect">
            <a:avLst/>
          </a:prstGeom>
          <a:ln w="0">
            <a:noFill/>
          </a:ln>
        </p:spPr>
      </p:pic>
      <p:pic>
        <p:nvPicPr>
          <p:cNvPr id="1252" name="Рисунок 4" descr=""/>
          <p:cNvPicPr/>
          <p:nvPr/>
        </p:nvPicPr>
        <p:blipFill>
          <a:blip r:embed="rId2"/>
          <a:stretch/>
        </p:blipFill>
        <p:spPr>
          <a:xfrm>
            <a:off x="7232760" y="4581360"/>
            <a:ext cx="3255840" cy="2046600"/>
          </a:xfrm>
          <a:prstGeom prst="rect">
            <a:avLst/>
          </a:prstGeom>
          <a:ln w="0">
            <a:noFill/>
          </a:ln>
        </p:spPr>
      </p:pic>
      <p:pic>
        <p:nvPicPr>
          <p:cNvPr id="1253" name="Рисунок 6" descr=""/>
          <p:cNvPicPr/>
          <p:nvPr/>
        </p:nvPicPr>
        <p:blipFill>
          <a:blip r:embed="rId3"/>
          <a:stretch/>
        </p:blipFill>
        <p:spPr>
          <a:xfrm>
            <a:off x="7142040" y="2401920"/>
            <a:ext cx="34369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2433600" y="15984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редства художественной выразительности </a:t>
            </a:r>
            <a:br>
              <a:rPr sz="2500"/>
            </a:br>
            <a:r>
              <a:rPr b="1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рассказе М. Пришвина «Осеннее утро»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1496880" y="1127160"/>
          <a:ext cx="10204560" cy="5267160"/>
        </p:xfrm>
        <a:graphic>
          <a:graphicData uri="http://schemas.openxmlformats.org/drawingml/2006/table">
            <a:tbl>
              <a:tblPr/>
              <a:tblGrid>
                <a:gridCol w="5288040"/>
                <a:gridCol w="4916520"/>
              </a:tblGrid>
              <a:tr h="82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равнен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лицетвор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c8c382">
                        <a:alpha val="50000"/>
                      </a:srgbClr>
                    </a:solidFill>
                  </a:tcPr>
                </a:tc>
              </a:tr>
              <a:tr h="199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етит парашютик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ень открывает глаз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c8c382">
                        <a:alpha val="50000"/>
                      </a:srgbClr>
                    </a:solidFill>
                  </a:tcPr>
                </a:tc>
              </a:tr>
              <a:tr h="115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етит мотыльк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c8c382">
                        <a:alpha val="50000"/>
                      </a:srgbClr>
                    </a:solidFill>
                  </a:tcPr>
                </a:tc>
              </a:tr>
              <a:tr h="129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етит винтик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c8c38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56" name="Прямоугольник 6"/>
          <p:cNvSpPr/>
          <p:nvPr/>
        </p:nvSpPr>
        <p:spPr>
          <a:xfrm>
            <a:off x="7166520" y="391968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нь пробуждается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Заголовок 1" descr=""/>
          <p:cNvPicPr/>
          <p:nvPr/>
        </p:nvPicPr>
        <p:blipFill>
          <a:blip r:embed="rId1"/>
          <a:stretch/>
        </p:blipFill>
        <p:spPr>
          <a:xfrm>
            <a:off x="2590920" y="622440"/>
            <a:ext cx="8912160" cy="1285560"/>
          </a:xfrm>
          <a:prstGeom prst="rect">
            <a:avLst/>
          </a:prstGeom>
          <a:ln w="0">
            <a:noFill/>
          </a:ln>
        </p:spPr>
      </p:pic>
      <p:sp>
        <p:nvSpPr>
          <p:cNvPr id="1258" name=""/>
          <p:cNvSpPr txBox="1"/>
          <p:nvPr/>
        </p:nvSpPr>
        <p:spPr>
          <a:xfrm>
            <a:off x="503280" y="3340080"/>
            <a:ext cx="33796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AGReverance"/>
              </a:rPr>
              <a:t>Урок был полезным и интересны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Содержимое 2"/>
          <p:cNvSpPr/>
          <p:nvPr/>
        </p:nvSpPr>
        <p:spPr>
          <a:xfrm>
            <a:off x="4359240" y="3379680"/>
            <a:ext cx="33796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198720" indent="-198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GReverance"/>
              </a:rPr>
              <a:t>Остались некоторые вопрос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0" name="Содержимое 2"/>
          <p:cNvSpPr/>
          <p:nvPr/>
        </p:nvSpPr>
        <p:spPr>
          <a:xfrm>
            <a:off x="8137440" y="3405240"/>
            <a:ext cx="33782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GReverance"/>
              </a:rPr>
              <a:t>Тема не понят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1" name="Капля 2"/>
          <p:cNvSpPr/>
          <p:nvPr/>
        </p:nvSpPr>
        <p:spPr>
          <a:xfrm>
            <a:off x="1263600" y="1647720"/>
            <a:ext cx="1435320" cy="1581120"/>
          </a:xfrm>
          <a:custGeom>
            <a:avLst/>
            <a:gdLst/>
            <a:ahLst/>
            <a:rect l="l" t="t" r="r" b="b"/>
            <a:pathLst>
              <a:path w="1435100" h="1581150">
                <a:moveTo>
                  <a:pt x="0" y="790575"/>
                </a:moveTo>
                <a:cubicBezTo>
                  <a:pt x="0" y="353952"/>
                  <a:pt x="321258" y="0"/>
                  <a:pt x="717550" y="0"/>
                </a:cubicBezTo>
                <a:lnTo>
                  <a:pt x="1435100" y="0"/>
                </a:lnTo>
                <a:lnTo>
                  <a:pt x="1435100" y="790575"/>
                </a:lnTo>
                <a:cubicBezTo>
                  <a:pt x="1435100" y="1227198"/>
                  <a:pt x="1113842" y="1581150"/>
                  <a:pt x="717550" y="1581150"/>
                </a:cubicBezTo>
                <a:cubicBezTo>
                  <a:pt x="321258" y="1581150"/>
                  <a:pt x="0" y="1227198"/>
                  <a:pt x="0" y="790575"/>
                </a:cubicBezTo>
                <a:close/>
              </a:path>
            </a:pathLst>
          </a:custGeom>
          <a:solidFill>
            <a:srgbClr val="00b050"/>
          </a:solidFill>
          <a:ln cap="rnd" w="15840">
            <a:solidFill>
              <a:srgbClr val="aa62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2" name="Капля 6"/>
          <p:cNvSpPr/>
          <p:nvPr/>
        </p:nvSpPr>
        <p:spPr>
          <a:xfrm>
            <a:off x="5124600" y="1771560"/>
            <a:ext cx="1490400" cy="1548000"/>
          </a:xfrm>
          <a:custGeom>
            <a:avLst/>
            <a:gdLst/>
            <a:ahLst/>
            <a:rect l="l" t="t" r="r" b="b"/>
            <a:pathLst>
              <a:path w="1490663" h="1547813">
                <a:moveTo>
                  <a:pt x="0" y="773907"/>
                </a:moveTo>
                <a:cubicBezTo>
                  <a:pt x="0" y="346490"/>
                  <a:pt x="333697" y="0"/>
                  <a:pt x="745332" y="0"/>
                </a:cubicBezTo>
                <a:lnTo>
                  <a:pt x="1490663" y="0"/>
                </a:lnTo>
                <a:lnTo>
                  <a:pt x="1490663" y="773907"/>
                </a:lnTo>
                <a:cubicBezTo>
                  <a:pt x="1490663" y="1201324"/>
                  <a:pt x="1156966" y="1547814"/>
                  <a:pt x="745331" y="1547814"/>
                </a:cubicBezTo>
                <a:cubicBezTo>
                  <a:pt x="333696" y="1547814"/>
                  <a:pt x="-1" y="1201324"/>
                  <a:pt x="-1" y="773907"/>
                </a:cubicBezTo>
                <a:lnTo>
                  <a:pt x="0" y="773907"/>
                </a:lnTo>
                <a:close/>
              </a:path>
            </a:pathLst>
          </a:custGeom>
          <a:solidFill>
            <a:srgbClr val="e78712"/>
          </a:solidFill>
          <a:ln cap="rnd" w="15840">
            <a:solidFill>
              <a:srgbClr val="aa62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3" name="Капля 7"/>
          <p:cNvSpPr/>
          <p:nvPr/>
        </p:nvSpPr>
        <p:spPr>
          <a:xfrm>
            <a:off x="8602560" y="1647720"/>
            <a:ext cx="1625760" cy="1581120"/>
          </a:xfrm>
          <a:custGeom>
            <a:avLst/>
            <a:gdLst/>
            <a:ahLst/>
            <a:rect l="l" t="t" r="r" b="b"/>
            <a:pathLst>
              <a:path w="1625600" h="1581150">
                <a:moveTo>
                  <a:pt x="0" y="790575"/>
                </a:moveTo>
                <a:cubicBezTo>
                  <a:pt x="0" y="353952"/>
                  <a:pt x="363903" y="0"/>
                  <a:pt x="812800" y="0"/>
                </a:cubicBezTo>
                <a:lnTo>
                  <a:pt x="1625600" y="0"/>
                </a:lnTo>
                <a:lnTo>
                  <a:pt x="1625600" y="790575"/>
                </a:lnTo>
                <a:cubicBezTo>
                  <a:pt x="1625600" y="1227198"/>
                  <a:pt x="1261697" y="1581150"/>
                  <a:pt x="812800" y="1581150"/>
                </a:cubicBezTo>
                <a:cubicBezTo>
                  <a:pt x="363903" y="1581150"/>
                  <a:pt x="0" y="1227198"/>
                  <a:pt x="0" y="790575"/>
                </a:cubicBezTo>
                <a:close/>
              </a:path>
            </a:pathLst>
          </a:custGeom>
          <a:solidFill>
            <a:srgbClr val="ff0000"/>
          </a:solidFill>
          <a:ln cap="rnd" w="15840">
            <a:solidFill>
              <a:srgbClr val="aa62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4" name="Минус 9"/>
          <p:cNvSpPr/>
          <p:nvPr/>
        </p:nvSpPr>
        <p:spPr>
          <a:xfrm rot="18848400">
            <a:off x="759240" y="2837520"/>
            <a:ext cx="914400" cy="661680"/>
          </a:xfrm>
          <a:custGeom>
            <a:avLst/>
            <a:gdLst/>
            <a:ahLst/>
            <a:rect l="l" t="t" r="r" b="b"/>
            <a:pathLst>
              <a:path w="914400" h="661988">
                <a:moveTo>
                  <a:pt x="121204" y="253144"/>
                </a:moveTo>
                <a:lnTo>
                  <a:pt x="793196" y="253144"/>
                </a:lnTo>
                <a:lnTo>
                  <a:pt x="793196" y="408844"/>
                </a:lnTo>
                <a:lnTo>
                  <a:pt x="121204" y="408844"/>
                </a:lnTo>
                <a:lnTo>
                  <a:pt x="121204" y="253144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5" name="Минус 10"/>
          <p:cNvSpPr/>
          <p:nvPr/>
        </p:nvSpPr>
        <p:spPr>
          <a:xfrm rot="19149000">
            <a:off x="4581360" y="2865600"/>
            <a:ext cx="914400" cy="718920"/>
          </a:xfrm>
          <a:custGeom>
            <a:avLst/>
            <a:gdLst/>
            <a:ahLst/>
            <a:rect l="l" t="t" r="r" b="b"/>
            <a:pathLst>
              <a:path w="914400" h="719137">
                <a:moveTo>
                  <a:pt x="121204" y="274998"/>
                </a:moveTo>
                <a:lnTo>
                  <a:pt x="793196" y="274998"/>
                </a:lnTo>
                <a:lnTo>
                  <a:pt x="793196" y="444139"/>
                </a:lnTo>
                <a:lnTo>
                  <a:pt x="121204" y="444139"/>
                </a:lnTo>
                <a:lnTo>
                  <a:pt x="121204" y="274998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6" name="Минус 11"/>
          <p:cNvSpPr/>
          <p:nvPr/>
        </p:nvSpPr>
        <p:spPr>
          <a:xfrm rot="19377600">
            <a:off x="8097840" y="2879280"/>
            <a:ext cx="914400" cy="606600"/>
          </a:xfrm>
          <a:custGeom>
            <a:avLst/>
            <a:gdLst/>
            <a:ahLst/>
            <a:rect l="l" t="t" r="r" b="b"/>
            <a:pathLst>
              <a:path w="914400" h="606425">
                <a:moveTo>
                  <a:pt x="121204" y="231897"/>
                </a:moveTo>
                <a:lnTo>
                  <a:pt x="793196" y="231897"/>
                </a:lnTo>
                <a:lnTo>
                  <a:pt x="793196" y="374528"/>
                </a:lnTo>
                <a:lnTo>
                  <a:pt x="121204" y="374528"/>
                </a:lnTo>
                <a:lnTo>
                  <a:pt x="121204" y="23189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8" name=""/>
          <p:cNvGraphicFramePr/>
          <p:nvPr/>
        </p:nvGraphicFramePr>
        <p:xfrm>
          <a:off x="1784520" y="1185840"/>
          <a:ext cx="8807400" cy="4846680"/>
        </p:xfrm>
        <a:graphic>
          <a:graphicData uri="http://schemas.openxmlformats.org/drawingml/2006/table">
            <a:tbl>
              <a:tblPr/>
              <a:tblGrid>
                <a:gridCol w="2395440"/>
                <a:gridCol w="64119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ннее у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1224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soyuz-pisatelei.ru/_bl/18/86972058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1224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ающ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нний 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1224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://www.wanshehui.com/uploads/allimg/121205/235ZR556-196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1224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ит парашюти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http://dic.academic.ru/pictures/wiki/files/80/PO-16_pict_main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ит мотыль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http://buziza.ru/g/42/babochki_fon_zheltyy_letayut_2560x1800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открывает гл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http://kards.qip.ru/images/wallpaper/fa/05/132602_prev_425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трет М. Приш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http://www.extrabooks.ru/wp-content/uploads/2010/02/prishvin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ая кап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http://www.knigograd.com.ua/images/detailed/6113171552104e82318a4f4fb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а за бабоч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ttp://www.bookin.org.ru/book/507686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 птиц и зве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ttp://www.internationaltoys.com/pictures/80404_1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ичкин 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http://www.audiobooks.ua/pimages/32/300/112420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и ут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http://eois.mskobr.ru/book_images/img_103579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9:00:27Z</dcterms:modified>
  <cp:revision>29</cp:revision>
  <dc:subject/>
  <dc:title>Презентация PowerPoint</dc:title>
</cp:coreProperties>
</file>