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E29-640F-464A-98D7-6F2B43B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2EF-B544-480E-A6F9-FDB93146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547-9B60-4BE3-812D-691BB97D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7FC-6F66-4CA2-BADF-58B9061B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7EF-E48E-4879-825A-5F68B86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E6C-9C61-40E8-BAEB-FEDE65D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D8A-475F-4BD3-BED1-885D197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D86-619A-4C2A-A684-02857AC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8CB-61B6-4100-8A9B-8E840FA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ED8-60D9-419C-A336-A62EE1B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E7A-22F2-4C30-8F24-AB86419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554-7840-4AFC-A975-33E936F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2EF-59FB-4164-8E00-2AC5F2EFA5D0}" type="slidenum">
              <a:rPr b="0" lang="ru-RU" sz="14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 Black"/>
              </a:rPr>
              <a:t>ЧЕТВЕРГ – РАЗГУЛ, ПЕРЕЛОМ, ШИРОКИЙ ЧЕТВЕРГ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95320" y="198108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канчивалась «узкая» Масленица и начиналась «широкая». Именно с этого дня начиналось всеобщее празднование Масленицы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3" name="Picture 10" descr="0O36RCAE4ACHOCAQ4H6N5CAV7P110CA3QPPBLCAT73ZQDCAW3JLBVCAXJSJVJCADVB862CADY6W3HCA01SM8GCA7YZVEJCAY6TNBPCA02NY21CAQ3A6V7CAK2R12MCAD0PBA3CAQL058YCA1ZL6ER"/>
          <p:cNvPicPr/>
          <p:nvPr/>
        </p:nvPicPr>
        <p:blipFill>
          <a:blip r:embed="rId1"/>
          <a:stretch/>
        </p:blipFill>
        <p:spPr>
          <a:xfrm>
            <a:off x="380880" y="406440"/>
            <a:ext cx="2362320" cy="1841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 flipV="1" rot="10800000">
            <a:off x="228600" y="2418480"/>
            <a:ext cx="198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се жители сел и деревень устраивали хороводы, балаганы, кулачные бои, веселые игры. В этот же день проводились кулачные бои.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5" name="Picture 15" descr="5a36a7cb495de844e8"/>
          <p:cNvPicPr/>
          <p:nvPr/>
        </p:nvPicPr>
        <p:blipFill>
          <a:blip r:embed="rId2"/>
          <a:stretch/>
        </p:blipFill>
        <p:spPr>
          <a:xfrm>
            <a:off x="5181480" y="3886200"/>
            <a:ext cx="3135600" cy="2289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6"/>
          <p:cNvSpPr/>
          <p:nvPr/>
        </p:nvSpPr>
        <p:spPr>
          <a:xfrm>
            <a:off x="5033160" y="61714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устодиев Б.М. "Масленица"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" name="Picture 17" descr="0001_2020"/>
          <p:cNvPicPr/>
          <p:nvPr/>
        </p:nvPicPr>
        <p:blipFill>
          <a:blip r:embed="rId3"/>
          <a:stretch/>
        </p:blipFill>
        <p:spPr>
          <a:xfrm>
            <a:off x="2209680" y="2590920"/>
            <a:ext cx="280188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23720" y="1371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Для боя полагались специальные меховые рукавицы и толстые шапки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о старинной примете, чья деревня победит, в   той и урожай будет больше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Один из таких боев описан в «Песне о купце Калашникове» М.Ю. Лермонтова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9" name="Picture 6" descr="Рисунок4"/>
          <p:cNvPicPr/>
          <p:nvPr/>
        </p:nvPicPr>
        <p:blipFill>
          <a:blip r:embed="rId1"/>
          <a:srcRect l="31252" t="22646" r="32298" b="22646"/>
          <a:stretch/>
        </p:blipFill>
        <p:spPr>
          <a:xfrm>
            <a:off x="533520" y="304920"/>
            <a:ext cx="1828800" cy="1515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304920" y="1828800"/>
            <a:ext cx="2743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 старину было три вида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кулачных боев: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ой один на один;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стенка на стенку»;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сцеплялка – свалка».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352680" y="533520"/>
            <a:ext cx="5410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ачные бои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5" descr="clip_image001"/>
          <p:cNvPicPr/>
          <p:nvPr/>
        </p:nvPicPr>
        <p:blipFill>
          <a:blip r:embed="rId2"/>
          <a:stretch/>
        </p:blipFill>
        <p:spPr>
          <a:xfrm>
            <a:off x="3657600" y="3733920"/>
            <a:ext cx="1739880" cy="26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%D0%9A%D1%83%D0%BB%D0%B0%D1%87%D0%BD%D1%8B%D0%B9_%D0%B1%D0%BE%D0%B9"/>
          <p:cNvPicPr/>
          <p:nvPr/>
        </p:nvPicPr>
        <p:blipFill>
          <a:blip r:embed="rId3"/>
          <a:stretch/>
        </p:blipFill>
        <p:spPr>
          <a:xfrm>
            <a:off x="380880" y="4495680"/>
            <a:ext cx="2514600" cy="185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416px-Vasnetsov_Kulachni_boi"/>
          <p:cNvPicPr/>
          <p:nvPr/>
        </p:nvPicPr>
        <p:blipFill>
          <a:blip r:embed="rId4"/>
          <a:stretch/>
        </p:blipFill>
        <p:spPr>
          <a:xfrm>
            <a:off x="6477120" y="3581280"/>
            <a:ext cx="21160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 Black"/>
              </a:rPr>
              <a:t>ЧЕТВЕРГ – РАЗГУЛ, ПЕРЕЛОМ, ШИРОКИЙ ЧЕТВЕРГ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6920" y="12189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ажным событием этого дня было взятие снежного городка – символическая битва весны и зимы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" name="Picture 6" descr="080abfe4b18148cdeb3d595ef7ac410e[1]"/>
          <p:cNvPicPr/>
          <p:nvPr/>
        </p:nvPicPr>
        <p:blipFill>
          <a:blip r:embed="rId1"/>
          <a:stretch/>
        </p:blipFill>
        <p:spPr>
          <a:xfrm>
            <a:off x="5105520" y="3352680"/>
            <a:ext cx="3733560" cy="280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Вас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363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3505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. Суриков «Взятие снежного городка»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04920" y="4178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грающие делятся на "пеших" и "конных". "Пешие" занимают город, "конные" готовятся к нападению. Осажденные защищают город портив "конницы", не давая ей ворваться в крепостные ворота, отбивая их метлами.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Ни одна Масленичная неделя не обходилась без балаганов, где весь честной народ мог посмотреть представление, и ряженых, чаще всего это были скоморохи и разные животные.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80880" y="38088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лаганы, ряженые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4" descr="2dc8e847780facf916"/>
          <p:cNvPicPr/>
          <p:nvPr/>
        </p:nvPicPr>
        <p:blipFill>
          <a:blip r:embed="rId1"/>
          <a:stretch/>
        </p:blipFill>
        <p:spPr>
          <a:xfrm>
            <a:off x="914400" y="137160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JZC5ICAST60B4CAD55MRWCA2TWODTCAGYTBNFCABKTSTMCAHZJCEJCAK8A3KHCADROTCFCAY5N0I2CATHEYSHCAMVOZMJCA5NR39RCA2GASEFCAEDTTBTCA8R9B7OCA6ELQS5CA17K41ECAZ314EG"/>
          <p:cNvPicPr/>
          <p:nvPr/>
        </p:nvPicPr>
        <p:blipFill>
          <a:blip r:embed="rId2"/>
          <a:stretch/>
        </p:blipFill>
        <p:spPr>
          <a:xfrm>
            <a:off x="5715000" y="1295280"/>
            <a:ext cx="21495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3WK13CA111142CABMV6V4CACKC7FPCABEEE2YCABDIMNFCA75S6I0CAW1PZ6MCA4PCBQKCA0IJBFBCALNI3VMCA64CJDMCA6DFCHRCAFWOCEECAAUE32FCAS48K6TCAR389E5CAP731F8CA3S84T3"/>
          <p:cNvPicPr/>
          <p:nvPr/>
        </p:nvPicPr>
        <p:blipFill>
          <a:blip r:embed="rId1"/>
          <a:stretch/>
        </p:blipFill>
        <p:spPr>
          <a:xfrm>
            <a:off x="380880" y="1523880"/>
            <a:ext cx="1959120" cy="226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1J1QCA536K8YCAGPNQRXCANHOR75CAP0R55WCAR7VH94CAPS46SRCAKWX33PCAP066CMCAEHUYDVCAN5LJK4CA57WEE3CAOFZA2JCAFGEBMVCA4MSF9ACAJB3C32CA44F73HCAUQWUOQCAJHI03K"/>
          <p:cNvPicPr/>
          <p:nvPr/>
        </p:nvPicPr>
        <p:blipFill>
          <a:blip r:embed="rId2"/>
          <a:stretch/>
        </p:blipFill>
        <p:spPr>
          <a:xfrm>
            <a:off x="6095880" y="1467000"/>
            <a:ext cx="2438640" cy="1822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37339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орение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сленичного столба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6800" y="5029200"/>
            <a:ext cx="60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рмарка, где торговали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 только блинами,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ирогами и разными сладостями,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о и изделиями народного промысла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9" name="Picture 9" descr="2f13ec798cbb1074eb"/>
          <p:cNvPicPr/>
          <p:nvPr/>
        </p:nvPicPr>
        <p:blipFill>
          <a:blip r:embed="rId3"/>
          <a:stretch/>
        </p:blipFill>
        <p:spPr>
          <a:xfrm>
            <a:off x="5715000" y="3809880"/>
            <a:ext cx="2971800" cy="233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i_764"/>
          <p:cNvPicPr/>
          <p:nvPr/>
        </p:nvPicPr>
        <p:blipFill>
          <a:blip r:embed="rId4"/>
          <a:stretch/>
        </p:blipFill>
        <p:spPr>
          <a:xfrm>
            <a:off x="3200400" y="2819520"/>
            <a:ext cx="2205000" cy="2252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5598360" y="32004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етягивание каната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2" name="Picture 15" descr="pict3"/>
          <p:cNvPicPr/>
          <p:nvPr/>
        </p:nvPicPr>
        <p:blipFill>
          <a:blip r:embed="rId5"/>
          <a:stretch/>
        </p:blipFill>
        <p:spPr>
          <a:xfrm>
            <a:off x="2666880" y="1523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143000" y="457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роприятия, которые проводились в четверг-разгул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838080" y="1522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ПРИМЕТЫ</a:t>
            </a:r>
            <a:endParaRPr b="1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7" descr="pic1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211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Oval 15"/>
          <p:cNvSpPr/>
          <p:nvPr/>
        </p:nvSpPr>
        <p:spPr>
          <a:xfrm>
            <a:off x="6095880" y="1295280"/>
            <a:ext cx="2895840" cy="2667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шая блины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льзя было пользоваться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жом или вилкой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бы не накликат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убительные для сельского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зяйства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ные явления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4648320" y="3809880"/>
            <a:ext cx="2895480" cy="2743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вшиеся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нце недели  блины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довало сжеч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стре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тором сгорала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оменная Масленица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бы не оставлять зл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600200" y="3809880"/>
            <a:ext cx="2971800" cy="2819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гда готовят тесто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льзя ни входить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 глядеть, ни спрашивать..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же кто-нибуд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глянет и скажет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Какое хорошее тесто!»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 тогда хоть выливай —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дадутся блины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152280" y="1295280"/>
            <a:ext cx="2971800" cy="2743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хозяйка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алживала сковородку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 плохой приметой считалось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вращать ее пустой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на ней непременно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лжен был остаться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блин – последний)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2361960" y="9907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553080" y="99072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3581280" y="34290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5257800" y="342900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-523800" y="-146160"/>
            <a:ext cx="743112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Сидько</cp:lastModifiedBy>
  <dcterms:modified xsi:type="dcterms:W3CDTF">2021-03-11T08:49:47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