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927-57E2-4922-80DE-F70738EF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83C-408B-44EA-854E-E6D060DA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952-A2AF-4451-A1CB-E956D359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641-D0D5-425E-BE8B-F23D663C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B74-DE49-4DEE-BB7E-00421681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594-5DC5-430E-B460-DF07A7D8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9D7-4658-40E9-AF8A-C4364F1F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53D-B869-40BE-91EC-C60382B9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C5F-2A0D-4BEF-8779-46EB78C4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032-5CF2-4B9A-9B29-B61A65D8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4D7-2C6F-4B34-8834-A165738F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458-3A9F-4EAE-8866-7987663A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A7AF-8F49-4083-AECB-3A23F5C97061}" type="slidenum">
              <a:rPr b="0" lang="ru-RU" sz="14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3300"/>
                </a:solidFill>
                <a:latin typeface="Arial Black"/>
              </a:rPr>
              <a:t>ЧЕТВЕРГ – РАЗГУЛ, ПЕРЕЛОМ, ШИРОКИЙ ЧЕТВЕРГ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495320" y="1981080"/>
            <a:ext cx="4343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аканчивалась «узкая» Масленица и начиналась «широкая». Именно с этого дня начиналось всеобщее празднование Масленицы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3" name="Picture 10" descr="0O36RCAE4ACHOCAQ4H6N5CAV7P110CA3QPPBLCAT73ZQDCAW3JLBVCAXJSJVJCADVB862CADY6W3HCA01SM8GCA7YZVEJCAY6TNBPCA02NY21CAQ3A6V7CAK2R12MCAD0PBA3CAQL058YCA1ZL6ER"/>
          <p:cNvPicPr/>
          <p:nvPr/>
        </p:nvPicPr>
        <p:blipFill>
          <a:blip r:embed="rId1"/>
          <a:stretch/>
        </p:blipFill>
        <p:spPr>
          <a:xfrm>
            <a:off x="380880" y="406440"/>
            <a:ext cx="2362320" cy="1841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 flipV="1" rot="10800000">
            <a:off x="228600" y="2418480"/>
            <a:ext cx="198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се жители сел и деревень устраивали хороводы, балаганы, кулачные бои, веселые игры. В этот же день проводились кулачные бои.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5" name="Picture 15" descr="5a36a7cb495de844e8"/>
          <p:cNvPicPr/>
          <p:nvPr/>
        </p:nvPicPr>
        <p:blipFill>
          <a:blip r:embed="rId2"/>
          <a:stretch/>
        </p:blipFill>
        <p:spPr>
          <a:xfrm>
            <a:off x="5181480" y="3886200"/>
            <a:ext cx="3135600" cy="2289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6"/>
          <p:cNvSpPr/>
          <p:nvPr/>
        </p:nvSpPr>
        <p:spPr>
          <a:xfrm>
            <a:off x="5033160" y="61714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устодиев Б.М. "Масленица"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7" name="Picture 17" descr="0001_2020"/>
          <p:cNvPicPr/>
          <p:nvPr/>
        </p:nvPicPr>
        <p:blipFill>
          <a:blip r:embed="rId3"/>
          <a:stretch/>
        </p:blipFill>
        <p:spPr>
          <a:xfrm>
            <a:off x="2209680" y="2590920"/>
            <a:ext cx="280188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23720" y="137124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Для боя полагались специальные меховые рукавицы и толстые шапки.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о старинной примете, чья деревня победит, в   той и урожай будет больше.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Один из таких боев описан в «Песне о купце Калашникове» М.Ю. Лермонтова.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9" name="Picture 6" descr="Рисунок4"/>
          <p:cNvPicPr/>
          <p:nvPr/>
        </p:nvPicPr>
        <p:blipFill>
          <a:blip r:embed="rId1"/>
          <a:srcRect l="31252" t="22646" r="32298" b="22646"/>
          <a:stretch/>
        </p:blipFill>
        <p:spPr>
          <a:xfrm>
            <a:off x="533520" y="304920"/>
            <a:ext cx="1828800" cy="1515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304920" y="1828800"/>
            <a:ext cx="27432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В старину было три вида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кулачных боев: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бой один на один;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«стенка на стенку»;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«сцеплялка – свалка».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3352680" y="533520"/>
            <a:ext cx="5410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ачные бои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15" descr="clip_image001"/>
          <p:cNvPicPr/>
          <p:nvPr/>
        </p:nvPicPr>
        <p:blipFill>
          <a:blip r:embed="rId2"/>
          <a:stretch/>
        </p:blipFill>
        <p:spPr>
          <a:xfrm>
            <a:off x="3657600" y="3733920"/>
            <a:ext cx="1739880" cy="26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%D0%9A%D1%83%D0%BB%D0%B0%D1%87%D0%BD%D1%8B%D0%B9_%D0%B1%D0%BE%D0%B9"/>
          <p:cNvPicPr/>
          <p:nvPr/>
        </p:nvPicPr>
        <p:blipFill>
          <a:blip r:embed="rId3"/>
          <a:stretch/>
        </p:blipFill>
        <p:spPr>
          <a:xfrm>
            <a:off x="380880" y="4495680"/>
            <a:ext cx="2514600" cy="185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416px-Vasnetsov_Kulachni_boi"/>
          <p:cNvPicPr/>
          <p:nvPr/>
        </p:nvPicPr>
        <p:blipFill>
          <a:blip r:embed="rId4"/>
          <a:stretch/>
        </p:blipFill>
        <p:spPr>
          <a:xfrm>
            <a:off x="6477120" y="3581280"/>
            <a:ext cx="21160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 Black"/>
              </a:rPr>
              <a:t>ЧЕТВЕРГ – РАЗГУЛ, ПЕРЕЛОМ, ШИРОКИЙ ЧЕТВЕРГ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76920" y="12189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ажным событием этого дня было взятие снежного городка – символическая битва весны и зимы.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" name="Picture 6" descr="080abfe4b18148cdeb3d595ef7ac410e[1]"/>
          <p:cNvPicPr/>
          <p:nvPr/>
        </p:nvPicPr>
        <p:blipFill>
          <a:blip r:embed="rId1"/>
          <a:stretch/>
        </p:blipFill>
        <p:spPr>
          <a:xfrm>
            <a:off x="5105520" y="3352680"/>
            <a:ext cx="3733560" cy="280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Вас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363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28600" y="35053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В. Суриков «Взятие снежного городка»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304920" y="41781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грающие делятся на "пеших" и "конных". "Пешие" занимают город, "конные" готовятся к нападению. Осажденные защищают город портив "конницы", не давая ей ворваться в крепостные ворота, отбивая их метлами.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0381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Ни одна Масленичная неделя не обходилась без балаганов, где весь честной народ мог посмотреть представление, и ряженых, чаще всего это были скоморохи и разные животные.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80880" y="380880"/>
            <a:ext cx="8458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лаганы, ряженые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4" descr="2dc8e847780facf916"/>
          <p:cNvPicPr/>
          <p:nvPr/>
        </p:nvPicPr>
        <p:blipFill>
          <a:blip r:embed="rId1"/>
          <a:stretch/>
        </p:blipFill>
        <p:spPr>
          <a:xfrm>
            <a:off x="914400" y="1371600"/>
            <a:ext cx="3657600" cy="243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JZC5ICAST60B4CAD55MRWCA2TWODTCAGYTBNFCABKTSTMCAHZJCEJCAK8A3KHCADROTCFCAY5N0I2CATHEYSHCAMVOZMJCA5NR39RCA2GASEFCAEDTTBTCA8R9B7OCA6ELQS5CA17K41ECAZ314EG"/>
          <p:cNvPicPr/>
          <p:nvPr/>
        </p:nvPicPr>
        <p:blipFill>
          <a:blip r:embed="rId2"/>
          <a:stretch/>
        </p:blipFill>
        <p:spPr>
          <a:xfrm>
            <a:off x="5715000" y="1295280"/>
            <a:ext cx="214956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3WK13CA111142CABMV6V4CACKC7FPCABEEE2YCABDIMNFCA75S6I0CAW1PZ6MCA4PCBQKCA0IJBFBCALNI3VMCA64CJDMCA6DFCHRCAFWOCEECAAUE32FCAS48K6TCAR389E5CAP731F8CA3S84T3"/>
          <p:cNvPicPr/>
          <p:nvPr/>
        </p:nvPicPr>
        <p:blipFill>
          <a:blip r:embed="rId1"/>
          <a:stretch/>
        </p:blipFill>
        <p:spPr>
          <a:xfrm>
            <a:off x="380880" y="1523880"/>
            <a:ext cx="1959120" cy="226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1J1QCA536K8YCAGPNQRXCANHOR75CAP0R55WCAR7VH94CAPS46SRCAKWX33PCAP066CMCAEHUYDVCAN5LJK4CA57WEE3CAOFZA2JCAFGEBMVCA4MSF9ACAJB3C32CA44F73HCAUQWUOQCAJHI03K"/>
          <p:cNvPicPr/>
          <p:nvPr/>
        </p:nvPicPr>
        <p:blipFill>
          <a:blip r:embed="rId2"/>
          <a:stretch/>
        </p:blipFill>
        <p:spPr>
          <a:xfrm>
            <a:off x="6095880" y="1467000"/>
            <a:ext cx="2438640" cy="1822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0" y="37339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корение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асленичного столба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6800" y="5029200"/>
            <a:ext cx="60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рмарка, где торговали 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 только блинами,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ирогами и разными сладостями,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о и изделиями народного промысла.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9" name="Picture 9" descr="2f13ec798cbb1074eb"/>
          <p:cNvPicPr/>
          <p:nvPr/>
        </p:nvPicPr>
        <p:blipFill>
          <a:blip r:embed="rId3"/>
          <a:stretch/>
        </p:blipFill>
        <p:spPr>
          <a:xfrm>
            <a:off x="5715000" y="3809880"/>
            <a:ext cx="2971800" cy="233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i_764"/>
          <p:cNvPicPr/>
          <p:nvPr/>
        </p:nvPicPr>
        <p:blipFill>
          <a:blip r:embed="rId4"/>
          <a:stretch/>
        </p:blipFill>
        <p:spPr>
          <a:xfrm>
            <a:off x="3200400" y="2819520"/>
            <a:ext cx="2205000" cy="22525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5598360" y="3200400"/>
            <a:ext cx="35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етягивание каната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2" name="Picture 15" descr="pict3"/>
          <p:cNvPicPr/>
          <p:nvPr/>
        </p:nvPicPr>
        <p:blipFill>
          <a:blip r:embed="rId5"/>
          <a:stretch/>
        </p:blipFill>
        <p:spPr>
          <a:xfrm>
            <a:off x="2666880" y="15238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143000" y="4572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роприятия, которые проводились в четверг-разгул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6"/>
          <p:cNvSpPr txBox="1"/>
          <p:nvPr/>
        </p:nvSpPr>
        <p:spPr>
          <a:xfrm>
            <a:off x="838080" y="15228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ПРИМЕТЫ</a:t>
            </a:r>
            <a:endParaRPr b="1" lang="en-US" sz="1800" spc="1" strike="noStrike">
              <a:ln w="1260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" name="Picture 7" descr="pic1"/>
          <p:cNvPicPr/>
          <p:nvPr/>
        </p:nvPicPr>
        <p:blipFill>
          <a:blip r:embed="rId1"/>
          <a:stretch/>
        </p:blipFill>
        <p:spPr>
          <a:xfrm>
            <a:off x="3200400" y="1219320"/>
            <a:ext cx="2819520" cy="211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6" name="Oval 15"/>
          <p:cNvSpPr/>
          <p:nvPr/>
        </p:nvSpPr>
        <p:spPr>
          <a:xfrm>
            <a:off x="6095880" y="1295280"/>
            <a:ext cx="2895840" cy="26672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шая блины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льзя было пользоваться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ожом или вилкой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бы не накликать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убительные для сельского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озяйства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ные явления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4648320" y="3809880"/>
            <a:ext cx="2895480" cy="2743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тавшиеся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конце недели  блины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ледовало сжечь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костре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котором сгорала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оменная Масленица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бы не оставлять зл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1600200" y="3809880"/>
            <a:ext cx="2971800" cy="28195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гда готовят тесто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льзя ни входить,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и глядеть, ни спрашивать..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же кто-нибудь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глянет и скажет: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Какое хорошее тесто!»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о тогда хоть выливай —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удадутся блины!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152280" y="1295280"/>
            <a:ext cx="2971800" cy="2743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хозяйка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далживала сковородку,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о плохой приметой считалось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вращать ее пустой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на ней непременно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лжен был остаться 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 блин – последний).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2361960" y="99072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6553080" y="990720"/>
            <a:ext cx="38124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3581280" y="34290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5257800" y="342900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2"/>
          <a:stretch/>
        </p:blipFill>
        <p:spPr>
          <a:xfrm>
            <a:off x="-523800" y="-146160"/>
            <a:ext cx="743112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 Сидько</cp:lastModifiedBy>
  <dcterms:modified xsi:type="dcterms:W3CDTF">2021-03-11T08:49:47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