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443-AA73-4132-98C4-22E33850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6CC-663B-432A-A7F4-58C193B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154-BF44-4476-AFFA-9FEE8C13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D8B-B75C-4804-9C8B-344C2A8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AF4-606E-4827-A23F-53A9F99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568-1B25-4F0F-A005-5ECF9002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0AB-CABF-46EF-AA22-DA2550CA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A38-D424-4FE1-89BB-8745DE24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730-1556-4494-BB7E-66244BF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4B8-B253-49FA-8F1C-5AFA0DCF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B4A-1AF3-41F1-BA91-088F7EC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23-6363-4162-8735-2C5DF39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CCB-5937-4669-9C11-8C387549C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22400" y="609480"/>
            <a:ext cx="89722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5715" t="52312" r="67527" b="24709"/>
          <a:stretch/>
        </p:blipFill>
        <p:spPr>
          <a:xfrm>
            <a:off x="1476360" y="692280"/>
            <a:ext cx="5665680" cy="5976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3" name="TextBox 1"/>
          <p:cNvSpPr/>
          <p:nvPr/>
        </p:nvSpPr>
        <p:spPr>
          <a:xfrm>
            <a:off x="246960" y="836640"/>
            <a:ext cx="30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Ходят волны на просто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Вы узнали? Это – м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588000" y="115920"/>
            <a:ext cx="2305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Волн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http://www.lenagold.ru/fon/ori/more/more07.jpg"/>
          <p:cNvPicPr/>
          <p:nvPr/>
        </p:nvPicPr>
        <p:blipFill>
          <a:blip r:embed="rId2"/>
          <a:srcRect l="0" t="17324" r="37821" b="41338"/>
          <a:stretch/>
        </p:blipFill>
        <p:spPr>
          <a:xfrm>
            <a:off x="6659640" y="189000"/>
            <a:ext cx="217008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613" t="26816" r="9841" b="43445"/>
          <a:stretch/>
        </p:blipFill>
        <p:spPr>
          <a:xfrm>
            <a:off x="611280" y="784080"/>
            <a:ext cx="8226360" cy="59659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8" name="Rectangle 7"/>
          <p:cNvSpPr/>
          <p:nvPr/>
        </p:nvSpPr>
        <p:spPr>
          <a:xfrm>
            <a:off x="6588000" y="11592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Чайк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lenagold.ru/fon/clipart/ch/chajk/seagull005.png"/>
          <p:cNvPicPr/>
          <p:nvPr/>
        </p:nvPicPr>
        <p:blipFill>
          <a:blip r:embed="rId2"/>
          <a:srcRect l="0" t="22841" r="37239" b="0"/>
          <a:stretch/>
        </p:blipFill>
        <p:spPr>
          <a:xfrm>
            <a:off x="6659640" y="260280"/>
            <a:ext cx="2160360" cy="165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757800" y="5805360"/>
            <a:ext cx="40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Чайка над волной взмыва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Чайка чайку догон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78691" t="75077" r="7207" b="10083"/>
          <a:stretch/>
        </p:blipFill>
        <p:spPr>
          <a:xfrm>
            <a:off x="324000" y="907920"/>
            <a:ext cx="8496000" cy="57708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53" name="TextBox 7"/>
          <p:cNvSpPr/>
          <p:nvPr/>
        </p:nvSpPr>
        <p:spPr>
          <a:xfrm>
            <a:off x="4861800" y="573408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Посмотрите, паро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По волнам плывет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588000" y="11592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Пароход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1" descr="post-29417-1300634805"/>
          <p:cNvPicPr/>
          <p:nvPr/>
        </p:nvPicPr>
        <p:blipFill>
          <a:blip r:embed="rId2"/>
          <a:stretch/>
        </p:blipFill>
        <p:spPr>
          <a:xfrm>
            <a:off x="6659640" y="189000"/>
            <a:ext cx="2016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16818" t="29234" r="67853" b="54887"/>
          <a:stretch/>
        </p:blipFill>
        <p:spPr>
          <a:xfrm>
            <a:off x="179280" y="1484280"/>
            <a:ext cx="4608720" cy="5184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17678" t="63386" r="67515" b="11812"/>
          <a:stretch/>
        </p:blipFill>
        <p:spPr>
          <a:xfrm>
            <a:off x="5003640" y="1484280"/>
            <a:ext cx="3888000" cy="518472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59" name="Rectangle 7"/>
          <p:cNvSpPr/>
          <p:nvPr/>
        </p:nvSpPr>
        <p:spPr>
          <a:xfrm>
            <a:off x="6659640" y="189000"/>
            <a:ext cx="225720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0" y="-22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Calibri"/>
              </a:rPr>
              <a:t>К</a:t>
            </a:r>
            <a:r>
              <a:rPr b="1" lang="en-US" sz="6600" spc="-1" strike="noStrike">
                <a:solidFill>
                  <a:srgbClr val="333333"/>
                </a:solidFill>
                <a:latin typeface="Arial"/>
              </a:rPr>
              <a:t>апита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79280" y="260280"/>
            <a:ext cx="2257560" cy="18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http://s54.radikal.ru/i146/0912/4c/eb209c654489.png"/>
          <p:cNvPicPr/>
          <p:nvPr/>
        </p:nvPicPr>
        <p:blipFill>
          <a:blip r:embed="rId3"/>
          <a:stretch/>
        </p:blipFill>
        <p:spPr>
          <a:xfrm>
            <a:off x="25092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5_11_enl"/>
          <p:cNvPicPr/>
          <p:nvPr/>
        </p:nvPicPr>
        <p:blipFill>
          <a:blip r:embed="rId4"/>
          <a:srcRect l="0" t="0" r="0" b="50010"/>
          <a:stretch/>
        </p:blipFill>
        <p:spPr>
          <a:xfrm>
            <a:off x="6804000" y="476280"/>
            <a:ext cx="208908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984040" y="692280"/>
            <a:ext cx="334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Встал на мостик капита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Смотрит здесь, смотрит 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То в бинокль, то в  трубу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alibri"/>
              </a:rPr>
              <a:t>Влево, вправо, за кор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28520"/>
            <a:ext cx="8961480" cy="1492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33800" y="2852640"/>
            <a:ext cx="839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Новиковская О.А. 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«Ум на кончиках пальцев»</a:t>
            </a: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http://images.yandex.ru/yandsearch?text&amp;type=cli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8:21:51Z</dcterms:created>
  <dc:creator>Солнышко</dc:creator>
  <dc:description/>
  <dc:language>en-US</dc:language>
  <cp:lastModifiedBy>.</cp:lastModifiedBy>
  <dcterms:modified xsi:type="dcterms:W3CDTF">2012-12-04T14:37:53Z</dcterms:modified>
  <cp:revision>7</cp:revision>
  <dc:subject/>
  <dc:title>Презентация PowerPoint</dc:title>
</cp:coreProperties>
</file>