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3CC-5900-4C90-ACF1-6D0A66E6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214-00C9-43F8-8DA3-5BFA5177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7A8-1261-431D-9F0D-952ECC4F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F05-F846-4594-B4E9-539494C6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F4E-EA57-4C09-B5E7-4F986CD5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761-1D27-4AB5-9AB4-468D56E2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08D-470A-43E4-9C34-EB047896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7BC-FEBF-4BE7-A8E8-047167C9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196-4BC1-4AB2-9320-4D118FD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3BF-9D3A-4B73-92BD-BD69BD7B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C33-4891-41DF-8552-B86DC3C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6BE-20D8-4CD1-B7FE-BFCE851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1B36-B34C-4152-8253-99B60A17F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22400" y="609480"/>
            <a:ext cx="89722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5715" t="52312" r="67527" b="24709"/>
          <a:stretch/>
        </p:blipFill>
        <p:spPr>
          <a:xfrm>
            <a:off x="1476360" y="692280"/>
            <a:ext cx="5665680" cy="59767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43" name="TextBox 1"/>
          <p:cNvSpPr/>
          <p:nvPr/>
        </p:nvSpPr>
        <p:spPr>
          <a:xfrm>
            <a:off x="246960" y="836640"/>
            <a:ext cx="30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Ходят волны на простор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Вы узнали? Это – мо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588000" y="115920"/>
            <a:ext cx="23050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Arial"/>
              </a:rPr>
              <a:t>Волн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http://www.lenagold.ru/fon/ori/more/more07.jpg"/>
          <p:cNvPicPr/>
          <p:nvPr/>
        </p:nvPicPr>
        <p:blipFill>
          <a:blip r:embed="rId2"/>
          <a:srcRect l="0" t="17324" r="37821" b="41338"/>
          <a:stretch/>
        </p:blipFill>
        <p:spPr>
          <a:xfrm>
            <a:off x="6659640" y="189000"/>
            <a:ext cx="217008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58613" t="26816" r="9841" b="43445"/>
          <a:stretch/>
        </p:blipFill>
        <p:spPr>
          <a:xfrm>
            <a:off x="611280" y="784080"/>
            <a:ext cx="8226360" cy="59659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48" name="Rectangle 7"/>
          <p:cNvSpPr/>
          <p:nvPr/>
        </p:nvSpPr>
        <p:spPr>
          <a:xfrm>
            <a:off x="6588000" y="115920"/>
            <a:ext cx="225756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Arial"/>
              </a:rPr>
              <a:t>Чайк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lenagold.ru/fon/clipart/ch/chajk/seagull005.png"/>
          <p:cNvPicPr/>
          <p:nvPr/>
        </p:nvPicPr>
        <p:blipFill>
          <a:blip r:embed="rId2"/>
          <a:srcRect l="0" t="22841" r="37239" b="0"/>
          <a:stretch/>
        </p:blipFill>
        <p:spPr>
          <a:xfrm>
            <a:off x="6659640" y="260280"/>
            <a:ext cx="2160360" cy="1656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757800" y="5805360"/>
            <a:ext cx="40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Чайка над волной взмывае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Чайка чайку догоня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78691" t="75077" r="7207" b="10083"/>
          <a:stretch/>
        </p:blipFill>
        <p:spPr>
          <a:xfrm>
            <a:off x="324000" y="907920"/>
            <a:ext cx="8496000" cy="577080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53" name="TextBox 7"/>
          <p:cNvSpPr/>
          <p:nvPr/>
        </p:nvSpPr>
        <p:spPr>
          <a:xfrm>
            <a:off x="4861800" y="5734080"/>
            <a:ext cx="37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Посмотрите, паро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По волнам плывет впере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588000" y="115920"/>
            <a:ext cx="225756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Arial"/>
              </a:rPr>
              <a:t>Пароход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1" descr="post-29417-1300634805"/>
          <p:cNvPicPr/>
          <p:nvPr/>
        </p:nvPicPr>
        <p:blipFill>
          <a:blip r:embed="rId2"/>
          <a:stretch/>
        </p:blipFill>
        <p:spPr>
          <a:xfrm>
            <a:off x="6659640" y="189000"/>
            <a:ext cx="2016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16818" t="29234" r="67853" b="54887"/>
          <a:stretch/>
        </p:blipFill>
        <p:spPr>
          <a:xfrm>
            <a:off x="179280" y="1484280"/>
            <a:ext cx="4608720" cy="51847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pic>
        <p:nvPicPr>
          <p:cNvPr id="58" name="Picture 2" descr=""/>
          <p:cNvPicPr/>
          <p:nvPr/>
        </p:nvPicPr>
        <p:blipFill>
          <a:blip r:embed="rId2"/>
          <a:srcRect l="17678" t="63386" r="67515" b="11812"/>
          <a:stretch/>
        </p:blipFill>
        <p:spPr>
          <a:xfrm>
            <a:off x="5003640" y="1484280"/>
            <a:ext cx="3888000" cy="51847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59" name="Rectangle 7"/>
          <p:cNvSpPr/>
          <p:nvPr/>
        </p:nvSpPr>
        <p:spPr>
          <a:xfrm>
            <a:off x="6659640" y="189000"/>
            <a:ext cx="225720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Calibri"/>
              </a:rPr>
              <a:t>К</a:t>
            </a:r>
            <a:r>
              <a:rPr b="1" lang="en-US" sz="6600" spc="-1" strike="noStrike">
                <a:solidFill>
                  <a:srgbClr val="333333"/>
                </a:solidFill>
                <a:latin typeface="Arial"/>
              </a:rPr>
              <a:t>апита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79280" y="260280"/>
            <a:ext cx="225756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http://s54.radikal.ru/i146/0912/4c/eb209c654489.png"/>
          <p:cNvPicPr/>
          <p:nvPr/>
        </p:nvPicPr>
        <p:blipFill>
          <a:blip r:embed="rId3"/>
          <a:stretch/>
        </p:blipFill>
        <p:spPr>
          <a:xfrm>
            <a:off x="250920" y="33336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5_11_enl"/>
          <p:cNvPicPr/>
          <p:nvPr/>
        </p:nvPicPr>
        <p:blipFill>
          <a:blip r:embed="rId4"/>
          <a:srcRect l="0" t="0" r="0" b="50010"/>
          <a:stretch/>
        </p:blipFill>
        <p:spPr>
          <a:xfrm>
            <a:off x="6804000" y="476280"/>
            <a:ext cx="2089080" cy="1295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2984040" y="692280"/>
            <a:ext cx="3342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alibri"/>
              </a:rPr>
              <a:t>Встал на мостик капита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alibri"/>
              </a:rPr>
              <a:t>Смотрит здесь, смотрит 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alibri"/>
              </a:rPr>
              <a:t>То в бинокль, то в  трубу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alibri"/>
              </a:rPr>
              <a:t>Влево, вправо, за кор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128520"/>
            <a:ext cx="8961480" cy="1492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433800" y="2852640"/>
            <a:ext cx="839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Новиковская О.А. 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«Ум на кончиках пальцев»</a:t>
            </a: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http://images.yandex.ru/yandsearch?text&amp;type=clip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08:21:51Z</dcterms:created>
  <dc:creator>Солнышко</dc:creator>
  <dc:description/>
  <dc:language>en-US</dc:language>
  <cp:lastModifiedBy>.</cp:lastModifiedBy>
  <dcterms:modified xsi:type="dcterms:W3CDTF">2012-12-04T14:37:53Z</dcterms:modified>
  <cp:revision>7</cp:revision>
  <dc:subject/>
  <dc:title>Презентация PowerPoint</dc:title>
</cp:coreProperties>
</file>