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6F9-A353-4C3B-A0EC-FBD1885A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421-0650-4294-818D-E570AA73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3D7-D29B-42E3-A117-AB90C92C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DB2-9C4E-4F6E-8224-F19C5362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EAE-C644-44D0-9DE6-B49EF89D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3C4-6E44-4986-8AD7-CB5785A6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864-32FB-424F-8B4F-F056D71F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445-E1D5-40FD-A01F-DF082534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461-DEA1-4019-BDC0-C8136122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088-DBE7-4841-8690-7F82DE3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AB1-E328-4B3D-8B14-15745BCF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BC5-0307-4508-B9D3-D4121F36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E71A-6FD1-4E25-AD97-AB7E2D046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244440" y="-512640"/>
            <a:ext cx="1030932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http://img1.liveinternet.ru/images/attach/b/4/103/551/103551327_default.png"/>
          <p:cNvPicPr/>
          <p:nvPr/>
        </p:nvPicPr>
        <p:blipFill>
          <a:blip r:embed="rId3"/>
          <a:stretch/>
        </p:blipFill>
        <p:spPr>
          <a:xfrm>
            <a:off x="539640" y="1844640"/>
            <a:ext cx="4896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4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6"/>
          <p:cNvSpPr/>
          <p:nvPr/>
        </p:nvSpPr>
        <p:spPr>
          <a:xfrm>
            <a:off x="108000" y="14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Мы посуду сами мыл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C:\Users\наташа\Desktop\сделать игры\Igry\122_Страница_19.jpg"/>
          <p:cNvPicPr/>
          <p:nvPr/>
        </p:nvPicPr>
        <p:blipFill>
          <a:blip r:embed="rId2"/>
          <a:stretch/>
        </p:blipFill>
        <p:spPr>
          <a:xfrm>
            <a:off x="2011320" y="833400"/>
            <a:ext cx="5111640" cy="5477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-468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Потирать руку об ру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6"/>
          <p:cNvSpPr/>
          <p:nvPr/>
        </p:nvSpPr>
        <p:spPr>
          <a:xfrm>
            <a:off x="108000" y="14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Наши руки были в мы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C:\Users\наташа\Desktop\сделать игры\Igry\122_Страница_19.jpg"/>
          <p:cNvPicPr/>
          <p:nvPr/>
        </p:nvPicPr>
        <p:blipFill>
          <a:blip r:embed="rId2"/>
          <a:stretch/>
        </p:blipFill>
        <p:spPr>
          <a:xfrm>
            <a:off x="2119320" y="822240"/>
            <a:ext cx="4905360" cy="5419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-468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Потирать кулачок об кулач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5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TextBox 6"/>
          <p:cNvSpPr/>
          <p:nvPr/>
        </p:nvSpPr>
        <p:spPr>
          <a:xfrm>
            <a:off x="108000" y="146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Помогали нашей мам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-4680" y="62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Показать ладо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C:\Users\наташа\Desktop\сделать игры\Igry\122_Страница_19.jpg"/>
          <p:cNvPicPr/>
          <p:nvPr/>
        </p:nvPicPr>
        <p:blipFill>
          <a:blip r:embed="rId2"/>
          <a:stretch/>
        </p:blipFill>
        <p:spPr>
          <a:xfrm>
            <a:off x="1979640" y="8539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-353880" y="1566720"/>
            <a:ext cx="984564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Скругленный прямоугольник 3"/>
          <p:cNvGrpSpPr/>
          <p:nvPr/>
        </p:nvGrpSpPr>
        <p:grpSpPr>
          <a:xfrm>
            <a:off x="96840" y="103320"/>
            <a:ext cx="8950320" cy="6651360"/>
            <a:chOff x="96840" y="103320"/>
            <a:chExt cx="8950320" cy="6651360"/>
          </a:xfrm>
        </p:grpSpPr>
        <p:pic>
          <p:nvPicPr>
            <p:cNvPr id="6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6840" y="103320"/>
              <a:ext cx="8950320" cy="66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30200" y="439560"/>
              <a:ext cx="8283600" cy="59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Прямоугольник 1"/>
          <p:cNvSpPr/>
          <p:nvPr/>
        </p:nvSpPr>
        <p:spPr>
          <a:xfrm>
            <a:off x="-1440" y="191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В презентации использованы материалы книги Юлии Сокол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«Игры с пальчи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-144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46"/>
                </a:solidFill>
                <a:latin typeface="Times New Roman"/>
                <a:ea typeface="Times New Roman"/>
              </a:rPr>
              <a:t>Автор презентации: Бунецкая Н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5:35:27Z</dcterms:created>
  <dc:creator>.</dc:creator>
  <dc:description/>
  <dc:language>en-US</dc:language>
  <cp:lastModifiedBy>.</cp:lastModifiedBy>
  <dcterms:modified xsi:type="dcterms:W3CDTF">2014-01-05T08:05:42Z</dcterms:modified>
  <cp:revision>16</cp:revision>
  <dc:subject/>
  <dc:title>Презентация PowerPoint</dc:title>
</cp:coreProperties>
</file>