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ABF-7425-42A1-A413-3098AA5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48C-4C88-4F35-953A-B481C1F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6AD-67F2-4264-8D53-DF5C0F6D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7BF-B41C-4066-B766-E4641D0C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CF0-03A4-4CBB-8EEE-7A60D78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E2C-57E5-4283-B089-5F2C4A4B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4CC-16B6-4970-8CBC-8078B903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243-B622-4565-8B28-A591218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540-FCA9-410B-A0A8-BF6A306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C4-3FA7-4413-A83D-D690948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68F-A19F-462C-8ACE-1CEAFFD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D4D-14CF-44DE-AA95-FCAD4E3E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72E-F73F-4A6B-A539-F095D1C63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244440" y="-512640"/>
            <a:ext cx="1030932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http://img1.liveinternet.ru/images/attach/b/4/103/551/103551327_default.png"/>
          <p:cNvPicPr/>
          <p:nvPr/>
        </p:nvPicPr>
        <p:blipFill>
          <a:blip r:embed="rId3"/>
          <a:stretch/>
        </p:blipFill>
        <p:spPr>
          <a:xfrm>
            <a:off x="539640" y="1844640"/>
            <a:ext cx="4896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6"/>
          <p:cNvSpPr/>
          <p:nvPr/>
        </p:nvSpPr>
        <p:spPr>
          <a:xfrm>
            <a:off x="108000" y="14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Мы посуду сами мыл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Users\наташа\Desktop\сделать игры\Igry\122_Страница_19.jpg"/>
          <p:cNvPicPr/>
          <p:nvPr/>
        </p:nvPicPr>
        <p:blipFill>
          <a:blip r:embed="rId2"/>
          <a:stretch/>
        </p:blipFill>
        <p:spPr>
          <a:xfrm>
            <a:off x="2011320" y="833400"/>
            <a:ext cx="5111640" cy="5477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тирать руку об ру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108000" y="14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Наши руки были в мы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C:\Users\наташа\Desktop\сделать игры\Igry\122_Страница_19.jpg"/>
          <p:cNvPicPr/>
          <p:nvPr/>
        </p:nvPicPr>
        <p:blipFill>
          <a:blip r:embed="rId2"/>
          <a:stretch/>
        </p:blipFill>
        <p:spPr>
          <a:xfrm>
            <a:off x="2119320" y="822240"/>
            <a:ext cx="4905360" cy="5419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тирать кулачок об кулач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6"/>
          <p:cNvSpPr/>
          <p:nvPr/>
        </p:nvSpPr>
        <p:spPr>
          <a:xfrm>
            <a:off x="108000" y="14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могали нашей ма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казать ладо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C:\Users\наташа\Desktop\сделать игры\Igry\122_Страница_19.jpg"/>
          <p:cNvPicPr/>
          <p:nvPr/>
        </p:nvPicPr>
        <p:blipFill>
          <a:blip r:embed="rId2"/>
          <a:stretch/>
        </p:blipFill>
        <p:spPr>
          <a:xfrm>
            <a:off x="1979640" y="853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5T08:05:42Z</dcterms:modified>
  <cp:revision>16</cp:revision>
  <dc:subject/>
  <dc:title>Презентация PowerPoint</dc:title>
</cp:coreProperties>
</file>