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D28-040C-406E-96D7-FF7B6F23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22D-34BA-4EC4-9D97-DF7E69FF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440-31F5-4DEE-9DF1-C881B168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BF0-134C-4583-A3F6-CC5C708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83C-DA0F-43CA-9CAB-F4CA4BC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615-24DA-4FC2-8198-625AAC0D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F51-DD56-4396-8A4C-F73A330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041-7186-4CAF-B604-E9152A10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800-AAC0-4E94-9F18-DC21C8B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62A-129C-4B85-A618-8C8A014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F78-24FC-46FA-A512-E9B982E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86B-5F07-48AF-B415-B603C5F2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1FD-959E-4ADC-9F97-1C40C248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на тему: «Русский народный костюм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готовила воспитатель Окунева Окса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27795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7690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34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588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1T11:19:00Z</dcterms:created>
  <dc:creator>Оксана</dc:creator>
  <dc:description/>
  <dc:language>en-US</dc:language>
  <cp:lastModifiedBy>Оксана</cp:lastModifiedBy>
  <dcterms:modified xsi:type="dcterms:W3CDTF">2022-11-21T11:48:39Z</dcterms:modified>
  <cp:revision>3</cp:revision>
  <dc:subject/>
  <dc:title>Презентация на тему: «Костюмы народов России» подготовила воспитатель Окунева Оксана Валерьевна</dc:title>
</cp:coreProperties>
</file>