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A43-4073-4672-A246-BDB9989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14F-285F-40D7-82F4-E1BDF7D8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6F3-55D5-4B66-959A-A83406CC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EA0-5A5B-4DF6-AE64-B9B1C67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8A8-EDA0-469F-944F-8B6362C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FB4-8D5A-4A37-8E19-137AF6B8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071-6564-4336-9F8B-288FFBB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B16-E2DE-458F-BC2A-26035BC7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555-8C36-4646-9178-99B8B673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F8E-86B5-43BB-A63F-18C6F31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DA1-224E-4049-933C-AB6A590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ECB-3318-4D88-903C-81AC4CF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2E87-CC43-4D2C-A3CF-464B3B98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на тему: «Русский народный костюм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готовила воспитатель Окунева Окса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27795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84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76908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34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588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1T11:19:00Z</dcterms:created>
  <dc:creator>Оксана</dc:creator>
  <dc:description/>
  <dc:language>en-US</dc:language>
  <cp:lastModifiedBy>Оксана</cp:lastModifiedBy>
  <dcterms:modified xsi:type="dcterms:W3CDTF">2022-11-21T11:48:39Z</dcterms:modified>
  <cp:revision>3</cp:revision>
  <dc:subject/>
  <dc:title>Презентация на тему: «Костюмы народов России» подготовила воспитатель Окунева Оксана Валерьевна</dc:title>
</cp:coreProperties>
</file>