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A7E-D649-440F-A591-CAE4A089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08F-736D-4665-9D98-112A57E4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A910-4D64-4648-95F6-41B1DEB2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E82-9421-4C2D-800D-FD56657A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5611-F241-4BA3-8A0D-854B1955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5BA5-89ED-4765-9084-25AC395A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5BCB-DBBF-45CB-9E0E-D2BECF85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0EB4-0F04-480D-8B4A-AC9ACC29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627-2393-44B6-A307-FBA194E3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C78-A679-47CD-BEE8-34CA6E23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8C17-9153-4821-9DF6-C7FBA054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40FE-E022-439E-84CD-81400321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3FFA-4EBC-43A9-8A1C-83D12053A99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9"/>
          <p:cNvSpPr/>
          <p:nvPr/>
        </p:nvSpPr>
        <p:spPr>
          <a:xfrm>
            <a:off x="68436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 «Детский сад №8 комбинированного вид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илькульский М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0"/>
          <p:cNvSpPr/>
          <p:nvPr/>
        </p:nvSpPr>
        <p:spPr>
          <a:xfrm>
            <a:off x="1403280" y="225252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971640" y="1773360"/>
            <a:ext cx="77724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Хочу все зна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ирование связной речи у дошкольников с ОНР с использованием технологии проектной деятельности с элементами экспериментиров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1042920" y="4437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шникова А.Г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БЛЕМ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роста количества детей   с тяжелыми  множественными нарушениями развития речи , которые, обычно отстают в своих речевых возможностях от  своих сверстников. Ко всему прочему у детей данной группы отмечается речевой негативизм и низкая мотивация к учебно-познавательной деятельности  и, как следствие нарушение коммуникативных возмож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связи актуальной становится проблема поиска эффективных путей деятельности на практике способствующих развитию познавательных процессов и повышению умственных и речевых  способностей детей, приобщения ребёнка с ОНР к социальному миру, осознание самоценности собственной личности и других лю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, я решила разработать долгосрочный проект «Хочу все знать», с применением технологии проектной деятельности с элементами экспериментирования для детей с общим недоразвитием речи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И ЗАДАЧ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ое обогащение словарного запаса за счёт формирования у старших дошкольников с ОНР представлений и свойствах предметного окружения,  воспитанию навыков учебно-исследовательской деятельности, профилактике специфических нарушений связно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звивать   представления о свойствах и качествах предметного окру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вать навык использования диалогической и монологической ре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рмировать у детей способности к самостоятельному поиску зн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ормирование навыка публичных выступ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353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шения перечисленных задач предлагаются следующие этапы работы с детьми и взаимодействия с родителями, на основе индивидуального подх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темы проекта осуществлялся исходя из познавательных интересов ребёнка, и обсуждался с родителями ребё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знакомление родителей с последовательностью работы над проектом, его структурой, подготовкой экспериментальной ч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местная подготовка информационно – познавательного материала по теме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астие родителей в подготовке презентации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зентация проекта и подготовка видеофиль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мещение видеофильма на сайте ДОУ и на образовательном портале в социальной сети работников образования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sportal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u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проектами помогла расширять сферу участия родителей в жизнедеятельности образовательной организации через организацию эффективных форм взаимодействия и создать условия для творческой самореализации родителей и дет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эффективности реализаци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усвоение детьми нового материала проходило в два этап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чальном этап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 конце своего выступления каждый из детей совместно с родителями подготовил вопросы мини-викторины по просмотренному материалу презентации и эксперимента, таким образом, дети группы свободно могли высказываются по обсуждаемой проблеме, а учитель-логопед осуществлял координацию работы, не вмешиваясь в содержание высказываний, направляя диалог в рамки обсуждаемой проблемы, фиксируя различные точки зрения. Т.о. осуществлялся взаимоконтро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тором этапе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просматривали видео выступление с родителями в домашних условиях и должны были им прокомментировать выступление. На данном этапе использовался метод самоконтро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етьем этапе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лась диагностика контрольной группы дете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зучени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Умение ребенка последовательно и логично рассказывать о событии, явлении, отвечать на вопро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изуч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еседа по вопросам,  дидактические игры, упраж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уровня исследуемых функци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гаются в спецификации, результаты мониторинга показаны в листе оцен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чало проведения проекта 12% детей имели высокий уровень развития лексико-грамматической стороны речи и словарного запаса, и на конец проекта, их количество выросло до 83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ыла проведена диагностика определения динамики  усвоения детьми лексико-грамматических категорий и    степень развития словарного запаса  с контрольной группой детей, за источник взята диагностика Акименко В.М. «Логопедическое обследование детей с речевыми нарушениями». Фиксация результатов обследования в таблице, бальная система оценки результатов обследования помогло более точно отследить динам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ЭФФЕКТИВ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ой дальнейшего развития проекта вижу создание видео журнала «Хочу все знать» для детей с ОНР, который можно использовать по различным лексико-грамматическим темам для более успешного и глубокого усвоения их детьми и вовлечения родителей в коррекционно-образовательный  процесс. Материал собранный в процессе проекта могут использовать и другие педагоги ДОУ в свое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ылки на видео презентаций проектов дет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Что такое дождь»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s://nsportal.ru/video/2022/05/proekt-chto-takoe-dozhdprezentatsiya-proekta-udivitelnyy-mir-dinozavrov-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. «Волшебный камень магнит»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s://nsportal.ru/video/2022/04/proekt-volshebnyy-kamen-mag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Путешествие в мир лего»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s://nsportal.ru/video/2022/04/proekt-puteshestvie-v-mir-l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22-11-17T08:38:08Z</dcterms:modified>
  <cp:revision>69</cp:revision>
  <dc:subject/>
  <dc:title>Diapositiva 1</dc:title>
</cp:coreProperties>
</file>