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7A9-ACCD-492A-80F1-8AE97627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E98-C689-4D30-9E01-BCE2AD70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3B8-208A-4161-AF4F-A2AAC527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726-C7AD-47FC-8876-F0406834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F4D-356B-46AD-8D1F-891C925E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BBE-D094-4B16-B7CF-0F52057F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25B-3512-4105-B215-8AFC6692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6C7-2DCF-48D3-8382-C99A2943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8B5-3508-4027-9E3B-3C7476B0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D3B-0738-4ED1-B4F7-0536316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7C3-96C5-4324-A1E9-53B0397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F32-038A-4B91-9E50-4CB55B3D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71B4-5EA1-4ECD-8AA4-891D7D051D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684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«Детский сад №8 комбинированного вид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илькульский М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1403280" y="22525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971640" y="1773360"/>
            <a:ext cx="77724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Хочу все зн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ние связной речи у дошкольников с ОНР с использованием технологии проектной деятельности с элементами экспериментиро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1042920" y="4437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шникова А.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роста количества детей   с тяжелыми  множественными нарушениями развития речи , которые, обычно отстают в своих речевых возможностях от  своих сверстников. Ко всему прочему у детей данной группы отмечается речевой негативизм и низкая мотивация к учебно-познавательной деятельности  и, как следствие нарушение коммуникативных возмо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вязи актуальной становится проблема поиска эффективных путей деятельности на практике способствующих развитию познавательных процессов и повышению умственных и речевых  способностей детей, приобщения ребёнка с ОНР к социальному миру, осознание самоценности собственной личности и других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, я решила разработать долгосрочный проект «Хочу все знать», с применением технологии проектной деятельности с элементами экспериментирования для детей с общим недоразвитием реч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И ЗАДАЧ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обогащение словарного запаса за счёт формирования у старших дошкольников с ОНР представлений и свойствах предметного окружения,  воспитанию навыков учебно-исследовательской деятельности, профилактике специфических нарушений связ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звивать   представления о свойствах и качествах предметного окру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ть навык использования диалогической и монологической 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ть у детей способности к самостоятельному поиску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ирование навыка публичных вы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353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перечисленных задач предлагаются следующие этапы работы с детьми и взаимодействия с родителями, на основе индивидуального подх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темы проекта осуществлялся исходя из познавательных интересов ребёнка, и обсуждался с родителями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знакомление родителей с последовательностью работы над проектом, его структурой, подготовкой экспериментальной ч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местная подготовка информационно – познавательного материала по теме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стие родителей в подготовке презентации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я проекта и подготовка видеофил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мещение видеофильма на сайте ДОУ и на образовательном портале в социальной сети работников образования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sportal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u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проектами помогла расширять сферу участия родителей в жизнедеятельности образовательной организации через организацию эффективных форм взаимодействия и создать условия для творческой самореализации родителей и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эффективности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усвоение детьми нового материала проходило в два этап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чальном этап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конце своего выступления каждый из детей совместно с родителями подготовил вопросы мини-викторины по просмотренному материалу презентации и эксперимента, таким образом, дети группы свободно могли высказываются по обсуждаемой проблеме, а учитель-логопед осуществлял координацию работы, не вмешиваясь в содержание высказываний, направляя диалог в рамки обсуждаемой проблемы, фиксируя различные точки зрения. Т.о. осуществлялся взаимоконтр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просматривали видео выступление с родителями в домашних условиях и должны были им прокомментировать выступление. На данном этапе использовался метод самоконтр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лась диагностика контрольной группы дете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зучен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мение ребенка последовательно и логично рассказывать о событии, явлении, отвечать на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зу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седа по вопросам,  дидактические игры, упраж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уровня исследуемых функц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ются в спецификации, результаты мониторинга показаны в листе оцен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чало проведения проекта 12% детей имели высокий уровень развития лексико-грамматической стороны речи и словарного запаса, и на конец проекта, их количество выросло до 8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ыла проведена диагностика определения динамики  усвоения детьми лексико-грамматических категорий и    степень развития словарного запаса  с контрольной группой детей, за источник взята диагностика Акименко В.М. «Логопедическое обследование детей с речевыми нарушениями». Фиксация результатов обследования в таблице, бальная система оценки результатов обследования помогло более точно отследить динам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ЭФФЕКТ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ой дальнейшего развития проекта вижу создание видео журнала «Хочу все знать» для детей с ОНР, который можно использовать по различным лексико-грамматическим темам для более успешного и глубокого усвоения их детьми и вовлечения родителей в коррекционно-образовательный  процесс. Материал собранный в процессе проекта могут использовать и другие педагоги ДОУ в свое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и на видео презентаций проектов дет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Что такое дождь»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nsportal.ru/video/2022/05/proekt-chto-takoe-dozhdprezentatsiya-proekta-udivitelnyy-mir-dinozavrov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. «Волшебный камень магнит»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nsportal.ru/video/2022/04/proekt-volshebnyy-kamen-mag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Путешествие в мир лего»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nsportal.ru/video/2022/04/proekt-puteshestvie-v-mir-l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2-11-17T08:38:08Z</dcterms:modified>
  <cp:revision>69</cp:revision>
  <dc:subject/>
  <dc:title>Diapositiva 1</dc:title>
</cp:coreProperties>
</file>