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.wmf" ContentType="image/x-wmf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37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3.gif" ContentType="image/gif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4252-894B-42DD-A57A-5DA504EB0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01EC-1C5E-4220-90EF-090CD5D6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FACB-2C82-49AD-8E9F-BFB9564B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365-FEA1-47A6-9931-CCE5CA94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69F8-30A1-4484-816F-D032F9CF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1128-3D5D-4D16-86BC-AFE60004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BC82-587F-4798-9306-68391F60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3507-4295-44D1-99CA-00D2E169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DB64-657B-4191-B0C0-5FAD2BD1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CC31-94E1-463E-88F8-80AAEB87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8E69-BA97-4AF7-B03B-E766CE0A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6BFD-00CB-4191-B3BB-1F48C14C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4394-79F0-4C4E-8DCA-FD11033C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1019-9C97-4CF0-80D2-73B88F18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4DE5-F9F2-4972-8065-A619D67A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1DBB-4E08-4E85-83DA-1BFC75A1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6870-111C-4A2C-922A-82FBA3C0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0E0E-A572-4F37-AC1C-DCDBC14E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7C6A-F8AF-4B92-8DEA-FA3D6786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408C-C8B7-49D0-8977-F624DB2D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A672-BD5D-42AF-929F-0A427B18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A725-4BE0-4CB2-8164-351174E8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D4B5-16B9-4B72-9483-4AE7630A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83E8-07B7-4045-BF3A-4675DBF2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E56A-D50E-4290-AA23-416CC00A42C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4F94-40C2-456E-9EA0-309155396BF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dprb.ru/firms/ochir/" TargetMode="External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hyperlink" Target="http://uumoda.ru/bitrix/rk.php?id=89&amp;event1=banner&amp;event2=click&amp;event3=1+/+[89]+[RIGHT_7]+TANGO&amp;goto=http://www.tango-irk.ru/" TargetMode="External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hyperlink" Target="http://www.dprb.ru/catalog/1195/146584.php" TargetMode="External"/><Relationship Id="rId9" Type="http://schemas.openxmlformats.org/officeDocument/2006/relationships/image" Target="../media/image28.jpeg"/><Relationship Id="rId10" Type="http://schemas.openxmlformats.org/officeDocument/2006/relationships/hyperlink" Target="http://www.dprb.ru/firms/artgroup/" TargetMode="External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hyperlink" Target="http://www.dprb.ru/firms/hotelbaikalplaza/" TargetMode="External"/><Relationship Id="rId14" Type="http://schemas.openxmlformats.org/officeDocument/2006/relationships/image" Target="../media/image31.jpeg"/><Relationship Id="rId15" Type="http://schemas.openxmlformats.org/officeDocument/2006/relationships/hyperlink" Target="http://www.dprb.ru/firms/matrix/" TargetMode="External"/><Relationship Id="rId16" Type="http://schemas.openxmlformats.org/officeDocument/2006/relationships/image" Target="../media/image32.jpeg"/><Relationship Id="rId17" Type="http://schemas.openxmlformats.org/officeDocument/2006/relationships/image" Target="../media/image33.jpeg"/><Relationship Id="rId18" Type="http://schemas.openxmlformats.org/officeDocument/2006/relationships/hyperlink" Target="http://www.dprb.ru/firms/creativeline/" TargetMode="External"/><Relationship Id="rId19" Type="http://schemas.openxmlformats.org/officeDocument/2006/relationships/image" Target="../media/image34.jpeg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prb.ru/firms/Dacha/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://www.dprb.ru/firms/cvetochnyiBAZAR/" TargetMode="External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34.jpeg"/><Relationship Id="rId10" Type="http://schemas.openxmlformats.org/officeDocument/2006/relationships/image" Target="../media/image41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skater.kiev.ua/uploads/posts/1203004597_haz_general_warning.gif&amp;pageurl=http://skater.kiev.ua%2Fnews%2Fsite%2F&amp;id=52743142&amp;iid=2&amp;imgwidth=274&amp;imgheight=231&amp;imgsize=2645&amp;images_links=b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modnovse.ru/products_pictures/2730218_med.JPG&amp;pageurl=http://www.modnovse.ru%2Findex.php%3FproductID%3D691%26PHPSESSID%3D5b1346cb4ae975bc07b2329e10e0b571&amp;id=54015681&amp;iid=5&amp;imgwidth=359&amp;imgheight=523&amp;imgsize=17392&amp;images_links=b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go.mail.ru/frame.html?imgurl=http://alnoor.ru/uploads/posts/2008-05/1211912435_1211891471_intro.jpg&amp;pageurl=http://www.artgide.com%2F2746-.html&amp;id=29776708&amp;iid=4&amp;imgwidth=400&amp;imgheight=376&amp;imgsize=123988&amp;images_links=b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go.mail.ru/frame.html?imgurl=http://susvet.info/files/images/Radar_Sector_at_Piarco_Center.preview.jpg&amp;pageurl=http://susvet.info%2Fzeljaneishija%3Fpage%3D9&amp;id=22047314&amp;iid=7&amp;imgwidth=450&amp;imgheight=338&amp;imgsize=28979&amp;images_links=b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go.mail.ru/frame.html?imgurl=http://www.bankir.md/news_photo/small_mea4.jpg&amp;pageurl=http://www.fifthavenue.ru%2Farticles%2Farticle11-1334.html&amp;id=13021249&amp;iid=7&amp;imgwidth=147&amp;imgheight=150&amp;imgsize=10966&amp;images_links=b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go.mail.ru/frame.html?imgurl=http://www.lanck.ru/imgmain/BenQ_A51E.jpg&amp;pageurl=http://www.stolica.ru%2Fcgi-bin%2Fprop%2Fprop.pl%3Fname%3Dphoto%26node%3Dmodel%26node_name%3DBenQ%252FJoybook%2520R56%26parent_name%3Dnb%2FBenQ&amp;id=18602857&amp;iid=2&amp;imgwidth=300&amp;imgheight=259&amp;imgsize=42318&amp;images_links=b" TargetMode="External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prb.ru/firms/polyglot/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hyperlink" Target="http://www.dprb.ru/firms/senator/" TargetMode="External"/><Relationship Id="rId5" Type="http://schemas.openxmlformats.org/officeDocument/2006/relationships/image" Target="../media/image12.jpeg"/><Relationship Id="rId6" Type="http://schemas.openxmlformats.org/officeDocument/2006/relationships/hyperlink" Target="http://www.dprb.ru/firms/buryatsigns/" TargetMode="External"/><Relationship Id="rId7" Type="http://schemas.openxmlformats.org/officeDocument/2006/relationships/image" Target="../media/image13.jpeg"/><Relationship Id="rId8" Type="http://schemas.openxmlformats.org/officeDocument/2006/relationships/hyperlink" Target="http://www.dprb.ru/firms/comphelp/" TargetMode="External"/><Relationship Id="rId9" Type="http://schemas.openxmlformats.org/officeDocument/2006/relationships/image" Target="../media/image14.jpeg"/><Relationship Id="rId10" Type="http://schemas.openxmlformats.org/officeDocument/2006/relationships/hyperlink" Target="http://www.dprb.ru/firms/diva/" TargetMode="External"/><Relationship Id="rId11" Type="http://schemas.openxmlformats.org/officeDocument/2006/relationships/image" Target="../media/image15.jpeg"/><Relationship Id="rId12" Type="http://schemas.openxmlformats.org/officeDocument/2006/relationships/hyperlink" Target="http://www.dprb.ru/firms/vitacosmetology/" TargetMode="External"/><Relationship Id="rId13" Type="http://schemas.openxmlformats.org/officeDocument/2006/relationships/image" Target="../media/image16.jpeg"/><Relationship Id="rId14" Type="http://schemas.openxmlformats.org/officeDocument/2006/relationships/hyperlink" Target="http://www.dprb.ru/firms/citrusbeauty/" TargetMode="External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hyperlink" Target="http://www.dprb.ru/firms/relax/" TargetMode="External"/><Relationship Id="rId18" Type="http://schemas.openxmlformats.org/officeDocument/2006/relationships/image" Target="../media/image19.jpeg"/><Relationship Id="rId19" Type="http://schemas.openxmlformats.org/officeDocument/2006/relationships/hyperlink" Target="http://www.dprb.ru/firms/hotelconsultant/" TargetMode="External"/><Relationship Id="rId20" Type="http://schemas.openxmlformats.org/officeDocument/2006/relationships/image" Target="../media/image20.jpeg"/><Relationship Id="rId21" Type="http://schemas.openxmlformats.org/officeDocument/2006/relationships/hyperlink" Target="http://www.dprb.ru/firms/Next/" TargetMode="External"/><Relationship Id="rId22" Type="http://schemas.openxmlformats.org/officeDocument/2006/relationships/image" Target="../media/image21.jpeg"/><Relationship Id="rId23" Type="http://schemas.openxmlformats.org/officeDocument/2006/relationships/hyperlink" Target="http://www.dprb.ru/firms/euroday/" TargetMode="External"/><Relationship Id="rId24" Type="http://schemas.openxmlformats.org/officeDocument/2006/relationships/image" Target="../media/image22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48240" y="1194480"/>
            <a:ext cx="770472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нглицизмы в русском язык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MCj04348020000[1]"/>
          <p:cNvPicPr/>
          <p:nvPr/>
        </p:nvPicPr>
        <p:blipFill>
          <a:blip r:embed="rId1"/>
          <a:stretch/>
        </p:blipFill>
        <p:spPr>
          <a:xfrm>
            <a:off x="2895480" y="2133720"/>
            <a:ext cx="3084480" cy="2654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j0252349"/>
          <p:cNvPicPr/>
          <p:nvPr/>
        </p:nvPicPr>
        <p:blipFill>
          <a:blip r:embed="rId2"/>
          <a:stretch/>
        </p:blipFill>
        <p:spPr>
          <a:xfrm>
            <a:off x="4876920" y="3200400"/>
            <a:ext cx="1147680" cy="700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MMj02836230000[1]"/>
          <p:cNvPicPr/>
          <p:nvPr/>
        </p:nvPicPr>
        <p:blipFill>
          <a:blip r:embed="rId3"/>
          <a:stretch/>
        </p:blipFill>
        <p:spPr>
          <a:xfrm>
            <a:off x="3048120" y="2971800"/>
            <a:ext cx="78876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49636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звание – различные сочетания английского слова (заимствования) с русск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5" descr="http://www.dprb.ru/upload/iblock/f20/jaxaps%20btl.jpg"/>
          <p:cNvPicPr/>
          <p:nvPr/>
        </p:nvPicPr>
        <p:blipFill>
          <a:blip r:embed="rId1"/>
          <a:stretch/>
        </p:blipFill>
        <p:spPr>
          <a:xfrm>
            <a:off x="1295280" y="2514600"/>
            <a:ext cx="1524240" cy="6094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6" descr="http://www.dprb.ru/upload/iblock/042/ochir_logo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24080" y="2057400"/>
            <a:ext cx="1447920" cy="127332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7" descr="http://www.dprb.ru/upload/iblock/e2d/red%20box%20400.jpg"/>
          <p:cNvPicPr/>
          <p:nvPr/>
        </p:nvPicPr>
        <p:blipFill>
          <a:blip r:embed="rId4"/>
          <a:stretch/>
        </p:blipFill>
        <p:spPr>
          <a:xfrm>
            <a:off x="3505320" y="3505320"/>
            <a:ext cx="1752480" cy="9144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8" descr="http://uumoda.ru/upload/rk/a9f/Tango_picture_w240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90720" y="3352680"/>
            <a:ext cx="2209680" cy="23623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9" descr="http://www.dprb.ru/upload/iblock/8ca/logo_INDIGO_w300.jpg"/>
          <p:cNvPicPr/>
          <p:nvPr/>
        </p:nvPicPr>
        <p:blipFill>
          <a:blip r:embed="rId7"/>
          <a:stretch/>
        </p:blipFill>
        <p:spPr>
          <a:xfrm>
            <a:off x="6019920" y="4952880"/>
            <a:ext cx="2857320" cy="119088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0" descr="http://www.dprb.ru/upload/iblock/b33/TriKita_image001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990720" y="5867280"/>
            <a:ext cx="1904760" cy="6858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1" descr="http://www.dprb.ru/upload/iblock/867/logo_art_group_w300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429000" y="4648320"/>
            <a:ext cx="1676520" cy="99036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2" descr="http://www.dprb.ru/upload/iblock/70a/ULAN%20logo%20250.jpg"/>
          <p:cNvPicPr/>
          <p:nvPr/>
        </p:nvPicPr>
        <p:blipFill>
          <a:blip r:embed="rId12"/>
          <a:stretch/>
        </p:blipFill>
        <p:spPr>
          <a:xfrm>
            <a:off x="5638680" y="3276720"/>
            <a:ext cx="1419480" cy="9903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3" descr="http://www.dprb.ru/upload/iblock/905/detailprtwruwl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29200" y="2133720"/>
            <a:ext cx="2209680" cy="7617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4" descr="http://www.dprb.ru/upload/iblock/9c1/1ava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696080" y="1523880"/>
            <a:ext cx="1114560" cy="144792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5" descr="http://www.dprb.ru/upload/iblock/eab/buoaktg%20logo%2085x85.jpg"/>
          <p:cNvPicPr/>
          <p:nvPr/>
        </p:nvPicPr>
        <p:blipFill>
          <a:blip r:embed="rId17"/>
          <a:stretch/>
        </p:blipFill>
        <p:spPr>
          <a:xfrm>
            <a:off x="7543800" y="3657600"/>
            <a:ext cx="1295280" cy="10666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6" descr="http://www.dprb.ru/upload/iblock/189/kreativeline_logo85.jpg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3809880" y="5867280"/>
            <a:ext cx="1752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азвание – запись русского слова английскими бук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 – запись английского слова русскими бук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6" descr="http://www.dprb.ru/upload/iblock/543/Dach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219320"/>
            <a:ext cx="2209680" cy="7524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http://www.dprb.ru/upload/iblock/c58/detailpfgpb5xx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9880" y="914400"/>
            <a:ext cx="2133720" cy="9144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9" descr="http://www.dprb.ru/upload/iblock/ec7/imidzhspa_logo_w85.jpg"/>
          <p:cNvPicPr/>
          <p:nvPr/>
        </p:nvPicPr>
        <p:blipFill>
          <a:blip r:embed="rId5"/>
          <a:stretch/>
        </p:blipFill>
        <p:spPr>
          <a:xfrm>
            <a:off x="762120" y="37339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0" descr="http://www.dprb.ru/upload/iblock/a9f/detailpuxdz5zvf1mc1t.jpg"/>
          <p:cNvPicPr/>
          <p:nvPr/>
        </p:nvPicPr>
        <p:blipFill>
          <a:blip r:embed="rId6"/>
          <a:stretch/>
        </p:blipFill>
        <p:spPr>
          <a:xfrm>
            <a:off x="2819520" y="3352680"/>
            <a:ext cx="2462040" cy="14479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1" descr="http://www.dprb.ru/upload/iblock/9b2/hfat%20yesq.jpg"/>
          <p:cNvPicPr/>
          <p:nvPr/>
        </p:nvPicPr>
        <p:blipFill>
          <a:blip r:embed="rId7"/>
          <a:stretch/>
        </p:blipFill>
        <p:spPr>
          <a:xfrm>
            <a:off x="3200400" y="5257800"/>
            <a:ext cx="1600200" cy="9907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2" descr="http://www.dprb.ru/upload/iblock/813/logo_Fabrika.jpg"/>
          <p:cNvPicPr/>
          <p:nvPr/>
        </p:nvPicPr>
        <p:blipFill>
          <a:blip r:embed="rId8"/>
          <a:stretch/>
        </p:blipFill>
        <p:spPr>
          <a:xfrm>
            <a:off x="6477120" y="990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3" descr="http://www.dprb.ru/upload/iblock/189/kreativeline_logo85.jpg"/>
          <p:cNvPicPr/>
          <p:nvPr/>
        </p:nvPicPr>
        <p:blipFill>
          <a:blip r:embed="rId9"/>
          <a:stretch/>
        </p:blipFill>
        <p:spPr>
          <a:xfrm>
            <a:off x="6172200" y="3200400"/>
            <a:ext cx="1647720" cy="9907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5" descr="http://www.dprb.ru/upload/iblock/4f4/nvx%20atp.jpg"/>
          <p:cNvPicPr/>
          <p:nvPr/>
        </p:nvPicPr>
        <p:blipFill>
          <a:blip r:embed="rId10"/>
          <a:stretch/>
        </p:blipFill>
        <p:spPr>
          <a:xfrm>
            <a:off x="6095880" y="4876920"/>
            <a:ext cx="175284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6840" y="23619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тим ваше внимание на то, что в первую очередь, подростки используют заимствования, потому что это модно. Они хотят следовать американскому образу жизни, а также считают, что заимствованное слово является более компактным, четким, логичным, следовательно, незаменимым(по данным социологического опро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пользование лексики английского происхождения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обыденной  жизни  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низ 3"/>
          <p:cNvSpPr/>
          <p:nvPr/>
        </p:nvSpPr>
        <p:spPr>
          <a:xfrm>
            <a:off x="3886200" y="4800600"/>
            <a:ext cx="990720" cy="12826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ffcc99"/>
          </a:solidFill>
          <a:ln w="25560">
            <a:solidFill>
              <a:srgbClr val="bc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32"/>
          <p:cNvSpPr/>
          <p:nvPr/>
        </p:nvSpPr>
        <p:spPr>
          <a:xfrm>
            <a:off x="4648320" y="914400"/>
            <a:ext cx="4190760" cy="3733920"/>
          </a:xfrm>
          <a:prstGeom prst="downArrowCallout">
            <a:avLst>
              <a:gd name="adj1" fmla="val 28061"/>
              <a:gd name="adj2" fmla="val 28059"/>
              <a:gd name="adj3" fmla="val 16667"/>
              <a:gd name="adj4" fmla="val 6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1"/>
          <p:cNvSpPr/>
          <p:nvPr/>
        </p:nvSpPr>
        <p:spPr>
          <a:xfrm>
            <a:off x="762120" y="914400"/>
            <a:ext cx="3809880" cy="3733920"/>
          </a:xfrm>
          <a:prstGeom prst="downArrowCallout">
            <a:avLst>
              <a:gd name="adj1" fmla="val 25511"/>
              <a:gd name="adj2" fmla="val 25509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62120" y="1143000"/>
            <a:ext cx="39621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англицизм нельзя заменить на русское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англицизм употребляется в специальной области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англицизм отражает более точный смысл по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41907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англицизм можно заменить на русское слово и смысл не измен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англицизм не имеет определенной сферы употре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не знаете точного смысла сло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3"/>
          <p:cNvSpPr/>
          <p:nvPr/>
        </p:nvSpPr>
        <p:spPr>
          <a:xfrm>
            <a:off x="838080" y="4952880"/>
            <a:ext cx="358164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4"/>
          <p:cNvSpPr/>
          <p:nvPr/>
        </p:nvSpPr>
        <p:spPr>
          <a:xfrm>
            <a:off x="5029200" y="4952880"/>
            <a:ext cx="358128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у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57800" y="6814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агодаря данному исследованию мы пришли к выводу, что процесс заимствования из английского языка в русский усиливается в настоящее время, поскольку английский язык является основой многих профессиональных языков, широко используется в молодёжном сленге. С одной стороны, этот процесс неизбежен, но с другой, должна сохранятся культурная основа языка. Отсюда, мы полагаем, что англицизмы должны соответствовать следующим требования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любое заимствование должно быть необходимо, без него нельзя обойтись в русском язык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иноязычное слово должно употребляться правильно и точно в том значении, которое оно имеет в языковом источник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оно должно быть понятно тем, кто его употребля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761760" y="25142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Arial"/>
              </a:rPr>
              <a:t>Спасибо за внимание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ждом языке есть слова, заимствованные из других языков. Что касается русского языка, в нем таких слов около 1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сновную часть которых составляют имена существитель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 большое внимание в исследовании состояния русского языка уделяется английскому и американскому лингвокультурному влия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кажется нам интересным для исследования  по той причине, что наглядно отражает связь языка с общественной жизнью, с культурой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оследние десятилетия наблюдается процесс интенсивного заимствования англицизмов в русский язык. Иногда СМИ так «пестрят» английскими словами, что непонятно, о чем идет речь. Возникает вопрос: Нужно ли такое количество английских слов, может быть некоторые из них совершенно бесполезны и даже вредны для русской реч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i?id=52743142&amp;tov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533520"/>
            <a:ext cx="15238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чины заимствовани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возможность удалить из русского языка. В нашей речи основательно укоренились слова 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эдж, ноутбук, таймер, сканер». При всей своей «иностранности» их невозможно удалить из русского языка, так как их просто нечем замен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ово «Инвестор» в русском языке имеет синоним вкладчик, однако «инвестор» - это более узкое, специализированное  понятие - лицо или организация, совершающее вложения капитала, связанное с рис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акже нецелесообразно иногда заменять «имидж» на «образ», так как «имидж» указывает на область своего употребления  (это искусственный образ, формируемый в общественном или индивидуальном сознании средствами массовой коммуникации. Имидж создается с целью формирования в массовом сознании определённого отношения к объекту. Реклама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Прямые заимствова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ово встречается в русском языке приблизительно в том же виде и в том же значении, что и в языке – оригинале. Это такие слова, как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ик-эн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выходные;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лэ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егр;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день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 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Гибрид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нные слова образованы присоединением к иностранному корню русского суффикса, приставки и окончания, например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ска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s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росить)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уз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беспокойный, суетливый)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ннектить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оединяться, связыватьс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 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Кальк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ова, иноязычного происхождения, употребляемые с сохранением их фонетического и графического облика. Это такие слова, как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енеджер, стандарт, комфор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"/>
          <p:cNvSpPr/>
          <p:nvPr/>
        </p:nvSpPr>
        <p:spPr>
          <a:xfrm>
            <a:off x="838080" y="762120"/>
            <a:ext cx="792504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пособы образования англиц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олукаль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лова, которые при грамматическом освоении подчиняются правилам русской грамматики  (прибавляются суффиксы). Например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райв – драй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запал, энергетика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й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 game – игр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Экзотизм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лова, которые характеризуют специфические  национальные обычаи других народов и употребляются при описании нерусской действительности. они не имеют русских синонимов. Например: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от-до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g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,  ке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Иноязычные вкрапл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то слова или сочетания слов, передаваемые на письме и в устной речи графическими и фонетическими средствами языка – источника . Например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!)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еппи-энд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appy 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Композит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лова, состоящие из двух английских слов, например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еконд-хен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агазин, торгующий одеждой, бывшей в употреблении;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ит – пара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писок наиболее популярных медиа-продук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Жаргонизм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лова, появившиеся вследствие искажения каких-либо звуков, например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езанут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z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шизанутый)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аренс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s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"/>
          <p:cNvSpPr/>
          <p:nvPr/>
        </p:nvSpPr>
        <p:spPr>
          <a:xfrm>
            <a:off x="838080" y="762120"/>
            <a:ext cx="792504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пособы образования англицизмов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23619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Три груп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1.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лова – термины, не имеющие синонимов в русском язы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фис, спидометр, интервью, бизнес, лидер, чемпион, фермер,тренажер, маркетинг, дисплей, спонсор, бартер, сленг, болт, лорд, гольф, вокзал, ваучер, пикник, блюз, дилер, брокер, холдинг, автокар, парковка, трамвай, кроссвор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2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лова, имеющие синонимы в русском язык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пик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от англ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er)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ступающий с реч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тне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англ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– стройный, здоровы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нтейн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 анг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er)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ра, ёмк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изай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т англ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– рисунок, узо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инэйдж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т англ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enage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– подрост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лова, напечатанные в газетах на английском языке, английскими букв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пример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ho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he best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циальная значимость английских заимствований в С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1760" y="761760"/>
            <a:ext cx="769284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 всего заимствований из английского языка мы встречаем в статьях 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6"/>
          <p:cNvSpPr/>
          <p:nvPr/>
        </p:nvSpPr>
        <p:spPr>
          <a:xfrm>
            <a:off x="1981080" y="2971800"/>
            <a:ext cx="1828800" cy="1752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7"/>
          <p:cNvSpPr/>
          <p:nvPr/>
        </p:nvSpPr>
        <p:spPr>
          <a:xfrm>
            <a:off x="2438280" y="4952880"/>
            <a:ext cx="1828800" cy="17528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8"/>
          <p:cNvSpPr/>
          <p:nvPr/>
        </p:nvSpPr>
        <p:spPr>
          <a:xfrm>
            <a:off x="5410080" y="3124080"/>
            <a:ext cx="1828800" cy="1752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зне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9"/>
          <p:cNvSpPr/>
          <p:nvPr/>
        </p:nvSpPr>
        <p:spPr>
          <a:xfrm>
            <a:off x="3733920" y="1905120"/>
            <a:ext cx="1828800" cy="17524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0"/>
          <p:cNvSpPr/>
          <p:nvPr/>
        </p:nvSpPr>
        <p:spPr>
          <a:xfrm>
            <a:off x="4876920" y="4952880"/>
            <a:ext cx="1828800" cy="1752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1"/>
          <p:cNvSpPr/>
          <p:nvPr/>
        </p:nvSpPr>
        <p:spPr>
          <a:xfrm>
            <a:off x="3657600" y="3657600"/>
            <a:ext cx="1828800" cy="1752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2" descr="i?id=54015681&amp;tov=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4952880"/>
            <a:ext cx="1149480" cy="1676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3" descr="i?id=29776708&amp;tov=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2514600"/>
            <a:ext cx="1371600" cy="1290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4" descr="i?id=22047314&amp;tov=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480" y="4038480"/>
            <a:ext cx="1333800" cy="1000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5" descr="i?id=13021249&amp;tov=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919080" y="5257800"/>
            <a:ext cx="1366920" cy="1390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6" descr="i?id=18602857&amp;tov=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990720" y="1905120"/>
            <a:ext cx="137160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15" descr="http://www.dprb.ru/upload/iblock/6d8/detailphrwdgl9poliglo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5638680"/>
            <a:ext cx="1828800" cy="990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595800" y="443520"/>
            <a:ext cx="833292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лучаи использования английских заимствований в названиях Улан – Удэнских предприятий и учреждений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тыре группы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е – полностью английское сло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4" descr="logo_hc_newsite"/>
          <p:cNvPicPr/>
          <p:nvPr/>
        </p:nvPicPr>
        <p:blipFill>
          <a:blip r:embed="rId3"/>
          <a:stretch/>
        </p:blipFill>
        <p:spPr>
          <a:xfrm>
            <a:off x="6553080" y="4952880"/>
            <a:ext cx="2376720" cy="16210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1" descr="http://www.dprb.ru/upload/iblock/46e/detailptqrqykwz1g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2133720"/>
            <a:ext cx="2024280" cy="7617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2" descr="http://www.dprb.ru/upload/iblock/fce/buryatsigns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00400" y="2133720"/>
            <a:ext cx="1600200" cy="16761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3" descr="http://www.dprb.ru/upload/iblock/07d/bylp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28600" y="2971800"/>
            <a:ext cx="1981080" cy="19051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4" descr="http://www.dprb.ru/upload/iblock/bc0/detailplr1r5fut1am1j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029200" y="2133720"/>
            <a:ext cx="1981080" cy="12952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5" descr="http://www.dprb.ru/upload/iblock/d50/detailpdhxmfpwv1h.jp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362320" y="37339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6" descr="http://www.dprb.ru/upload/iblock/43c/citrus_w300.jpg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495680" y="3733920"/>
            <a:ext cx="2428920" cy="9712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7" descr="http://www.dprb.ru/upload/iblock/32c/iwnyvdz%20giz%20logo85x85.jpg"/>
          <p:cNvPicPr/>
          <p:nvPr/>
        </p:nvPicPr>
        <p:blipFill>
          <a:blip r:embed="rId16"/>
          <a:stretch/>
        </p:blipFill>
        <p:spPr>
          <a:xfrm>
            <a:off x="304920" y="5029200"/>
            <a:ext cx="1933560" cy="11714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8" descr="http://www.dprb.ru/upload/iblock/ac0/detailpwxdzaoas1v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238880" y="3733920"/>
            <a:ext cx="1447920" cy="10666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9" descr="http://www.dprb.ru/upload/iblock/10e/otelq_konsulqtant_logo_w85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543800" y="2133720"/>
            <a:ext cx="809640" cy="7999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20" descr="http://www.dprb.ru/upload/iblock/224/next_new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1600200" y="6019920"/>
            <a:ext cx="1676520" cy="4572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21" descr="http://www.dprb.ru/upload/iblock/fca/everyday%20logo3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952880" y="4876920"/>
            <a:ext cx="1143000" cy="111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Гость</cp:lastModifiedBy>
  <dcterms:modified xsi:type="dcterms:W3CDTF">2019-02-14T03:28:26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