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3.gif" ContentType="image/gif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D70-2A8C-408C-92C6-C7FD736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E4A-5931-47DE-9C11-D8DE1B61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4AD-35DA-4BED-97C3-36BC3D12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EA5-2359-485D-A3AC-3721A1B4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6733-0126-4867-A9B4-8B377F1D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AD3-5460-4F91-BA84-C9E0A1D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D08-C5A2-4D88-A453-1923CD1A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552-4D3C-40B3-B4B8-AF5A49C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16A2-72D6-4866-AD17-82DF367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DD7-3E40-48C2-B6F5-7C8648A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1E75-45EA-43AE-9766-16C4714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3EF-D56F-4E8B-9731-5E4249C6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A3E-0AAA-436E-8F55-9B9904F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EDFF-36D4-40B1-98C9-26D98B6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4C9-4A2B-4166-B75B-BAA18C6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7FE-452D-4DC2-AB90-654D00BD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DC4-4399-4804-8C12-814079FD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987-4511-489C-B3F6-3671761F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190-55D3-4CE0-899F-F63E98B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33E-DF2C-453D-9AC7-F725D96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87F-2993-4C36-994D-3177F620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68C-0C43-400A-AD17-4A1DE9F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E2B-F097-4D9A-9CEF-49CC4AB3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4DE-5E8C-4C4B-B10E-C2E5A21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7483-5683-4B10-912A-6A55FFAB22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F67-5127-47C7-83B7-B30A3968C3C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dprb.ru/firms/ochir/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uumoda.ru/bitrix/rk.php?id=89&amp;event1=banner&amp;event2=click&amp;event3=1+/+[89]+[RIGHT_7]+TANGO&amp;goto=http://www.tango-irk.ru/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hyperlink" Target="http://www.dprb.ru/catalog/1195/146584.php" TargetMode="External"/><Relationship Id="rId9" Type="http://schemas.openxmlformats.org/officeDocument/2006/relationships/image" Target="../media/image28.jpeg"/><Relationship Id="rId10" Type="http://schemas.openxmlformats.org/officeDocument/2006/relationships/hyperlink" Target="http://www.dprb.ru/firms/artgroup/" TargetMode="External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hyperlink" Target="http://www.dprb.ru/firms/hotelbaikalplaza/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www.dprb.ru/firms/matrix/" TargetMode="External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hyperlink" Target="http://www.dprb.ru/firms/creativeline/" TargetMode="External"/><Relationship Id="rId19" Type="http://schemas.openxmlformats.org/officeDocument/2006/relationships/image" Target="../media/image34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prb.ru/firms/Dacha/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dprb.ru/firms/cvetochnyiBAZAR/" TargetMode="External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34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skater.kiev.ua/uploads/posts/1203004597_haz_general_warning.gif&amp;pageurl=http://skater.kiev.ua%2Fnews%2Fsite%2F&amp;id=52743142&amp;iid=2&amp;imgwidth=274&amp;imgheight=231&amp;imgsize=2645&amp;images_links=b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odnovse.ru/products_pictures/2730218_med.JPG&amp;pageurl=http://www.modnovse.ru%2Findex.php%3FproductID%3D691%26PHPSESSID%3D5b1346cb4ae975bc07b2329e10e0b571&amp;id=54015681&amp;iid=5&amp;imgwidth=359&amp;imgheight=523&amp;imgsize=17392&amp;images_links=b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go.mail.ru/frame.html?imgurl=http://alnoor.ru/uploads/posts/2008-05/1211912435_1211891471_intro.jpg&amp;pageurl=http://www.artgide.com%2F2746-.html&amp;id=29776708&amp;iid=4&amp;imgwidth=400&amp;imgheight=376&amp;imgsize=123988&amp;images_links=b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go.mail.ru/frame.html?imgurl=http://susvet.info/files/images/Radar_Sector_at_Piarco_Center.preview.jpg&amp;pageurl=http://susvet.info%2Fzeljaneishija%3Fpage%3D9&amp;id=22047314&amp;iid=7&amp;imgwidth=450&amp;imgheight=338&amp;imgsize=28979&amp;images_links=b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go.mail.ru/frame.html?imgurl=http://www.bankir.md/news_photo/small_mea4.jpg&amp;pageurl=http://www.fifthavenue.ru%2Farticles%2Farticle11-1334.html&amp;id=13021249&amp;iid=7&amp;imgwidth=147&amp;imgheight=150&amp;imgsize=10966&amp;images_links=b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go.mail.ru/frame.html?imgurl=http://www.lanck.ru/imgmain/BenQ_A51E.jpg&amp;pageurl=http://www.stolica.ru%2Fcgi-bin%2Fprop%2Fprop.pl%3Fname%3Dphoto%26node%3Dmodel%26node_name%3DBenQ%252FJoybook%2520R56%26parent_name%3Dnb%2FBenQ&amp;id=18602857&amp;iid=2&amp;imgwidth=300&amp;imgheight=259&amp;imgsize=42318&amp;images_links=b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prb.ru/firms/polyglot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www.dprb.ru/firms/senator/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www.dprb.ru/firms/buryatsigns/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dprb.ru/firms/comphelp/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dprb.ru/firms/diva/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www.dprb.ru/firms/vitacosmetology/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www.dprb.ru/firms/citrusbeauty/" TargetMode="External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hyperlink" Target="http://www.dprb.ru/firms/relax/" TargetMode="External"/><Relationship Id="rId18" Type="http://schemas.openxmlformats.org/officeDocument/2006/relationships/image" Target="../media/image19.jpeg"/><Relationship Id="rId19" Type="http://schemas.openxmlformats.org/officeDocument/2006/relationships/hyperlink" Target="http://www.dprb.ru/firms/hotelconsultant/" TargetMode="External"/><Relationship Id="rId20" Type="http://schemas.openxmlformats.org/officeDocument/2006/relationships/image" Target="../media/image20.jpeg"/><Relationship Id="rId21" Type="http://schemas.openxmlformats.org/officeDocument/2006/relationships/hyperlink" Target="http://www.dprb.ru/firms/Next/" TargetMode="External"/><Relationship Id="rId22" Type="http://schemas.openxmlformats.org/officeDocument/2006/relationships/image" Target="../media/image21.jpeg"/><Relationship Id="rId23" Type="http://schemas.openxmlformats.org/officeDocument/2006/relationships/hyperlink" Target="http://www.dprb.ru/firms/euroday/" TargetMode="External"/><Relationship Id="rId24" Type="http://schemas.openxmlformats.org/officeDocument/2006/relationships/image" Target="../media/image22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8240" y="1194480"/>
            <a:ext cx="770472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глицизмы в русском язы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MCj04348020000[1]"/>
          <p:cNvPicPr/>
          <p:nvPr/>
        </p:nvPicPr>
        <p:blipFill>
          <a:blip r:embed="rId1"/>
          <a:stretch/>
        </p:blipFill>
        <p:spPr>
          <a:xfrm>
            <a:off x="2895480" y="2133720"/>
            <a:ext cx="3084480" cy="265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252349"/>
          <p:cNvPicPr/>
          <p:nvPr/>
        </p:nvPicPr>
        <p:blipFill>
          <a:blip r:embed="rId2"/>
          <a:stretch/>
        </p:blipFill>
        <p:spPr>
          <a:xfrm>
            <a:off x="4876920" y="3200400"/>
            <a:ext cx="1147680" cy="7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Mj02836230000[1]"/>
          <p:cNvPicPr/>
          <p:nvPr/>
        </p:nvPicPr>
        <p:blipFill>
          <a:blip r:embed="rId3"/>
          <a:stretch/>
        </p:blipFill>
        <p:spPr>
          <a:xfrm>
            <a:off x="3048120" y="2971800"/>
            <a:ext cx="7887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звание – различные сочетания английского слова (заимствования) с рус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http://www.dprb.ru/upload/iblock/f20/jaxaps%20btl.jpg"/>
          <p:cNvPicPr/>
          <p:nvPr/>
        </p:nvPicPr>
        <p:blipFill>
          <a:blip r:embed="rId1"/>
          <a:stretch/>
        </p:blipFill>
        <p:spPr>
          <a:xfrm>
            <a:off x="1295280" y="2514600"/>
            <a:ext cx="152424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http://www.dprb.ru/upload/iblock/042/ochir_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05740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www.dprb.ru/upload/iblock/e2d/red%20box%20400.jpg"/>
          <p:cNvPicPr/>
          <p:nvPr/>
        </p:nvPicPr>
        <p:blipFill>
          <a:blip r:embed="rId4"/>
          <a:stretch/>
        </p:blipFill>
        <p:spPr>
          <a:xfrm>
            <a:off x="3505320" y="3505320"/>
            <a:ext cx="175248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uumoda.ru/upload/rk/a9f/Tango_picture_w24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3526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www.dprb.ru/upload/iblock/8ca/logo_INDIGO_w300.jpg"/>
          <p:cNvPicPr/>
          <p:nvPr/>
        </p:nvPicPr>
        <p:blipFill>
          <a:blip r:embed="rId7"/>
          <a:stretch/>
        </p:blipFill>
        <p:spPr>
          <a:xfrm>
            <a:off x="6019920" y="4952880"/>
            <a:ext cx="2857320" cy="11908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http://www.dprb.ru/upload/iblock/b33/TriKita_image00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586728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http://www.dprb.ru/upload/iblock/867/logo_art_group_w300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648320"/>
            <a:ext cx="1676520" cy="990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http://www.dprb.ru/upload/iblock/70a/ULAN%20logo%20250.jpg"/>
          <p:cNvPicPr/>
          <p:nvPr/>
        </p:nvPicPr>
        <p:blipFill>
          <a:blip r:embed="rId12"/>
          <a:stretch/>
        </p:blipFill>
        <p:spPr>
          <a:xfrm>
            <a:off x="5638680" y="3276720"/>
            <a:ext cx="1419480" cy="990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http://www.dprb.ru/upload/iblock/905/detailprtwruw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29200" y="2133720"/>
            <a:ext cx="220968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http://www.dprb.ru/upload/iblock/9c1/1ava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696080" y="1523880"/>
            <a:ext cx="111456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http://www.dprb.ru/upload/iblock/eab/buoaktg%20logo%2085x85.jpg"/>
          <p:cNvPicPr/>
          <p:nvPr/>
        </p:nvPicPr>
        <p:blipFill>
          <a:blip r:embed="rId17"/>
          <a:stretch/>
        </p:blipFill>
        <p:spPr>
          <a:xfrm>
            <a:off x="7543800" y="36576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6" descr="http://www.dprb.ru/upload/iblock/189/kreativeline_logo85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809880" y="5867280"/>
            <a:ext cx="1752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звание – запись русского слова английскими бу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– запись английского слова русскими бук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6" descr="http://www.dprb.ru/upload/iblock/543/Dach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2209680" cy="752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http://www.dprb.ru/upload/iblock/c58/detailpfgpb5x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914400"/>
            <a:ext cx="2133720" cy="914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http://www.dprb.ru/upload/iblock/ec7/imidzhspa_logo_w85.jpg"/>
          <p:cNvPicPr/>
          <p:nvPr/>
        </p:nvPicPr>
        <p:blipFill>
          <a:blip r:embed="rId5"/>
          <a:stretch/>
        </p:blipFill>
        <p:spPr>
          <a:xfrm>
            <a:off x="762120" y="3733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http://www.dprb.ru/upload/iblock/a9f/detailpuxdz5zvf1mc1t.jpg"/>
          <p:cNvPicPr/>
          <p:nvPr/>
        </p:nvPicPr>
        <p:blipFill>
          <a:blip r:embed="rId6"/>
          <a:stretch/>
        </p:blipFill>
        <p:spPr>
          <a:xfrm>
            <a:off x="2819520" y="3352680"/>
            <a:ext cx="24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http://www.dprb.ru/upload/iblock/9b2/hfat%20yesq.jpg"/>
          <p:cNvPicPr/>
          <p:nvPr/>
        </p:nvPicPr>
        <p:blipFill>
          <a:blip r:embed="rId7"/>
          <a:stretch/>
        </p:blipFill>
        <p:spPr>
          <a:xfrm>
            <a:off x="3200400" y="52578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http://www.dprb.ru/upload/iblock/813/logo_Fabrika.jpg"/>
          <p:cNvPicPr/>
          <p:nvPr/>
        </p:nvPicPr>
        <p:blipFill>
          <a:blip r:embed="rId8"/>
          <a:stretch/>
        </p:blipFill>
        <p:spPr>
          <a:xfrm>
            <a:off x="6477120" y="99072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http://www.dprb.ru/upload/iblock/189/kreativeline_logo85.jpg"/>
          <p:cNvPicPr/>
          <p:nvPr/>
        </p:nvPicPr>
        <p:blipFill>
          <a:blip r:embed="rId9"/>
          <a:stretch/>
        </p:blipFill>
        <p:spPr>
          <a:xfrm>
            <a:off x="6172200" y="3200400"/>
            <a:ext cx="164772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http://www.dprb.ru/upload/iblock/4f4/nvx%20atp.jpg"/>
          <p:cNvPicPr/>
          <p:nvPr/>
        </p:nvPicPr>
        <p:blipFill>
          <a:blip r:embed="rId10"/>
          <a:stretch/>
        </p:blipFill>
        <p:spPr>
          <a:xfrm>
            <a:off x="6095880" y="4876920"/>
            <a:ext cx="1752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им ваше внимание на то, что в первую очередь, подростки используют заимствования, потому что это модно. Они хотят следовать американскому образу жизни, а также считают, что заимствованное слово является более компактным, четким, логичным, следовательно, незаменимым(по данным социологического опро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ование лексики английского происхожде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быденной  жизни 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3"/>
          <p:cNvSpPr/>
          <p:nvPr/>
        </p:nvSpPr>
        <p:spPr>
          <a:xfrm>
            <a:off x="3886200" y="4800600"/>
            <a:ext cx="990720" cy="12826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cc99"/>
          </a:solidFill>
          <a:ln w="25560">
            <a:solidFill>
              <a:srgbClr val="bc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2"/>
          <p:cNvSpPr/>
          <p:nvPr/>
        </p:nvSpPr>
        <p:spPr>
          <a:xfrm>
            <a:off x="4648320" y="914400"/>
            <a:ext cx="4190760" cy="3733920"/>
          </a:xfrm>
          <a:prstGeom prst="downArrowCallout">
            <a:avLst>
              <a:gd name="adj1" fmla="val 28061"/>
              <a:gd name="adj2" fmla="val 28059"/>
              <a:gd name="adj3" fmla="val 16667"/>
              <a:gd name="adj4" fmla="val 6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1"/>
          <p:cNvSpPr/>
          <p:nvPr/>
        </p:nvSpPr>
        <p:spPr>
          <a:xfrm>
            <a:off x="762120" y="914400"/>
            <a:ext cx="3809880" cy="3733920"/>
          </a:xfrm>
          <a:prstGeom prst="downArrowCallout">
            <a:avLst>
              <a:gd name="adj1" fmla="val 25511"/>
              <a:gd name="adj2" fmla="val 25509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3962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льзя заменить на русск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употребляется в специальной области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отражает более точный смысл по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190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можно заменить на русское слово и смысл не измен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нглицизм не имеет определенной сферы у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знаете точного смысла с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838080" y="4952880"/>
            <a:ext cx="35816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029200" y="4952880"/>
            <a:ext cx="358128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80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данному исследованию мы пришли к выводу, что процесс заимствования из английского языка в русский усиливается в настоящее время, поскольку английский язык является основой многих профессиональных языков, широко используется в молодёжном сленге. С одной стороны, этот процесс неизбежен, но с другой, должна сохранятся культурная основа языка. Отсюда, мы полагаем, что англицизмы должны соответствовать следующим требова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любое заимствование должно быть необходимо, без него нельзя обойтись в русском язы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иноязычное слово должно употребляться правильно и точно в том значении, которое оно имеет в языковом источни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но должно быть понятно тем, кто его употребл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языке есть слова, заимствованные из других языков. Что касается русского языка, в нем таких слов около 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ую часть которых составляют имена существите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большое внимание в исследовании состояния русского языка уделяется английскому и американскому лингвокультурному вли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кажется нам интересным для исследования  по той причине, что наглядно отражает связь языка с общественной жизнью, с культурой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есятилетия наблюдается процесс интенсивного заимствования англицизмов в русский язык. Иногда СМИ так «пестрят» английскими словами, что непонятно, о чем идет речь. Возникает вопрос: Нужно ли такое количество английских слов, может быть некоторые из них совершенно бесполезны и даже вредны для русской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?id=52743142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33520"/>
            <a:ext cx="1523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чины заимствова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сть удалить из русского языка. В нашей речи основательно укоренились слова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эдж, ноутбук, таймер, сканер». При всей своей «иностранности» их невозможно удалить из русского языка, так как их просто нечем заме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 «Инвестор» в русском языке имеет синоним вкладчик, однако «инвестор» - это более узкое, специализированное  понятие - лицо или организация, совершающее вложения капитала, связанное с рис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кже нецелесообразно иногда заменять «имидж» на «образ», так как «имидж» указывает на область своего употребления  (это искусственный образ, формируемый в общественном или индивидуальном сознании средствами массовой коммуникации. Имидж создается с целью формирования в массовом сознании определённого отношения к объекту. Реклам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ямые заимств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о встречается в русском языке приблизительно в том же виде и в том же значении, что и в языке – оригинале. Это такие слова, как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ик-э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выходные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э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гр;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ень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Гибри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ные слова образованы присоединением к иностранному корню русского суффикса, приставки и окончания, 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к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сить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з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еспокойный, суетливый)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некти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единяться, связывать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Каль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ва, иноязычного происхождения, употребляемые с сохранением их фонетического и графического облика. Это такие слова, к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еджер, стандарт, комф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лукаль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при грамматическом освоении подчиняются правилам русской грамматики  (прибавляются суффиксы)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айв – драй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апал, энергетик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й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game – иг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Экзот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которые характеризуют специфические  национальные обычаи других народов и употребляются при описании нерусской действительности. они не имеют русских синонимов. Например: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от-д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 ке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Иноязычные вкрап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слова или сочетания слов, передаваемые на письме и в устной речи графическими и фонетическими средствами языка – источника .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ппи-энд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appy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мпози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состоящие из двух английских сл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конд-хен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газин, торгующий одеждой, бывшей в употреблении;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ит – па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писок наиболее популярных медиа-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Жаргонизм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а, появившиеся вследствие искажения каких-либо звуков, на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занут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z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шизанутый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енс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838080" y="76212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особы образования англицизмов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Три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 – термины, не имеющие синонимов в русском язы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фис, спидометр, интервью, бизнес, лидер, чемпион, фермер,тренажер, маркетинг, дисплей, спонсор, бартер, сленг, болт, лорд, гольф, вокзал, ваучер, пикник, блюз, дилер, брокер, холдинг, автокар, парковка, трамвай, кроссво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имеющие синонимы в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ик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)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ющий с ре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тн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стройный, здор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ей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анг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, ёмк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рисунок, уз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нэйдж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ag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подрос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ова, напечатанные в газетах на английском языке, английскими бук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bes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циальная значимость английских заимствований в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7692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всего заимствований из английского языка мы встречаем в статьях 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1981080" y="29718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2438280" y="4952880"/>
            <a:ext cx="1828800" cy="1752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410080" y="3124080"/>
            <a:ext cx="1828800" cy="175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зн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3733920" y="1905120"/>
            <a:ext cx="1828800" cy="1752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4876920" y="4952880"/>
            <a:ext cx="1828800" cy="1752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657600" y="3657600"/>
            <a:ext cx="18288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2" descr="i?id=54015681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952880"/>
            <a:ext cx="114948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i?id=2977670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14600"/>
            <a:ext cx="1371600" cy="129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i?id=2204731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03848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i?id=13021249&amp;tov=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9080" y="5257800"/>
            <a:ext cx="1366920" cy="1390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i?id=1860285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90720" y="1905120"/>
            <a:ext cx="13716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5" descr="http://www.dprb.ru/upload/iblock/6d8/detailphrwdgl9poliglo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638680"/>
            <a:ext cx="1828800" cy="99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95800" y="443520"/>
            <a:ext cx="83329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учаи использования английских заимствований в названиях Улан – Удэнских предприятий и учреждени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е груп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– полностью английское сло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logo_hc_newsite"/>
          <p:cNvPicPr/>
          <p:nvPr/>
        </p:nvPicPr>
        <p:blipFill>
          <a:blip r:embed="rId3"/>
          <a:stretch/>
        </p:blipFill>
        <p:spPr>
          <a:xfrm>
            <a:off x="6553080" y="4952880"/>
            <a:ext cx="2376720" cy="1621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http://www.dprb.ru/upload/iblock/46e/detailptqrqykwz1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2133720"/>
            <a:ext cx="202428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http://www.dprb.ru/upload/iblock/fce/buryatsign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0400" y="2133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" descr="http://www.dprb.ru/upload/iblock/07d/bylp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29718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4" descr="http://www.dprb.ru/upload/iblock/bc0/detailplr1r5fut1am1j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21337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http://www.dprb.ru/upload/iblock/d50/detailpdhxmfpwv1h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3733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6" descr="http://www.dprb.ru/upload/iblock/43c/citrus_w300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495680" y="3733920"/>
            <a:ext cx="2428920" cy="971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http://www.dprb.ru/upload/iblock/32c/iwnyvdz%20giz%20logo85x85.jpg"/>
          <p:cNvPicPr/>
          <p:nvPr/>
        </p:nvPicPr>
        <p:blipFill>
          <a:blip r:embed="rId16"/>
          <a:stretch/>
        </p:blipFill>
        <p:spPr>
          <a:xfrm>
            <a:off x="304920" y="5029200"/>
            <a:ext cx="193356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8" descr="http://www.dprb.ru/upload/iblock/ac0/detailpwxdzaoas1v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238880" y="373392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http://www.dprb.ru/upload/iblock/10e/otelq_konsulqtant_logo_w85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543800" y="2133720"/>
            <a:ext cx="809640" cy="799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0" descr="http://www.dprb.ru/upload/iblock/224/next_new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600200" y="6019920"/>
            <a:ext cx="167652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1" descr="http://www.dprb.ru/upload/iblock/fca/everyday%20logo3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52880" y="4876920"/>
            <a:ext cx="114300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Гость</cp:lastModifiedBy>
  <dcterms:modified xsi:type="dcterms:W3CDTF">2019-02-14T03:28:2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