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FC8B-64A6-4D54-9084-3D0A618F0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FECF-7E2B-4DC5-88E3-B98627035D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FC5-399E-4E07-A2D7-A8F7D2E0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D0C-D682-4C34-9DEB-F9D14D9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8C0-FDB7-425E-9393-C13CC496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E5C-92E0-4826-94AF-8EA32E45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61CB-12B4-48C9-BACB-3F53A640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E4A7-CD2F-4C98-87BF-0779C032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46F6-579D-4FFD-8D86-7AE8E7F9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0AC9-33E1-47D2-8A73-D96B534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DD04-E640-4FE9-874F-7A7E383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3EBF-F609-4670-A346-08A8C41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CCC-BE45-4ADE-BFFD-38BB508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A64-128B-49FE-A46D-D952535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54E4-1462-4680-BB47-FF894C4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8C07-A02B-41CD-AA1B-A21CA2AA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C191-BE1C-49B4-BBFF-151E3F55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62B1-303C-4B05-AC89-6D8119DE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E4F2-F13E-41D6-8498-37D1517A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E386-73EC-4F33-A853-FCD4F1B8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A1E3-D74A-4CD0-A6B5-B9ABF110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33A7-0B3C-4F51-9233-93DD485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E101-4B90-40DC-BB2D-69CABFA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AE64-36A9-49DF-AA2F-D118D91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B5F-13F2-4D3B-B377-2465FCA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1551-A354-4AC6-8938-BDF5773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457C-5B5B-4F83-8AE6-B0188FD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D694-0952-4BC9-BAA1-A1C04F0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99C0-9A26-4FAC-AC70-4AAFAC2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F1E6-B3F3-4999-98DF-A20A0754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B46E-234C-459C-861B-1EAE4CC7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8AC7-AF3B-4E70-8157-C791895F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DE5E-1B9B-43BB-97B5-A5B8281E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E601-826D-4FDE-948A-81D39B6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1998-41EC-4D22-B096-BE8E49F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FE3-6B6C-4DA5-98ED-E7F65627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84E5-0B16-47DF-B142-038C0C5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596F-F644-4CA5-A805-D7BFA4A7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87B2-54B5-46D7-85F7-D764115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D7DB-B5FB-434B-A4E4-EF82AE5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91984-72F6-460F-933C-9A8C23A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49CE-DE4C-4AE9-9D77-FE414E0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67B1-6564-4978-9589-4CAE43B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1008-3FAF-4281-ABED-7F5B3DD6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E703-BE8C-483D-A257-483B5D83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4A54-4531-4FE7-90CB-04E786BB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9C3-DE7F-41BE-A0A6-2D48019B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BB74-EA7A-4886-BEAF-3BBAEE6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F835-706F-48DE-B46B-E09CC5C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B17ED-4556-40E2-A24A-272E6BC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45EE5-AF96-495B-84F3-26BC4055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9557-7D83-4C8B-869D-51F1880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64750-B5EC-4D43-8795-8FBAB1B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3E79-EBC1-4582-9F57-019B7D6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98AE-2546-4AF9-B837-F0696E1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2A8A-0D87-44E5-9684-A064D24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67277-4AA9-411C-88B9-3D257E22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F6C-0003-41F4-9103-9EB6AFD6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ECE3-3997-482D-9F9C-42BE8F57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38F1-22DB-400A-AF78-CAE8FAEB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247B-7BA5-4523-930E-E0EE24E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3A0AF-2A7F-47E1-B12B-DA5AD4DA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3A60A-4285-4C63-B80E-ACC79623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6CBE-313D-498F-B11D-5D1750D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366F-203B-4F9A-93D3-A4306F2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A7AA-7F2E-49D8-937D-CBBFCFDE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074CA-8F00-4337-BC03-9B9ADB5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5931-5B50-44D6-96C5-40DD410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F0D-9131-4505-93A0-545E29CF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50F3-B531-4326-AF5E-F69B0F1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6CB8-D923-4C51-94C3-EE7F638D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7F21-4E58-4304-8CC3-FC9545A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08CD-8FF5-4069-95EB-A2152D19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FD38-D713-49AD-A68F-5FC95B88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76A6F-B831-421A-9DD9-74A98132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1356-96C7-47DB-B635-C0BC170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2A00-4BE1-427F-ADC1-6796EB85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03F3-99F5-478B-B35D-75A96BC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6F3B6-CB93-4E42-84FF-4A89CD2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766-F6FD-4969-854A-B021FE7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79699-0EE3-4579-BAF2-6F63E10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5BAE-5064-4C3D-99A5-5190A79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A4A7-7A5A-4F7C-8F90-32B71EA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D3A1-8E39-4E52-9DEA-2EC89D34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3D21-E13B-4D4D-95DA-39AD6C38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DBD-3078-48D1-87CA-F51975C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DEF0-57EA-4E5B-B86A-25AE4A7C370C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E4FA-CBBA-451E-93AF-BE754970B80A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D7B4-EE4B-4228-9034-7512093B6883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963-CA3A-41DF-BFD8-62B63BE4811E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60B-31B9-43C1-800A-94E2EC5B56AC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03C-DC7E-4884-B0E3-E84BC265A708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D801-FFC2-4272-A725-3E5B43F68454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Использование дидактических игр при ознакомлении с окружающим миром детей младшего возраст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a8a4"/>
                </a:solidFill>
                <a:latin typeface="Arial Black"/>
              </a:rPr>
              <a:t>1.Игры с предметами (игрушками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a8a4"/>
                </a:solidFill>
                <a:latin typeface="Arial Black"/>
              </a:rPr>
              <a:t>2.Настольно-печатные игры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a8a4"/>
                </a:solidFill>
                <a:latin typeface="Arial Black"/>
              </a:rPr>
              <a:t>3.Словесные игр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 Black"/>
              </a:rPr>
              <a:t>Виды игр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Игры с предметам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Picture 4" descr="K:\DSC09264.JPG"/>
          <p:cNvPicPr/>
          <p:nvPr/>
        </p:nvPicPr>
        <p:blipFill>
          <a:blip r:embed="rId1"/>
          <a:stretch/>
        </p:blipFill>
        <p:spPr>
          <a:xfrm>
            <a:off x="4749840" y="2708280"/>
            <a:ext cx="4176720" cy="396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K:\DSC09263.JPG"/>
          <p:cNvPicPr/>
          <p:nvPr/>
        </p:nvPicPr>
        <p:blipFill>
          <a:blip r:embed="rId2"/>
          <a:stretch/>
        </p:blipFill>
        <p:spPr>
          <a:xfrm>
            <a:off x="179280" y="2708280"/>
            <a:ext cx="453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ndara"/>
              </a:rPr>
              <a:t>Настольно – печатны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4" descr="J:\лариса\DSC09229.JPG"/>
          <p:cNvPicPr/>
          <p:nvPr/>
        </p:nvPicPr>
        <p:blipFill>
          <a:blip r:embed="rId1"/>
          <a:stretch/>
        </p:blipFill>
        <p:spPr>
          <a:xfrm>
            <a:off x="6227640" y="119700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J:\лариса\DSC09231.JPG"/>
          <p:cNvPicPr/>
          <p:nvPr/>
        </p:nvPicPr>
        <p:blipFill>
          <a:blip r:embed="rId2"/>
          <a:stretch/>
        </p:blipFill>
        <p:spPr>
          <a:xfrm>
            <a:off x="527040" y="1773360"/>
            <a:ext cx="5557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J:\лариса\DSC09227.JPG"/>
          <p:cNvPicPr/>
          <p:nvPr/>
        </p:nvPicPr>
        <p:blipFill>
          <a:blip r:embed="rId1"/>
          <a:stretch/>
        </p:blipFill>
        <p:spPr>
          <a:xfrm>
            <a:off x="5940360" y="333360"/>
            <a:ext cx="1871640" cy="1630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J:\лариса\DSC09228.JPG"/>
          <p:cNvPicPr/>
          <p:nvPr/>
        </p:nvPicPr>
        <p:blipFill>
          <a:blip r:embed="rId2"/>
          <a:stretch/>
        </p:blipFill>
        <p:spPr>
          <a:xfrm>
            <a:off x="250920" y="1844640"/>
            <a:ext cx="5494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J:\лариса\DSC09232.JPG"/>
          <p:cNvPicPr/>
          <p:nvPr/>
        </p:nvPicPr>
        <p:blipFill>
          <a:blip r:embed="rId1"/>
          <a:stretch/>
        </p:blipFill>
        <p:spPr>
          <a:xfrm>
            <a:off x="6300720" y="620640"/>
            <a:ext cx="2473560" cy="1800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J:\лариса\DSC09233.JPG"/>
          <p:cNvPicPr/>
          <p:nvPr/>
        </p:nvPicPr>
        <p:blipFill>
          <a:blip r:embed="rId2"/>
          <a:stretch/>
        </p:blipFill>
        <p:spPr>
          <a:xfrm>
            <a:off x="250920" y="1773360"/>
            <a:ext cx="58849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K:\DSC09273.JPG"/>
          <p:cNvPicPr/>
          <p:nvPr/>
        </p:nvPicPr>
        <p:blipFill>
          <a:blip r:embed="rId1"/>
          <a:stretch/>
        </p:blipFill>
        <p:spPr>
          <a:xfrm>
            <a:off x="4932360" y="40464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K:\DSC09271.JPG"/>
          <p:cNvPicPr/>
          <p:nvPr/>
        </p:nvPicPr>
        <p:blipFill>
          <a:blip r:embed="rId2"/>
          <a:stretch/>
        </p:blipFill>
        <p:spPr>
          <a:xfrm>
            <a:off x="320760" y="2924280"/>
            <a:ext cx="4321080" cy="3609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K:\DSC09272.JPG"/>
          <p:cNvPicPr/>
          <p:nvPr/>
        </p:nvPicPr>
        <p:blipFill>
          <a:blip r:embed="rId3"/>
          <a:stretch/>
        </p:blipFill>
        <p:spPr>
          <a:xfrm>
            <a:off x="5003640" y="2924280"/>
            <a:ext cx="39610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J:\лариса\DSC09219.JPG"/>
          <p:cNvPicPr/>
          <p:nvPr/>
        </p:nvPicPr>
        <p:blipFill>
          <a:blip r:embed="rId1"/>
          <a:stretch/>
        </p:blipFill>
        <p:spPr>
          <a:xfrm>
            <a:off x="5865840" y="284040"/>
            <a:ext cx="2308320" cy="1731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J:\лариса\DSC09221.JPG"/>
          <p:cNvPicPr/>
          <p:nvPr/>
        </p:nvPicPr>
        <p:blipFill>
          <a:blip r:embed="rId2"/>
          <a:stretch/>
        </p:blipFill>
        <p:spPr>
          <a:xfrm>
            <a:off x="826920" y="2349360"/>
            <a:ext cx="6193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K:\DSC09274.JPG"/>
          <p:cNvPicPr/>
          <p:nvPr/>
        </p:nvPicPr>
        <p:blipFill>
          <a:blip r:embed="rId1"/>
          <a:stretch/>
        </p:blipFill>
        <p:spPr>
          <a:xfrm>
            <a:off x="5796000" y="404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K:\DSC09275.JPG"/>
          <p:cNvPicPr/>
          <p:nvPr/>
        </p:nvPicPr>
        <p:blipFill>
          <a:blip r:embed="rId2"/>
          <a:stretch/>
        </p:blipFill>
        <p:spPr>
          <a:xfrm>
            <a:off x="395280" y="249228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J:\лариса\DSC09222.JPG"/>
          <p:cNvPicPr/>
          <p:nvPr/>
        </p:nvPicPr>
        <p:blipFill>
          <a:blip r:embed="rId1"/>
          <a:stretch/>
        </p:blipFill>
        <p:spPr>
          <a:xfrm>
            <a:off x="6516720" y="260280"/>
            <a:ext cx="2195640" cy="164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J:\лариса\DSC09223.JPG"/>
          <p:cNvPicPr/>
          <p:nvPr/>
        </p:nvPicPr>
        <p:blipFill>
          <a:blip r:embed="rId2"/>
          <a:stretch/>
        </p:blipFill>
        <p:spPr>
          <a:xfrm>
            <a:off x="463680" y="2133720"/>
            <a:ext cx="63403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"/>
              </a:rPr>
              <a:t>Словесные игры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Picture 3" descr="K:\DSC09267.JPG"/>
          <p:cNvPicPr/>
          <p:nvPr/>
        </p:nvPicPr>
        <p:blipFill>
          <a:blip r:embed="rId1"/>
          <a:stretch/>
        </p:blipFill>
        <p:spPr>
          <a:xfrm>
            <a:off x="900000" y="1844640"/>
            <a:ext cx="5499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8000" y="184464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Является игровым методом обучения детей дошкольного возраста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Формой обучения детей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Самостоятельной  игровой деятельностью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Средством всестороннего воспитания личности ребёнка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Book Antiqua"/>
              </a:rPr>
              <a:t>Функции дидактической иг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K:\DSC09268.JPG"/>
          <p:cNvPicPr/>
          <p:nvPr/>
        </p:nvPicPr>
        <p:blipFill>
          <a:blip r:embed="rId1"/>
          <a:stretch/>
        </p:blipFill>
        <p:spPr>
          <a:xfrm>
            <a:off x="4383000" y="404640"/>
            <a:ext cx="4032360" cy="3372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K:\DSC09269.JPG"/>
          <p:cNvPicPr/>
          <p:nvPr/>
        </p:nvPicPr>
        <p:blipFill>
          <a:blip r:embed="rId2"/>
          <a:stretch/>
        </p:blipFill>
        <p:spPr>
          <a:xfrm>
            <a:off x="108000" y="3056040"/>
            <a:ext cx="4248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2960" y="1356840"/>
            <a:ext cx="8229600" cy="18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Candar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48428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- развитию познавательных и умственных способностей: получению новых знаний, их обобщению и закреплению, расширению имеющиеся у них представления о предметах и явлениях природы, растениях, животных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развитию памяти, внимания, наблюдательности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развитию умению  высказывать свои суждения, делать умозаключ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- развитию речи детей: пополнению и активизации словар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- социально-нравственному развитию ребенка-дошкольника: в  игре происходит познание взаимоотношений между детьми, взрослыми, объектами живой и неживой природы, в ней ребенок проявляет чуткое отношение к сверстникам, учится быть справедливым, уступать в случае необходимости,  учится сочувствовать и т.д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ndara"/>
              </a:rPr>
              <a:t>Дидактические игры способствуют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уктура дидактической иг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4039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сновные            компоненты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3068280"/>
            <a:ext cx="403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Дидактическая задач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Игровая задач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Игровые правил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Игровые действия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Результа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полнительные    компонент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867280" y="3212640"/>
            <a:ext cx="2665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юже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оль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217436"/>
                </a:solidFill>
                <a:latin typeface="Arial Unicode MS"/>
                <a:ea typeface="Arial Unicode MS"/>
              </a:rPr>
              <a:t>имеется в виду, какие знания, представления детей должны усваиваться, закрепляться, какие умственные операции в связи с этим должны развиваться, какие качества личности детей можно сформировать средствами игры,  какие стороны речи развить. В каждой дидактической игре своя обучающая задача, что отличает одну игру от другой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Segoe UI"/>
                <a:ea typeface="Segoe UI"/>
              </a:rPr>
              <a:t>Дидактическая задач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133720"/>
            <a:ext cx="7408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3700" spc="-1" strike="noStrike">
                <a:solidFill>
                  <a:srgbClr val="7030a0"/>
                </a:solidFill>
                <a:latin typeface="Arial"/>
                <a:ea typeface="Arial"/>
              </a:rPr>
              <a:t>Основная цель правил игры - организовать действия, поведение детей. Правила могут запрещать, разрешать , предписывать что-либо детям в игре, делать игру занимательной и напряженной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240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звитие игровых действий зависит от выдумки педагога. Игровые действия могут быть самыми разнообразными: спрятать, искать, закрывать фишкой картинки, подбирать картинки, отвечать на вопросы, выбирать водящего, награждать победител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Игровые</a:t>
            </a:r>
            <a:r>
              <a:rPr b="0" lang="ru-RU" sz="44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действия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5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mbria Math"/>
                <a:ea typeface="Cambria Math"/>
              </a:rPr>
              <a:t>По результатам игры можно судить об ее эффективности, о том, будет ли она использована детьми в самостоятельной игровой деятельности.  Анализ игры позволяет выявить индивидуальные способности в поведении и характере детей. А значит правильно организовать индивидуальную  работу с ним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andara"/>
              </a:rPr>
              <a:t>Результат игр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1916280"/>
            <a:ext cx="8351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1..Ознакомление детей с содержанием игры, использование в ней дидактического материала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2.Объяснение хода и правил игры.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3.Показ игровых действ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4.Определение роли взрослого в игре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5.Подведение итогов игры 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260280"/>
            <a:ext cx="90043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Book Antiqua"/>
              </a:rPr>
              <a:t>Дидактические игры включают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7:57:46Z</dcterms:created>
  <dc:creator>Akan</dc:creator>
  <dc:description/>
  <dc:language>en-US</dc:language>
  <cp:lastModifiedBy>Лариса</cp:lastModifiedBy>
  <dcterms:modified xsi:type="dcterms:W3CDTF">2022-11-22T08:04:28Z</dcterms:modified>
  <cp:revision>33</cp:revision>
  <dc:subject/>
  <dc:title>Презентация PowerPoint</dc:title>
</cp:coreProperties>
</file>