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24A-B49D-458B-9861-B1706D6457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3A3-8505-425B-A7AB-7999B265D7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687-2E0C-45B1-AA43-0E1BCBF3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0CE-D283-4533-9A66-6B5C36C8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684-54A7-40FD-9BF8-EB081CA7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C62-9F80-4530-87B4-60400D76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D0E-DD59-4C96-9D24-59B071B3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C168-5D27-41EC-AEEE-10DBAA65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9CE3-238C-445C-934C-138B6A59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0FCE-4770-4D88-B247-946ED636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074A-77A1-4A43-B400-D773B64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1957-106E-48CC-A4B7-C8A00B12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3F45-A928-4587-8605-939142C9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A2C-50E2-46F3-9B0D-949BA1F9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DAD0-06C3-404C-B315-601E068A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3FE9-1F57-4CDD-B2ED-F5E0C8AC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BC72-001F-4972-B464-43726CDF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8FD6-85AE-4BE8-990F-4ACE4C05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5F81-70E0-4A8D-8A59-4BF42FEA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4122-C8EF-4754-ACA0-9B095A75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61A9-5705-460C-861A-5BDEEB1A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7A14-73A7-40F4-9A45-41830D28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7406-BE10-4D8C-80FA-DEAE16A1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12D7-7B67-4155-8380-5EB00CA0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9E1-C0D6-4BAB-9AA7-F3C17EBE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2722-8F85-44FC-A9D2-B72A3064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938C-99E2-4D49-A35A-20F10FDC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9ECF-EDF1-49B4-B937-3405922E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53EC-31FB-4666-8492-B180ED1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CD83-88C2-414B-9CAA-E1FA4768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4223-0985-4A79-A963-D9014677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CE29-A0F5-4C7C-A9BC-3B7802BB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0AF3-E07F-4CFD-B15A-717524AF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D560-7865-4201-893D-9617A913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F9A5-BD19-4A66-96D9-244B222E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964-B2B8-4D04-AC2D-DB37904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E745-D268-4575-ABFD-DE02AE0F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FB53A-96A9-4963-B0DD-2261734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AFEB1-F714-4CE9-A8A7-48E12F8C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A799-3FBA-4B8F-BA63-240535B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F333-9C89-4F6C-AF82-C25FF41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43E5-D1D5-46EC-AFA2-CE3952B3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2346-765A-498C-B6B5-94E6083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20D8-478E-479B-B73A-4981AAEE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94EE1-2A76-4878-B77F-FA10D83F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00F59-E101-49BA-9EE6-FB482732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141-52A0-412B-82D5-0954040E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774D0-BF97-4627-A652-B1AB3955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D554-5FEF-42B6-8C64-04E69A77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F6FB4-EA48-4A3C-AD2C-3456506E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3670-6166-4D4A-ABF6-8EB4AA55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485EA-5C4F-430C-ABAC-89E03DE0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3381D-7910-4C7E-907C-008DEF64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5116-10A8-4C8C-B314-6E1C174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F052-4F17-4B08-B79F-9C36BA0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AA4B3-BEE0-407E-B427-8D00AEA5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45A8-A041-4671-BB7E-AA81FFAC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FCA-A47D-4A13-8AF9-DC7096C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BB58-4775-4ACE-8591-154990F0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01E2-8302-492D-AC8D-AD581B3B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1F95A-4AB4-401C-AB69-1B0331E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18F8D-A005-4DFD-B986-9723AE16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BD716-EFE3-48BD-8FEB-2D50857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80E7-E954-4D78-A012-D7D7AE93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E6B43-50A0-4749-BBA0-4266E5FA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1A5C-620F-4D41-8D94-BDAA2E87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5020-184D-4BCB-8BF0-98E337C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18959-E814-442B-A251-49DB3BFF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BFB-3A43-4A99-96ED-35A779A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7E52F-C6AF-48DE-8051-C3AD7926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50959-C33B-40A9-A931-B5A2ADC7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4F84A-4330-4A88-A95F-2D3191B5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32EA2-1135-4A3D-8194-3F086BF1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20E8D-0424-474A-B537-AB44F43F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DB14-15C9-4D8B-A966-B7FBB212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1F53C-B134-4E1A-84A7-8F4CC9F0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674AE-24CF-406F-BFD6-9A802138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20F2-E834-492E-9C69-2D6CCE2C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2FCD5-9AFD-4D23-A25F-D4E71A94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81A-67DB-4781-83A8-171D1521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A1EEB-8AFA-4735-9129-4E98BAF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CB625-0C0E-4454-922B-F550C12A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5FF58-3EEC-4496-A157-3B695026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01803-C841-4F55-A4B2-29391F29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C0A39-1FD4-4E00-A3EF-B637E463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85B-A651-4F5F-A3A2-B8C4D42D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B08D-D9C3-4F90-8E89-3D027211D7BB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1C0E-8E7C-4EA9-9320-F1E5BA65FE90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941A-22BE-4E99-94F6-4CAAD0C5519E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9349-971B-4963-9C1C-34D1EC0E6AC9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F62A-02BC-49F3-B9F0-C23207870F72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D53-201F-4AC4-86E0-AF2A215AACA3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F5D9-CAB7-433D-9E72-B7C4B3383014}" type="slidenum">
              <a:rPr b="0" lang="ru-RU" sz="10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Использование дидактических игр при ознакомлении с окружающим миром детей младшего возраст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a8a4"/>
                </a:solidFill>
                <a:latin typeface="Arial Black"/>
              </a:rPr>
              <a:t>1.Игры с предметами (игрушками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a8a4"/>
                </a:solidFill>
                <a:latin typeface="Arial Black"/>
              </a:rPr>
              <a:t>2.Настольно-печатные игры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a8a4"/>
                </a:solidFill>
                <a:latin typeface="Arial Black"/>
              </a:rPr>
              <a:t>3.Словесные игр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 Black"/>
              </a:rPr>
              <a:t>Виды игр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Игры с предметам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Picture 4" descr="K:\DSC09264.JPG"/>
          <p:cNvPicPr/>
          <p:nvPr/>
        </p:nvPicPr>
        <p:blipFill>
          <a:blip r:embed="rId1"/>
          <a:stretch/>
        </p:blipFill>
        <p:spPr>
          <a:xfrm>
            <a:off x="4749840" y="2708280"/>
            <a:ext cx="4176720" cy="3960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K:\DSC09263.JPG"/>
          <p:cNvPicPr/>
          <p:nvPr/>
        </p:nvPicPr>
        <p:blipFill>
          <a:blip r:embed="rId2"/>
          <a:stretch/>
        </p:blipFill>
        <p:spPr>
          <a:xfrm>
            <a:off x="179280" y="2708280"/>
            <a:ext cx="453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ndara"/>
              </a:rPr>
              <a:t>Настольно – печатные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4" descr="J:\лариса\DSC09229.JPG"/>
          <p:cNvPicPr/>
          <p:nvPr/>
        </p:nvPicPr>
        <p:blipFill>
          <a:blip r:embed="rId1"/>
          <a:stretch/>
        </p:blipFill>
        <p:spPr>
          <a:xfrm>
            <a:off x="6227640" y="1197000"/>
            <a:ext cx="2016360" cy="1511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J:\лариса\DSC09231.JPG"/>
          <p:cNvPicPr/>
          <p:nvPr/>
        </p:nvPicPr>
        <p:blipFill>
          <a:blip r:embed="rId2"/>
          <a:stretch/>
        </p:blipFill>
        <p:spPr>
          <a:xfrm>
            <a:off x="527040" y="1773360"/>
            <a:ext cx="5557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J:\лариса\DSC09227.JPG"/>
          <p:cNvPicPr/>
          <p:nvPr/>
        </p:nvPicPr>
        <p:blipFill>
          <a:blip r:embed="rId1"/>
          <a:stretch/>
        </p:blipFill>
        <p:spPr>
          <a:xfrm>
            <a:off x="5940360" y="333360"/>
            <a:ext cx="1871640" cy="1630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J:\лариса\DSC09228.JPG"/>
          <p:cNvPicPr/>
          <p:nvPr/>
        </p:nvPicPr>
        <p:blipFill>
          <a:blip r:embed="rId2"/>
          <a:stretch/>
        </p:blipFill>
        <p:spPr>
          <a:xfrm>
            <a:off x="250920" y="1844640"/>
            <a:ext cx="5494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J:\лариса\DSC09232.JPG"/>
          <p:cNvPicPr/>
          <p:nvPr/>
        </p:nvPicPr>
        <p:blipFill>
          <a:blip r:embed="rId1"/>
          <a:stretch/>
        </p:blipFill>
        <p:spPr>
          <a:xfrm>
            <a:off x="6300720" y="620640"/>
            <a:ext cx="2473560" cy="1800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J:\лариса\DSC09233.JPG"/>
          <p:cNvPicPr/>
          <p:nvPr/>
        </p:nvPicPr>
        <p:blipFill>
          <a:blip r:embed="rId2"/>
          <a:stretch/>
        </p:blipFill>
        <p:spPr>
          <a:xfrm>
            <a:off x="250920" y="1773360"/>
            <a:ext cx="58849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K:\DSC09273.JPG"/>
          <p:cNvPicPr/>
          <p:nvPr/>
        </p:nvPicPr>
        <p:blipFill>
          <a:blip r:embed="rId1"/>
          <a:stretch/>
        </p:blipFill>
        <p:spPr>
          <a:xfrm>
            <a:off x="4932360" y="40464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K:\DSC09271.JPG"/>
          <p:cNvPicPr/>
          <p:nvPr/>
        </p:nvPicPr>
        <p:blipFill>
          <a:blip r:embed="rId2"/>
          <a:stretch/>
        </p:blipFill>
        <p:spPr>
          <a:xfrm>
            <a:off x="320760" y="2924280"/>
            <a:ext cx="4321080" cy="3609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K:\DSC09272.JPG"/>
          <p:cNvPicPr/>
          <p:nvPr/>
        </p:nvPicPr>
        <p:blipFill>
          <a:blip r:embed="rId3"/>
          <a:stretch/>
        </p:blipFill>
        <p:spPr>
          <a:xfrm>
            <a:off x="5003640" y="2924280"/>
            <a:ext cx="39610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J:\лариса\DSC09219.JPG"/>
          <p:cNvPicPr/>
          <p:nvPr/>
        </p:nvPicPr>
        <p:blipFill>
          <a:blip r:embed="rId1"/>
          <a:stretch/>
        </p:blipFill>
        <p:spPr>
          <a:xfrm>
            <a:off x="5865840" y="284040"/>
            <a:ext cx="2308320" cy="1731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J:\лариса\DSC09221.JPG"/>
          <p:cNvPicPr/>
          <p:nvPr/>
        </p:nvPicPr>
        <p:blipFill>
          <a:blip r:embed="rId2"/>
          <a:stretch/>
        </p:blipFill>
        <p:spPr>
          <a:xfrm>
            <a:off x="826920" y="2349360"/>
            <a:ext cx="6193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K:\DSC09274.JPG"/>
          <p:cNvPicPr/>
          <p:nvPr/>
        </p:nvPicPr>
        <p:blipFill>
          <a:blip r:embed="rId1"/>
          <a:stretch/>
        </p:blipFill>
        <p:spPr>
          <a:xfrm>
            <a:off x="5796000" y="4046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K:\DSC09275.JPG"/>
          <p:cNvPicPr/>
          <p:nvPr/>
        </p:nvPicPr>
        <p:blipFill>
          <a:blip r:embed="rId2"/>
          <a:stretch/>
        </p:blipFill>
        <p:spPr>
          <a:xfrm>
            <a:off x="395280" y="249228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J:\лариса\DSC09222.JPG"/>
          <p:cNvPicPr/>
          <p:nvPr/>
        </p:nvPicPr>
        <p:blipFill>
          <a:blip r:embed="rId1"/>
          <a:stretch/>
        </p:blipFill>
        <p:spPr>
          <a:xfrm>
            <a:off x="6516720" y="260280"/>
            <a:ext cx="2195640" cy="164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J:\лариса\DSC09223.JPG"/>
          <p:cNvPicPr/>
          <p:nvPr/>
        </p:nvPicPr>
        <p:blipFill>
          <a:blip r:embed="rId2"/>
          <a:stretch/>
        </p:blipFill>
        <p:spPr>
          <a:xfrm>
            <a:off x="463680" y="2133720"/>
            <a:ext cx="63403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"/>
              </a:rPr>
              <a:t>Словесные игры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Picture 3" descr="K:\DSC09267.JPG"/>
          <p:cNvPicPr/>
          <p:nvPr/>
        </p:nvPicPr>
        <p:blipFill>
          <a:blip r:embed="rId1"/>
          <a:stretch/>
        </p:blipFill>
        <p:spPr>
          <a:xfrm>
            <a:off x="900000" y="1844640"/>
            <a:ext cx="5499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68000" y="1844640"/>
            <a:ext cx="828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Является игровым методом обучения детей дошкольного возраста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Формой обучения детей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Самостоятельной  игровой деятельностью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Средством всестороннего воспитания личности ребёнка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Book Antiqua"/>
              </a:rPr>
              <a:t>Функции дидактической игр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K:\DSC09268.JPG"/>
          <p:cNvPicPr/>
          <p:nvPr/>
        </p:nvPicPr>
        <p:blipFill>
          <a:blip r:embed="rId1"/>
          <a:stretch/>
        </p:blipFill>
        <p:spPr>
          <a:xfrm>
            <a:off x="4383000" y="404640"/>
            <a:ext cx="4032360" cy="3372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K:\DSC09269.JPG"/>
          <p:cNvPicPr/>
          <p:nvPr/>
        </p:nvPicPr>
        <p:blipFill>
          <a:blip r:embed="rId2"/>
          <a:stretch/>
        </p:blipFill>
        <p:spPr>
          <a:xfrm>
            <a:off x="108000" y="3056040"/>
            <a:ext cx="4248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2960" y="1356840"/>
            <a:ext cx="8229600" cy="18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0000"/>
                </a:solidFill>
                <a:latin typeface="Candara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48428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- развитию познавательных и умственных способностей: получению новых знаний, их обобщению и закреплению, расширению имеющиеся у них представления о предметах и явлениях природы, растениях, животных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развитию памяти, внимания, наблюдательности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развитию умению  высказывать свои суждения, делать умозаключ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- развитию речи детей: пополнению и активизации словар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ndara"/>
              </a:rPr>
              <a:t>- социально-нравственному развитию ребенка-дошкольника: в  игре происходит познание взаимоотношений между детьми, взрослыми, объектами живой и неживой природы, в ней ребенок проявляет чуткое отношение к сверстникам, учится быть справедливым, уступать в случае необходимости,  учится сочувствовать и т.д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ndara"/>
              </a:rPr>
              <a:t>Дидактические игры способствуют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уктура дидактической игр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4039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сновные            компоненты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3068280"/>
            <a:ext cx="403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Дидактическая задача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Игровая задач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Игровые правил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Игровые действия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-Результа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ополнительные    компонент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867280" y="3212640"/>
            <a:ext cx="26654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юже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оль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217436"/>
                </a:solidFill>
                <a:latin typeface="Arial Unicode MS"/>
                <a:ea typeface="Arial Unicode MS"/>
              </a:rPr>
              <a:t>имеется в виду, какие знания, представления детей должны усваиваться, закрепляться, какие умственные операции в связи с этим должны развиваться, какие качества личности детей можно сформировать средствами игры,  какие стороны речи развить. В каждой дидактической игре своя обучающая задача, что отличает одну игру от другой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Segoe UI"/>
                <a:ea typeface="Segoe UI"/>
              </a:rPr>
              <a:t>Дидактическая задач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133720"/>
            <a:ext cx="7408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3700" spc="-1" strike="noStrike">
                <a:solidFill>
                  <a:srgbClr val="7030a0"/>
                </a:solidFill>
                <a:latin typeface="Arial"/>
                <a:ea typeface="Arial"/>
              </a:rPr>
              <a:t>Основная цель правил игры - организовать действия, поведение детей. Правила могут запрещать, разрешать , предписывать что-либо детям в игре, делать игру занимательной и напряженной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игры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240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.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азвитие игровых действий зависит от выдумки педагога. Игровые действия могут быть самыми разнообразными: спрятать, искать, закрывать фишкой картинки, подбирать картинки, отвечать на вопросы, выбирать водящего, награждать победител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Игровые</a:t>
            </a:r>
            <a:r>
              <a:rPr b="0" lang="ru-RU" sz="44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862aa"/>
                </a:solidFill>
                <a:latin typeface="Times New Roman"/>
                <a:ea typeface="Times New Roman"/>
              </a:rPr>
              <a:t>действия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5280" y="1773360"/>
            <a:ext cx="83534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ambria Math"/>
                <a:ea typeface="Cambria Math"/>
              </a:rPr>
              <a:t>По результатам игры можно судить об ее эффективности, о том, будет ли она использована детьми в самостоятельной игровой деятельности.  Анализ игры позволяет выявить индивидуальные способности в поведении и характере детей. А значит правильно организовать индивидуальную  работу с ним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Candara"/>
              </a:rPr>
              <a:t>Результат игры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23640" y="1916280"/>
            <a:ext cx="8351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1..Ознакомление детей с содержанием игры, использование в ней дидактического материала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2.Объяснение хода и правил игры.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3.Показ игровых действ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4.Определение роли взрослого в игре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5.Подведение итогов игры 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260280"/>
            <a:ext cx="90043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Book Antiqua"/>
              </a:rPr>
              <a:t>Дидактические игры включают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7:57:46Z</dcterms:created>
  <dc:creator>Akan</dc:creator>
  <dc:description/>
  <dc:language>en-US</dc:language>
  <cp:lastModifiedBy>Лариса</cp:lastModifiedBy>
  <dcterms:modified xsi:type="dcterms:W3CDTF">2022-11-22T08:04:28Z</dcterms:modified>
  <cp:revision>33</cp:revision>
  <dc:subject/>
  <dc:title>Презентация PowerPoint</dc:title>
</cp:coreProperties>
</file>