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38D1-DB73-4953-90A1-E21502363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7C9A-C64D-4E67-98CB-B83F4244E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63A-1BB9-4444-AC97-A15D3B7E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15B-540B-4F7E-9A85-0D1255D4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DF1-DE5E-4192-81B8-F9D7A65B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FC9-AC11-417F-AF5C-BA0494D2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6A4-37C6-4F0B-A091-787BE0F1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5C3-8BA0-4BFC-8876-F59048AB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050-54E7-41B5-9C65-53BA526C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B5B-7E62-41CD-A354-9ED6633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75A-64FC-4CC6-BB24-0FC26E71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C6D-B53F-424A-B269-BE8AB239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B24-DF5A-4E47-B150-93E0317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C1A-C1EF-4204-945B-FFF72D7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DD70-B8FD-431B-B846-79894A55E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1609560"/>
            <a:ext cx="4584600" cy="221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1\Downloads\foto.jpg"/>
          <p:cNvPicPr/>
          <p:nvPr/>
        </p:nvPicPr>
        <p:blipFill>
          <a:blip r:embed="rId2"/>
          <a:stretch/>
        </p:blipFill>
        <p:spPr>
          <a:xfrm>
            <a:off x="4643280" y="1557360"/>
            <a:ext cx="3780000" cy="4871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304200" y="4149720"/>
            <a:ext cx="51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Franklin Gothic Heavy"/>
              </a:rPr>
              <a:t>«Корз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Franklin Gothic Heavy"/>
              </a:rPr>
              <a:t>с еловыми шишк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340000" y="549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Franklin Gothic Heavy"/>
              </a:rPr>
              <a:t>Презентацию подготовила: Власова Лариса Викторо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1\Downloads\th (1).jpg"/>
          <p:cNvPicPr/>
          <p:nvPr/>
        </p:nvPicPr>
        <p:blipFill>
          <a:blip r:embed="rId3"/>
          <a:stretch/>
        </p:blipFill>
        <p:spPr>
          <a:xfrm>
            <a:off x="179280" y="476280"/>
            <a:ext cx="1871640" cy="116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1\Downloads\2_Basket.jpg"/>
          <p:cNvPicPr/>
          <p:nvPr/>
        </p:nvPicPr>
        <p:blipFill>
          <a:blip r:embed="rId4"/>
          <a:stretch/>
        </p:blipFill>
        <p:spPr>
          <a:xfrm>
            <a:off x="108000" y="5732640"/>
            <a:ext cx="8874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572000" y="1341360"/>
            <a:ext cx="4572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Композитор решил идти по пути прославления национальной норвежск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Он положил в основу своего творчества  народные мотивы и стал поистине  национальным компози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1\Downloads\grig1.jpg"/>
          <p:cNvPicPr/>
          <p:nvPr/>
        </p:nvPicPr>
        <p:blipFill>
          <a:blip r:embed="rId1"/>
          <a:stretch/>
        </p:blipFill>
        <p:spPr>
          <a:xfrm>
            <a:off x="179280" y="1844640"/>
            <a:ext cx="4430880" cy="3517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333080" y="404640"/>
            <a:ext cx="65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Franklin Gothic Heavy"/>
              </a:rPr>
              <a:t>НАРОДНЫЕ МОТИ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Heavy"/>
              </a:rPr>
              <a:t>В городе есть памятник великому композитор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1\Downloads\thumbnail430_13102501.jpg"/>
          <p:cNvPicPr/>
          <p:nvPr/>
        </p:nvPicPr>
        <p:blipFill>
          <a:blip r:embed="rId1"/>
          <a:stretch/>
        </p:blipFill>
        <p:spPr>
          <a:xfrm>
            <a:off x="1187280" y="1341360"/>
            <a:ext cx="677556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mg-fotki.yandex.ru/get/5412/43221130.b3/0_7ebdb_f6281c93_XXL"/>
          <p:cNvPicPr/>
          <p:nvPr/>
        </p:nvPicPr>
        <p:blipFill>
          <a:blip r:embed="rId1"/>
          <a:stretch/>
        </p:blipFill>
        <p:spPr>
          <a:xfrm>
            <a:off x="179280" y="1268280"/>
            <a:ext cx="88106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Администратор\Мои документы\img011.jpg"/>
          <p:cNvPicPr/>
          <p:nvPr/>
        </p:nvPicPr>
        <p:blipFill>
          <a:blip r:embed="rId1"/>
          <a:stretch/>
        </p:blipFill>
        <p:spPr>
          <a:xfrm>
            <a:off x="1042920" y="689040"/>
            <a:ext cx="785016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Администратор\Мои документы\img006.jpg"/>
          <p:cNvPicPr/>
          <p:nvPr/>
        </p:nvPicPr>
        <p:blipFill>
          <a:blip r:embed="rId1"/>
          <a:stretch/>
        </p:blipFill>
        <p:spPr>
          <a:xfrm>
            <a:off x="1835280" y="189000"/>
            <a:ext cx="6337080" cy="64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Поиск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 Найдите в  отрывк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«музыкальной пьес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640" y="3715920"/>
            <a:ext cx="662472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Franklin Gothic Heavy"/>
              </a:rPr>
              <a:t>Срав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Franklin Gothic Heavy"/>
              </a:rPr>
              <a:t>Эпите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Franklin Gothic Heavy"/>
              </a:rPr>
              <a:t>Олицетвор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b40089.jpg"/>
          <p:cNvPicPr/>
          <p:nvPr/>
        </p:nvPicPr>
        <p:blipFill>
          <a:blip r:embed="rId1"/>
          <a:stretch/>
        </p:blipFill>
        <p:spPr>
          <a:xfrm>
            <a:off x="142920" y="500040"/>
            <a:ext cx="1785960" cy="2432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33000004499.jpg"/>
          <p:cNvPicPr/>
          <p:nvPr/>
        </p:nvPicPr>
        <p:blipFill>
          <a:blip r:embed="rId2"/>
          <a:stretch/>
        </p:blipFill>
        <p:spPr>
          <a:xfrm>
            <a:off x="2428920" y="1928880"/>
            <a:ext cx="1170000" cy="1865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StalnoeKolechko1.jpg"/>
          <p:cNvPicPr/>
          <p:nvPr/>
        </p:nvPicPr>
        <p:blipFill>
          <a:blip r:embed="rId3"/>
          <a:stretch/>
        </p:blipFill>
        <p:spPr>
          <a:xfrm>
            <a:off x="6215040" y="3143160"/>
            <a:ext cx="2514600" cy="3292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c7d12faf1bd0faa5a846863cfac47d3b.jpg"/>
          <p:cNvPicPr/>
          <p:nvPr/>
        </p:nvPicPr>
        <p:blipFill>
          <a:blip r:embed="rId4"/>
          <a:stretch/>
        </p:blipFill>
        <p:spPr>
          <a:xfrm>
            <a:off x="214200" y="3643200"/>
            <a:ext cx="1857600" cy="2752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be.jpg"/>
          <p:cNvPicPr/>
          <p:nvPr/>
        </p:nvPicPr>
        <p:blipFill>
          <a:blip r:embed="rId5"/>
          <a:stretch/>
        </p:blipFill>
        <p:spPr>
          <a:xfrm>
            <a:off x="3643200" y="3929040"/>
            <a:ext cx="120024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13.jpg"/>
          <p:cNvPicPr/>
          <p:nvPr/>
        </p:nvPicPr>
        <p:blipFill>
          <a:blip r:embed="rId6"/>
          <a:stretch/>
        </p:blipFill>
        <p:spPr>
          <a:xfrm>
            <a:off x="3786120" y="428760"/>
            <a:ext cx="22258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Определ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лижение двух явлений с целью пояснения  одного с другим при помощи признаков 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сняет, характеризует какое-либо поняти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ПИТЕТ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носит признаки живого существа на явления природы, предметы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ЛИЦЕТВОР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Heavy"/>
              </a:rPr>
              <a:t>СРАВНЕНИ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учала стру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удто плакала Зол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как сол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епкие паль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енькая стру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яющие гл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жный ве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устальные туфель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яль мог п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виши убега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скова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меялис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рем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оходы дре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ег цеплялс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танавливал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ицы волновал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фельки вздрагив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Белые ноч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евере в начале лета можно наблюдать такую картину - ночью почти светло, стоят легкие сумерки, так как солнце ненадолго прячется за горизонт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Симфоническая музы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зыкальные произведения, предназначенные для исполнения симфоническим оркестром. Включает крупные  произведения и небольшие пьесы. Главные жанры: симфония, сюита, увертю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bso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Основная мысль произвед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608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… открыл то прекрасное 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м должен жить челове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paustovskiy_10.jpg"/>
          <p:cNvPicPr/>
          <p:nvPr/>
        </p:nvPicPr>
        <p:blipFill>
          <a:blip r:embed="rId1"/>
          <a:stretch/>
        </p:blipFill>
        <p:spPr>
          <a:xfrm>
            <a:off x="4925880" y="1335240"/>
            <a:ext cx="346248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к уроку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35280" y="3213000"/>
            <a:ext cx="590544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Плат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юльская г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11640" y="1267920"/>
            <a:ext cx="4749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Heavy"/>
              </a:rPr>
              <a:t>Константин Георгиевич            Пауст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Franklin Gothic Heavy"/>
              </a:rPr>
              <a:t>Очер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Franklin Gothic Heavy"/>
              </a:rPr>
              <a:t>«КОРЗИНА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Franklin Gothic Heavy"/>
              </a:rPr>
              <a:t> </a:t>
            </a:r>
            <a:r>
              <a:rPr b="0" lang="ru-RU" sz="4800" spc="-1" strike="noStrike">
                <a:solidFill>
                  <a:srgbClr val="7030a0"/>
                </a:solidFill>
                <a:latin typeface="Franklin Gothic Heavy"/>
              </a:rPr>
              <a:t>С ЕЛОВЫМИ ШИШКАМ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истратор\Рабочий стол\img009.jpg"/>
          <p:cNvPicPr/>
          <p:nvPr/>
        </p:nvPicPr>
        <p:blipFill>
          <a:blip r:embed="rId1"/>
          <a:stretch/>
        </p:blipFill>
        <p:spPr>
          <a:xfrm>
            <a:off x="179280" y="112536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1\Downloads\7.gif"/>
          <p:cNvPicPr/>
          <p:nvPr/>
        </p:nvPicPr>
        <p:blipFill>
          <a:blip r:embed="rId2"/>
          <a:stretch/>
        </p:blipFill>
        <p:spPr>
          <a:xfrm>
            <a:off x="3059280" y="3573360"/>
            <a:ext cx="165240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ки по запросу урок чтения по рассказу&quot;Июльская гроза&quot; Платонова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Картинки по запросу урок чтения по рассказу&quot;Июльская гроза&quot; Платоно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леб – кормил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леб ногами топтат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роду голод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videoplayback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560" y="272520"/>
            <a:ext cx="78598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5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лай добро и жди доб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знь дана на добрые д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042920" y="313704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Рабочий стол\img008.jpg"/>
          <p:cNvPicPr/>
          <p:nvPr/>
        </p:nvPicPr>
        <p:blipFill>
          <a:blip r:embed="rId1"/>
          <a:stretch/>
        </p:blipFill>
        <p:spPr>
          <a:xfrm>
            <a:off x="2268360" y="378000"/>
            <a:ext cx="4448520" cy="61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Родился в городе Бергене в 1843 г</a:t>
            </a:r>
            <a:r>
              <a:rPr b="0" lang="ru-RU" sz="4000" spc="-1" strike="noStrike">
                <a:solidFill>
                  <a:srgbClr val="000000"/>
                </a:solidFill>
                <a:latin typeface="Franklin Gothic Heavy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Норвегия"/>
          <p:cNvPicPr/>
          <p:nvPr/>
        </p:nvPicPr>
        <p:blipFill>
          <a:blip r:embed="rId1"/>
          <a:stretch/>
        </p:blipFill>
        <p:spPr>
          <a:xfrm>
            <a:off x="971640" y="1628640"/>
            <a:ext cx="7200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Норвег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Норвежские пейзажи"/>
          <p:cNvPicPr/>
          <p:nvPr/>
        </p:nvPicPr>
        <p:blipFill>
          <a:blip r:embed="rId1"/>
          <a:stretch/>
        </p:blipFill>
        <p:spPr>
          <a:xfrm>
            <a:off x="108000" y="1197000"/>
            <a:ext cx="88916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Норвежские пейзаж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Норвежские пейзажи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Норвегия - это в первую очередь сногсшибательная природа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27:16Z</dcterms:created>
  <dc:creator>Admin</dc:creator>
  <dc:description/>
  <dc:language>en-US</dc:language>
  <cp:lastModifiedBy>Home</cp:lastModifiedBy>
  <dcterms:modified xsi:type="dcterms:W3CDTF">2019-10-17T09:32:14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92010207f7000400038000</vt:lpwstr>
  </property>
</Properties>
</file>