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23E2-2E1B-47B5-B449-54AC4918F7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228B-DA7D-45F8-B468-ACC93F81B4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BAC-0CFA-4699-959F-44EA1572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290D-2148-4672-8D6C-12166517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F2D-4E7E-4990-911C-D04724B9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02A-0754-4DCB-97D4-B74A2BAC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8B7-2C57-441C-BEC8-2B30AC4F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28B-F705-48AE-978F-27C3FB67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EC1E-3667-40A0-99E5-82F0A9AC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54D-8A6F-41E3-9451-59D4A5FE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A2D-0339-489F-A7DD-C20CDC6F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40E0-2E6B-4287-8E1E-1E7969F0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4A5-0E37-4031-8561-4BDCE853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0B0-53A9-4773-9BD0-A9D97A09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2A26-7700-45A5-A348-D19FEDDD8E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603360" y="1609560"/>
            <a:ext cx="4584600" cy="2219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Users\1\Downloads\foto.jpg"/>
          <p:cNvPicPr/>
          <p:nvPr/>
        </p:nvPicPr>
        <p:blipFill>
          <a:blip r:embed="rId2"/>
          <a:stretch/>
        </p:blipFill>
        <p:spPr>
          <a:xfrm>
            <a:off x="4643280" y="1557360"/>
            <a:ext cx="3780000" cy="48718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304200" y="4149720"/>
            <a:ext cx="51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Franklin Gothic Heavy"/>
              </a:rPr>
              <a:t>«Корзи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Franklin Gothic Heavy"/>
              </a:rPr>
              <a:t>с еловыми шишкам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2340000" y="5493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Franklin Gothic Heavy"/>
              </a:rPr>
              <a:t>Презентацию подготовила: Власова Лариса Викторовна, учитель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Users\1\Downloads\th (1).jpg"/>
          <p:cNvPicPr/>
          <p:nvPr/>
        </p:nvPicPr>
        <p:blipFill>
          <a:blip r:embed="rId3"/>
          <a:stretch/>
        </p:blipFill>
        <p:spPr>
          <a:xfrm>
            <a:off x="179280" y="476280"/>
            <a:ext cx="1871640" cy="1166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Users\1\Downloads\2_Basket.jpg"/>
          <p:cNvPicPr/>
          <p:nvPr/>
        </p:nvPicPr>
        <p:blipFill>
          <a:blip r:embed="rId4"/>
          <a:stretch/>
        </p:blipFill>
        <p:spPr>
          <a:xfrm>
            <a:off x="108000" y="5732640"/>
            <a:ext cx="88740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70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572000" y="1341360"/>
            <a:ext cx="45720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Композитор решил идти по пути прославления национальной норвежской музы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Он положил в основу своего творчества  народные мотивы и стал поистине  национальным композито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1\Downloads\grig1.jpg"/>
          <p:cNvPicPr/>
          <p:nvPr/>
        </p:nvPicPr>
        <p:blipFill>
          <a:blip r:embed="rId1"/>
          <a:stretch/>
        </p:blipFill>
        <p:spPr>
          <a:xfrm>
            <a:off x="179280" y="1844640"/>
            <a:ext cx="4430880" cy="35179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1333080" y="404640"/>
            <a:ext cx="651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66"/>
                </a:solidFill>
                <a:latin typeface="Franklin Gothic Heavy"/>
              </a:rPr>
              <a:t>НАРОДНЫЕ МОТИВ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Heavy"/>
              </a:rPr>
              <a:t>В городе есть памятник великому композитор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1\Downloads\thumbnail430_13102501.jpg"/>
          <p:cNvPicPr/>
          <p:nvPr/>
        </p:nvPicPr>
        <p:blipFill>
          <a:blip r:embed="rId1"/>
          <a:stretch/>
        </p:blipFill>
        <p:spPr>
          <a:xfrm>
            <a:off x="1187280" y="1341360"/>
            <a:ext cx="677556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img-fotki.yandex.ru/get/5412/43221130.b3/0_7ebdb_f6281c93_XXL"/>
          <p:cNvPicPr/>
          <p:nvPr/>
        </p:nvPicPr>
        <p:blipFill>
          <a:blip r:embed="rId1"/>
          <a:stretch/>
        </p:blipFill>
        <p:spPr>
          <a:xfrm>
            <a:off x="179280" y="1268280"/>
            <a:ext cx="881064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Администратор\Мои документы\img011.jpg"/>
          <p:cNvPicPr/>
          <p:nvPr/>
        </p:nvPicPr>
        <p:blipFill>
          <a:blip r:embed="rId1"/>
          <a:stretch/>
        </p:blipFill>
        <p:spPr>
          <a:xfrm>
            <a:off x="1042920" y="689040"/>
            <a:ext cx="7850160" cy="56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Администратор\Мои документы\img006.jpg"/>
          <p:cNvPicPr/>
          <p:nvPr/>
        </p:nvPicPr>
        <p:blipFill>
          <a:blip r:embed="rId1"/>
          <a:stretch/>
        </p:blipFill>
        <p:spPr>
          <a:xfrm>
            <a:off x="1835280" y="189000"/>
            <a:ext cx="6337080" cy="64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Heavy"/>
              </a:rPr>
              <a:t>Поиск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Franklin Gothic Heavy"/>
              </a:rPr>
              <a:t> Найдите в  отрывк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Franklin Gothic Heavy"/>
              </a:rPr>
              <a:t>«музыкальной пьесы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47640" y="3715920"/>
            <a:ext cx="6624720" cy="22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Franklin Gothic Heavy"/>
              </a:rPr>
              <a:t>Сравн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Franklin Gothic Heavy"/>
              </a:rPr>
              <a:t>Эпите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Franklin Gothic Heavy"/>
              </a:rPr>
              <a:t>Олицетвор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b40089.jpg"/>
          <p:cNvPicPr/>
          <p:nvPr/>
        </p:nvPicPr>
        <p:blipFill>
          <a:blip r:embed="rId1"/>
          <a:stretch/>
        </p:blipFill>
        <p:spPr>
          <a:xfrm>
            <a:off x="142920" y="500040"/>
            <a:ext cx="1785960" cy="2432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33000004499.jpg"/>
          <p:cNvPicPr/>
          <p:nvPr/>
        </p:nvPicPr>
        <p:blipFill>
          <a:blip r:embed="rId2"/>
          <a:stretch/>
        </p:blipFill>
        <p:spPr>
          <a:xfrm>
            <a:off x="2428920" y="1928880"/>
            <a:ext cx="1170000" cy="18651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StalnoeKolechko1.jpg"/>
          <p:cNvPicPr/>
          <p:nvPr/>
        </p:nvPicPr>
        <p:blipFill>
          <a:blip r:embed="rId3"/>
          <a:stretch/>
        </p:blipFill>
        <p:spPr>
          <a:xfrm>
            <a:off x="6215040" y="3143160"/>
            <a:ext cx="2514600" cy="32925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c7d12faf1bd0faa5a846863cfac47d3b.jpg"/>
          <p:cNvPicPr/>
          <p:nvPr/>
        </p:nvPicPr>
        <p:blipFill>
          <a:blip r:embed="rId4"/>
          <a:stretch/>
        </p:blipFill>
        <p:spPr>
          <a:xfrm>
            <a:off x="214200" y="3643200"/>
            <a:ext cx="1857600" cy="2752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be.jpg"/>
          <p:cNvPicPr/>
          <p:nvPr/>
        </p:nvPicPr>
        <p:blipFill>
          <a:blip r:embed="rId5"/>
          <a:stretch/>
        </p:blipFill>
        <p:spPr>
          <a:xfrm>
            <a:off x="3643200" y="3929040"/>
            <a:ext cx="120024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13.jpg"/>
          <p:cNvPicPr/>
          <p:nvPr/>
        </p:nvPicPr>
        <p:blipFill>
          <a:blip r:embed="rId6"/>
          <a:stretch/>
        </p:blipFill>
        <p:spPr>
          <a:xfrm>
            <a:off x="3786120" y="428760"/>
            <a:ext cx="22258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Heavy"/>
              </a:rPr>
              <a:t>Определ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ближение двух явлений с целью пояснения  одного с другим при помощи признаков 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РАВН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ясняет, характеризует какое-либо понятие 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ЭПИТЕТ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носит признаки живого существа на явления природы, предметы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ЛИЦЕТВОР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Franklin Gothic Heavy"/>
              </a:rPr>
              <a:t>СРАВНЕНИЕ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вучала стру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будто плакала Золуш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 как солнц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Heavy"/>
              </a:rPr>
              <a:t>ЭПИТЕ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епкие паль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енькая стру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яющие гл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жный ве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рустальные туфель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Heavy"/>
              </a:rPr>
              <a:t>ОЛИЦЕТВОР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яль мог пе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виши убегал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осковал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меялис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грем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оходы дрем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ег цеплялс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станавливал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ицы волновали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фельки вздрагив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Heavy"/>
              </a:rPr>
              <a:t>Белые ночи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севере в начале лета можно наблюдать такую картину - ночью почти светло, стоят легкие сумерки, так как солнце ненадолго прячется за горизонт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Heavy"/>
              </a:rPr>
              <a:t>Симфоническая музы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узыкальные произведения, предназначенные для исполнения симфоническим оркестром. Включает крупные  произведения и небольшие пьесы. Главные жанры: симфония, сюита, увертю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bso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Heavy"/>
              </a:rPr>
              <a:t>Основная мысль произвед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4608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… открыл то прекрасное 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м должен жить челове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paustovskiy_10.jpg"/>
          <p:cNvPicPr/>
          <p:nvPr/>
        </p:nvPicPr>
        <p:blipFill>
          <a:blip r:embed="rId1"/>
          <a:stretch/>
        </p:blipFill>
        <p:spPr>
          <a:xfrm>
            <a:off x="4925880" y="1335240"/>
            <a:ext cx="346248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 к уроку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35280" y="3213000"/>
            <a:ext cx="590544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Плато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юльская гр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11640" y="1267920"/>
            <a:ext cx="47498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Heavy"/>
              </a:rPr>
              <a:t>Константин Георгиевич            Паустов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Franklin Gothic Heavy"/>
              </a:rPr>
              <a:t>Очер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Franklin Gothic Heavy"/>
              </a:rPr>
              <a:t>«КОРЗИНА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Franklin Gothic Heavy"/>
              </a:rPr>
              <a:t> </a:t>
            </a:r>
            <a:r>
              <a:rPr b="0" lang="ru-RU" sz="4800" spc="-1" strike="noStrike">
                <a:solidFill>
                  <a:srgbClr val="7030a0"/>
                </a:solidFill>
                <a:latin typeface="Franklin Gothic Heavy"/>
              </a:rPr>
              <a:t>С ЕЛОВЫМИ ШИШКАМИ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Администратор\Рабочий стол\img009.jpg"/>
          <p:cNvPicPr/>
          <p:nvPr/>
        </p:nvPicPr>
        <p:blipFill>
          <a:blip r:embed="rId1"/>
          <a:stretch/>
        </p:blipFill>
        <p:spPr>
          <a:xfrm>
            <a:off x="179280" y="1125360"/>
            <a:ext cx="2874960" cy="381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Users\1\Downloads\7.gif"/>
          <p:cNvPicPr/>
          <p:nvPr/>
        </p:nvPicPr>
        <p:blipFill>
          <a:blip r:embed="rId2"/>
          <a:stretch/>
        </p:blipFill>
        <p:spPr>
          <a:xfrm>
            <a:off x="3059280" y="3573360"/>
            <a:ext cx="1652400" cy="27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Картинки по запросу урок чтения по рассказу&quot;Июльская гроза&quot; Платонова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Картинки по запросу урок чтения по рассказу&quot;Июльская гроза&quot; Платонов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ловицы о хле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леб – кормилец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леб ногами топтать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роду голода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videoplayback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26560" y="272520"/>
            <a:ext cx="78598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словиц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5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лай добро и жди доб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изнь дана на добрые де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1042920" y="313704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Администратор\Рабочий стол\img008.jpg"/>
          <p:cNvPicPr/>
          <p:nvPr/>
        </p:nvPicPr>
        <p:blipFill>
          <a:blip r:embed="rId1"/>
          <a:stretch/>
        </p:blipFill>
        <p:spPr>
          <a:xfrm>
            <a:off x="2268360" y="378000"/>
            <a:ext cx="4448520" cy="619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Heavy"/>
              </a:rPr>
              <a:t>Родился в городе Бергене в 1843 г</a:t>
            </a:r>
            <a:r>
              <a:rPr b="0" lang="ru-RU" sz="4000" spc="-1" strike="noStrike">
                <a:solidFill>
                  <a:srgbClr val="000000"/>
                </a:solidFill>
                <a:latin typeface="Franklin Gothic Heavy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Норвегия"/>
          <p:cNvPicPr/>
          <p:nvPr/>
        </p:nvPicPr>
        <p:blipFill>
          <a:blip r:embed="rId1"/>
          <a:stretch/>
        </p:blipFill>
        <p:spPr>
          <a:xfrm>
            <a:off x="971640" y="1628640"/>
            <a:ext cx="7200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Heavy"/>
              </a:rPr>
              <a:t>Норвег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Норвежские пейзажи"/>
          <p:cNvPicPr/>
          <p:nvPr/>
        </p:nvPicPr>
        <p:blipFill>
          <a:blip r:embed="rId1"/>
          <a:stretch/>
        </p:blipFill>
        <p:spPr>
          <a:xfrm>
            <a:off x="108000" y="1197000"/>
            <a:ext cx="889164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Норвежские пейзаж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Норвежские пейзажи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Норвегия - это в первую очередь сногсшибательная природа / Фото из Ноpвег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9:27:16Z</dcterms:created>
  <dc:creator>Admin</dc:creator>
  <dc:description/>
  <dc:language>en-US</dc:language>
  <cp:lastModifiedBy>Home</cp:lastModifiedBy>
  <dcterms:modified xsi:type="dcterms:W3CDTF">2019-10-17T09:32:14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240000000000010292010207f7000400038000</vt:lpwstr>
  </property>
</Properties>
</file>